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Hij%20Was%20Maar%20Een%20Clown_Ben%20Kramer.wav" ContentType="audio/x-wav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778-3CDB-4B33-BC0D-6FF36890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E6C-3F23-44AE-BD71-1FB5934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748-ECD9-40D5-A9D3-E0AB9E47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952-76B9-481A-8C79-14ECB21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AB2-404A-4CC8-9F9B-6B84B16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D8A-B034-44F4-9315-A837694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2EA-1165-4D0C-BC7C-BD56777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04B-1310-4696-BC42-C179A08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548-420D-4628-90B6-CFEF56E4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5CB-E6B5-49C3-BFFE-C62629D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891-C37A-48B6-BF2E-BA6B397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2D0-4B10-4D2A-8B53-8FB9CCB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9C53-FFBB-45B8-9F19-7CDF7DFD9C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j%20Was%20Maar%20Een%20Clown_Ben%20Krame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23200" y="260280"/>
            <a:ext cx="6688080" cy="39888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ff33"/>
                </a:solidFill>
                <a:latin typeface="Times New Roman"/>
              </a:rPr>
              <a:t>Enciende los altavoces y NO uses el ratón - AUTO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238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uando el carro se haya roto muchos os dirán por donde no se debía pas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040" y="33912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i eres paciente en un momento de ira, escaparas a cien días d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trist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9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De lo sublime a lo ridículo no hay más que un p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Arial"/>
              </a:rPr>
              <a:t>Napoleó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360" y="47592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Las preguntas no son nunca indiscretas. Las respuestas, a veces sí.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ffff"/>
                </a:solidFill>
                <a:latin typeface="Arial"/>
              </a:rPr>
              <a:t>Oscar W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838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ff33"/>
                </a:solidFill>
                <a:latin typeface="Arial"/>
              </a:rPr>
              <a:t>Es menos malo agitarse en la duda que descansar en el error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lessandro Manz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0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s ideas no son responsables de lo que los hombres hacen de ella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ner Karl Heisenberg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4680" y="5589360"/>
            <a:ext cx="484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uye de los elogios pero trata de merecer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François Fén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" y="2599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Si la juventud es un defecto, es un defecto del que nos curamos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James Russell Lo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00" y="259920"/>
            <a:ext cx="821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El mundo entero se aparta cuando ve pasar a un hombre que sabe adónde v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Antoine de Saint-Exu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8640"/>
            <a:ext cx="42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anamos justicia más rápidamente si hacemos justicia a la parte contr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Mahatma G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9720" y="475560"/>
            <a:ext cx="81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ien no comprende una mirada tampoco comprenderá una larga expl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33360"/>
            <a:ext cx="317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En la vida no hay premios ni castigos, sino consecu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Robert Green Ingers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22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Como no tenemos nada más precioso que el tiempo, no hay mayor generosidad que perderlo sin tenerlo en cuenta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cel Jouhan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0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Deberíamos usar el pasado como trampolín y no como sof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Harold MacMillan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219560"/>
            <a:ext cx="25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uen día amig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160" y="123120"/>
            <a:ext cx="41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i te caes siete veces, levántate och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39840"/>
            <a:ext cx="21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a paciencia es un árbol de raíz amarga pero de frutos muy dul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200" y="41220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¿Qué sentido tiene correr cuando estamos en la carretera equivo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97280"/>
            <a:ext cx="22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uando te inunde una enorme alegría, no prometas nada a nadie. Cuando te domine un gran enojo, no contestes ninguna car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830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uando hables, procura que tus palabras sean mejores que el silen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917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sabio puede sentarse en un hormiguero, pero sólo el necio se queda sentado en él.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320" y="480492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ñorar el pasado es correr tras el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53:06Z</dcterms:created>
  <dc:creator>NENA SALOMÓN</dc:creator>
  <dc:description/>
  <dc:language>en-US</dc:language>
  <cp:lastModifiedBy>l</cp:lastModifiedBy>
  <dcterms:modified xsi:type="dcterms:W3CDTF">2008-11-17T22:24:39Z</dcterms:modified>
  <cp:revision>5</cp:revision>
  <dc:subject/>
  <dc:title>CLOWN ¡¡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 NENA">
    <vt:bool>1</vt:bool>
  </property>
  <property fmtid="{D5CDD505-2E9C-101B-9397-08002B2CF9AE}" pid="3" name="Elaborado por NENA">
    <vt:bool>1</vt:bool>
  </property>
  <property fmtid="{D5CDD505-2E9C-101B-9397-08002B2CF9AE}" pid="4" name="Origen TUCUMÁN-ARGENTINA">
    <vt:bool>1</vt:bool>
  </property>
  <property fmtid="{D5CDD505-2E9C-101B-9397-08002B2CF9AE}" pid="5" name="Propietario ANA MARÍA SALOMÓN">
    <vt:bool>1</vt:bool>
  </property>
  <property fmtid="{D5CDD505-2E9C-101B-9397-08002B2CF9AE}" pid="6" name="Registrado por ANA MARÍA SALOMÓN">
    <vt:bool>1</vt:bool>
  </property>
</Properties>
</file>