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Hij%20Was%20Maar%20Een%20Clown_Ben%20Kramer.wav" ContentType="audio/x-wav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B1F8-93E7-4E76-9EC7-CFE3E431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C1A-C2F7-4691-B302-E15C8547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1B44-CB67-454B-8FA8-E27AF073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B2C-7ECB-4D71-9E3A-816239AE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FC2-C6FA-4C12-8747-300A1E6D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712-148C-4E77-9234-042FE7DA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E41-8F66-4A3E-B791-18C64B95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BBEC-4CBE-408E-AD80-0E862AF0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BC3-9BE4-4115-A9E3-A07331AF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9B0-5BC1-4292-A6AC-A0AF7B32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5232-F741-49A5-986E-72817992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88A0-5B00-4F5E-B8FA-986C6309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9728-7941-42D7-B59B-D7F06516CB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ij%20Was%20Maar%20Een%20Clown_Ben%20Kramer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23200" y="260280"/>
            <a:ext cx="6688080" cy="398880"/>
          </a:xfrm>
          <a:prstGeom prst="rect">
            <a:avLst/>
          </a:prstGeom>
          <a:noFill/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ff33"/>
                </a:solidFill>
                <a:latin typeface="Times New Roman"/>
              </a:rPr>
              <a:t>Enciende los altavoces y NO uses el ratón - AUTO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12384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uando el carro se haya roto muchos os dirán por donde no se debía pas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Prover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7040" y="339120"/>
            <a:ext cx="762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i eres paciente en un momento de ira, escaparas a cien días d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trist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Proverbi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5992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Arial"/>
              </a:rPr>
              <a:t>De lo sublime a lo ridículo no hay más que un pa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Arial"/>
              </a:rPr>
              <a:t>Napoleón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6360" y="475920"/>
            <a:ext cx="768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Las preguntas no son nunca indiscretas. Las respuestas, a veces sí.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ffff"/>
                </a:solidFill>
                <a:latin typeface="Arial"/>
              </a:rPr>
              <a:t>Oscar Wi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48384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99ff33"/>
                </a:solidFill>
                <a:latin typeface="Arial"/>
              </a:rPr>
              <a:t>Es menos malo agitarse en la duda que descansar en el error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Alessandro Manz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404640"/>
            <a:ext cx="32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Las ideas no son responsables de lo que los hombres hacen de ellas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ner Karl Heisenberg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4680" y="5589360"/>
            <a:ext cx="484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Huye de los elogios pero trata de merecerl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Arial"/>
              </a:rPr>
              <a:t>François Féne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120" y="259920"/>
            <a:ext cx="867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Arial"/>
              </a:rPr>
              <a:t>Si la juventud es un defecto, es un defecto del que nos curamos demasiado pro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3399"/>
                </a:solidFill>
                <a:latin typeface="Arial"/>
              </a:rPr>
              <a:t>James Russell Lo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200" y="259920"/>
            <a:ext cx="821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El mundo entero se aparta cuando ve pasar a un hombre que sabe adónde v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3399"/>
                </a:solidFill>
                <a:latin typeface="Arial"/>
              </a:rPr>
              <a:t>Antoine de Saint-Exup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88640"/>
            <a:ext cx="420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anamos justicia más rápidamente si hacemos justicia a la parte contra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00"/>
                </a:solidFill>
                <a:latin typeface="Arial"/>
              </a:rPr>
              <a:t>Mahatma Gand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9720" y="475560"/>
            <a:ext cx="81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ien no comprende una mirada tampoco comprenderá una larga expl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Proverbio</a:t>
            </a:r>
            <a:r>
              <a:rPr b="0" lang="nl-NL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333360"/>
            <a:ext cx="317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En la vida no hay premios ni castigos, sino consecuenc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Robert Green Ingers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522936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3399"/>
                </a:solidFill>
                <a:latin typeface="Arial"/>
              </a:rPr>
              <a:t>Como no tenemos nada más precioso que el tiempo, no hay mayor generosidad que perderlo sin tenerlo en cuenta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rcel Jouhand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404640"/>
            <a:ext cx="37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Deberíamos usar el pasado como trampolín y no como sof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Harold MacMillan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4219560"/>
            <a:ext cx="25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Buen día amig@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160" y="123120"/>
            <a:ext cx="41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i te caes siete veces, levántate och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rover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59640" y="339840"/>
            <a:ext cx="217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a paciencia es un árbol de raíz amarga pero de frutos muy dul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Prover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7200" y="412200"/>
            <a:ext cx="73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¿Qué sentido tiene correr cuando estamos en la carretera equivoc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Proverbio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97280"/>
            <a:ext cx="223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Cuando te inunde una enorme alegría, no prometas nada a nadie. Cuando te domine un gran enojo, no contestes ninguna car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Prover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83016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Cuando hables, procura que tus palabras sean mejores que el silenc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Prover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4917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sabio puede sentarse en un hormiguero, pero sólo el necio se queda sentado en él.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Prover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2920" y="162000"/>
            <a:ext cx="8928000" cy="659592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2320" y="4804920"/>
            <a:ext cx="43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ñorar el pasado es correr tras el v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Proverbio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6:53:06Z</dcterms:created>
  <dc:creator>NENA SALOMÓN</dc:creator>
  <dc:description/>
  <dc:language>en-US</dc:language>
  <cp:lastModifiedBy>l</cp:lastModifiedBy>
  <dcterms:modified xsi:type="dcterms:W3CDTF">2008-11-17T22:24:39Z</dcterms:modified>
  <cp:revision>5</cp:revision>
  <dc:subject/>
  <dc:title>CLOWN ¡¡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ditor NENA">
    <vt:bool>1</vt:bool>
  </property>
  <property fmtid="{D5CDD505-2E9C-101B-9397-08002B2CF9AE}" pid="3" name="Elaborado por NENA">
    <vt:bool>1</vt:bool>
  </property>
  <property fmtid="{D5CDD505-2E9C-101B-9397-08002B2CF9AE}" pid="4" name="Origen TUCUMÁN-ARGENTINA">
    <vt:bool>1</vt:bool>
  </property>
  <property fmtid="{D5CDD505-2E9C-101B-9397-08002B2CF9AE}" pid="5" name="Propietario ANA MARÍA SALOMÓN">
    <vt:bool>1</vt:bool>
  </property>
  <property fmtid="{D5CDD505-2E9C-101B-9397-08002B2CF9AE}" pid="6" name="Registrado por ANA MARÍA SALOMÓN">
    <vt:bool>1</vt:bool>
  </property>
</Properties>
</file>