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Krishna%20%20-%20Instruimen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AB58-8294-47A6-A6C8-6590CB2C644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70B5-F470-406C-ABB1-87438183DFA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4BB7-4A05-4FF9-B00F-206D5152299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70D4-F670-4973-861E-7601F555BA0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7242-FA5D-442A-B4B9-3A20F335A40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8516-3F51-41C3-8831-4DF2A2A23F2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1CBB-5599-4608-81E8-90AEE2CB908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1865-A385-4B0D-8AB8-01CB33A260C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6B0C-0122-4F5A-9A7B-EB983EDE6C4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343A-71C0-4E23-B446-9BA5072645D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017B-FC82-4B3F-8EDA-BBC9B4454F8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797C-DD02-4D94-8B4C-185EB9B3F9D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AEF0-24A9-4445-BA58-430967B6CFA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5F17-64E0-4E51-808F-A7626D9B432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28BE-468E-4633-BF95-454FEC1E296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6FFB-1A67-4A36-B1B6-13FB0472B1E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1019-3852-40A3-B2C4-FA5CA66962E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C659-2F9C-46EA-8CA3-D06747C395B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6E2-AF5D-45AA-944E-0DD70700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467-3184-4899-A4C8-A5D3260D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3D47-E171-4851-9645-8E0959C1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6CF7-8B53-4D0D-8BDF-0AD30812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82C4-FF19-41EC-B612-0F347A00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DD79-F5A8-4FE0-A588-0D07EBA7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DE18-505F-4E09-A369-B952CB53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7C6-8D6E-4DEC-B447-741E52DF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279D-EC89-4527-924B-DC9A868E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F7E6-F137-4A8B-8B1C-FCA07767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9A80-F92D-4F20-B5C8-FD046444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436-837E-4F0B-AECE-9F594B0C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94E9-CFA0-45FC-A02E-BC743085A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Krishna%20%20-%20Instruimen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letras"/>
          <p:cNvPicPr/>
          <p:nvPr/>
        </p:nvPicPr>
        <p:blipFill>
          <a:blip r:embed="rId1"/>
          <a:stretch/>
        </p:blipFill>
        <p:spPr>
          <a:xfrm>
            <a:off x="2843280" y="5084640"/>
            <a:ext cx="3560760" cy="1471680"/>
          </a:xfrm>
          <a:prstGeom prst="rect">
            <a:avLst/>
          </a:prstGeom>
          <a:ln w="0">
            <a:noFill/>
          </a:ln>
        </p:spPr>
      </p:pic>
      <p:pic>
        <p:nvPicPr>
          <p:cNvPr id="49" name="5 Imagen" descr="Imagen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Gráfico1"/>
          <p:cNvPicPr/>
          <p:nvPr/>
        </p:nvPicPr>
        <p:blipFill>
          <a:blip r:embed="rId1"/>
          <a:stretch/>
        </p:blipFill>
        <p:spPr>
          <a:xfrm>
            <a:off x="826920" y="0"/>
            <a:ext cx="75232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533520" y="860400"/>
            <a:ext cx="80769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 cambio es la ley del univer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 que consideras como muer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 en realidad la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 cualquier momento pu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r un millonari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y en el siguiente pu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er en pobre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5715000" y="380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Gráfico1"/>
          <p:cNvPicPr/>
          <p:nvPr/>
        </p:nvPicPr>
        <p:blipFill>
          <a:blip r:embed="rId1"/>
          <a:stretch/>
        </p:blipFill>
        <p:spPr>
          <a:xfrm>
            <a:off x="2021040" y="-3240"/>
            <a:ext cx="51019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28600" y="380880"/>
            <a:ext cx="86868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uyo y mío, grande y pequeñ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orra esas ideas de tu 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tonces todo te pertenecerá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rás dueño de t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te cuerpo no te pertenec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mpoco eres de ese cuer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 cuerpo está hecho de fuego, agua, aire, tierra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éter, y retornará en estos ele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ro el alma es permanente – así que ¿Quien eres tú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5334120" y="533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Gráfico1"/>
          <p:cNvPicPr/>
          <p:nvPr/>
        </p:nvPicPr>
        <p:blipFill>
          <a:blip r:embed="rId1"/>
          <a:stretch/>
        </p:blipFill>
        <p:spPr>
          <a:xfrm>
            <a:off x="2048040" y="0"/>
            <a:ext cx="508608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80880" y="609480"/>
            <a:ext cx="83822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dica tu ser a 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Él es el único en el que debes conf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uienes conocen esta verdad son para siemp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ibres de temor, preocupación y do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agas lo que hag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azlo como una ofrenda a 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to te llevar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experimentar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 alegría, la libertad y la vida por siemp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019920" y="8380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Gráfico1"/>
          <p:cNvPicPr/>
          <p:nvPr/>
        </p:nvPicPr>
        <p:blipFill>
          <a:blip r:embed="rId1"/>
          <a:stretch/>
        </p:blipFill>
        <p:spPr>
          <a:xfrm>
            <a:off x="1708200" y="0"/>
            <a:ext cx="572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285840"/>
            <a:ext cx="91440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GRACIAS POR LA LECTURA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INTENT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HONESTAMENT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PLICARLO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N TU VIDA DIAR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5708520"/>
            <a:ext cx="8215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or favor comparte esta presentación con tus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ráfico1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80880" y="447840"/>
            <a:ext cx="83822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or qué te preocupas sin motiv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¿A quién temes sin raz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¿Quién te podría mata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 alma no nace, ni mu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ualquier cosa que pa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asará por tu bie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 que esté sucediend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tá sucediendo para bie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 que vaya a pas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mbién pasará para bi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943600" y="380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Gráfico1"/>
          <p:cNvPicPr/>
          <p:nvPr/>
        </p:nvPicPr>
        <p:blipFill>
          <a:blip r:embed="rId1"/>
          <a:stretch/>
        </p:blipFill>
        <p:spPr>
          <a:xfrm>
            <a:off x="539640" y="-6480"/>
            <a:ext cx="806472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80880" y="1447920"/>
            <a:ext cx="8382240" cy="39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debes lamentarte por el pas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debes preocuparte por el fut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 presente está sucediendo..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¿Qué pérdida te hace llo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¿Qué has traído contig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¿Qué crees que has perdid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334120" y="1600200"/>
            <a:ext cx="350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Gráfico1"/>
          <p:cNvPicPr/>
          <p:nvPr/>
        </p:nvPicPr>
        <p:blipFill>
          <a:blip r:embed="rId1"/>
          <a:stretch/>
        </p:blipFill>
        <p:spPr>
          <a:xfrm>
            <a:off x="539640" y="1440"/>
            <a:ext cx="806472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357120"/>
            <a:ext cx="853416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¿Qué has producid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¿Qué piensas que se ha destru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has dado nad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has traído nada conti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ualquier cosa que poseas, la has recibido aqu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ualquier cosa que hayas tomado, la tomaste de 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 que sea que hayas dado, se lo has dado a É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legaste con las manos vací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y regresarás con las manos vac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Gráfico1"/>
          <p:cNvPicPr/>
          <p:nvPr/>
        </p:nvPicPr>
        <p:blipFill>
          <a:blip r:embed="rId1"/>
          <a:stretch/>
        </p:blipFill>
        <p:spPr>
          <a:xfrm>
            <a:off x="755640" y="-7920"/>
            <a:ext cx="756144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80880" y="1154160"/>
            <a:ext cx="8458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ualquier cosa que poseas hoy,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rtenecía a otra persona el día de ayer,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rtenecerá a otra el día de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rróneamente has disfrutado de la id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 que eso te perten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 esta falsa fe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 causa de tus pen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4:26:37Z</dcterms:created>
  <dc:creator>Recopilado por Harshad Maniar</dc:creator>
  <dc:description/>
  <dc:language>en-US</dc:language>
  <cp:lastModifiedBy>ERNESTO</cp:lastModifiedBy>
  <dcterms:modified xsi:type="dcterms:W3CDTF">2010-10-01T23:53:50Z</dcterms:modified>
  <cp:revision>90</cp:revision>
  <dc:subject>El Gita simplificado</dc:subject>
  <dc:title>PowerPoint Presentation</dc:title>
</cp:coreProperties>
</file>