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Krishna%20%20-%20Instruime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963-0000-452C-83DB-0576B90A0B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BFF-63C5-4728-81C0-B5031B9671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F20B-8987-4CD6-9809-AF467EDB7A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E12F-9B95-4E26-AA4E-DAFCEA9ADC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474D-22ED-430D-B138-7D14918031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462-641A-414F-91F5-435A61748E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E700-EF95-43E3-AA56-A994190DE0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6B44-C6BC-4CCD-A959-78EE0E97DF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37B-8A5F-4F81-A078-5D3EF01DAC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0F57-0A5B-4879-9F45-1B52FCEA00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32A0-36B0-4059-8E71-D2512B9271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295C-5966-4E5B-865C-8B2B85DBE5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F35-4509-45C6-8BB4-288B2A0A33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5003-9C00-41EA-862E-59EA99F47B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D24-388E-453A-BE21-24CBEEE875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EAF9-4C11-4D75-A759-B85B32E772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9658-BF47-4807-B70E-E90ECA329C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6BC7-F104-4229-BF95-1D13343C9F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737-66C4-4034-96C0-53F609F8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914-22AE-4CEC-9521-8E7BC2A9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0C6-6F28-4C11-88B7-FA1C0CFD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74E-7AD8-4455-96D8-35988D6D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311-FF49-44B7-B1D8-B5D9D070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DBF-130F-423C-B821-2F402A37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974-8F91-4CBD-8AF9-F815E950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824-A99D-4DF6-B633-E9BA09F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066-471F-46F5-8462-E56FFA2C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5D0-39E6-4422-93E3-726640D0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9F8-AAEA-4ADC-AE9A-6C374AF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0F7-1923-4EFC-B38A-99EECC02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5AB-5266-42B2-A794-D31E2818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Krishna%20%20-%20Instruime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letras"/>
          <p:cNvPicPr/>
          <p:nvPr/>
        </p:nvPicPr>
        <p:blipFill>
          <a:blip r:embed="rId1"/>
          <a:stretch/>
        </p:blipFill>
        <p:spPr>
          <a:xfrm>
            <a:off x="2843280" y="5084640"/>
            <a:ext cx="3560760" cy="1471680"/>
          </a:xfrm>
          <a:prstGeom prst="rect">
            <a:avLst/>
          </a:prstGeom>
          <a:ln w="0">
            <a:noFill/>
          </a:ln>
        </p:spPr>
      </p:pic>
      <p:pic>
        <p:nvPicPr>
          <p:cNvPr id="49" name="5 Imagen" descr="Image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Gráfico1"/>
          <p:cNvPicPr/>
          <p:nvPr/>
        </p:nvPicPr>
        <p:blipFill>
          <a:blip r:embed="rId1"/>
          <a:stretch/>
        </p:blipFill>
        <p:spPr>
          <a:xfrm>
            <a:off x="826920" y="0"/>
            <a:ext cx="75232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860400"/>
            <a:ext cx="80769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ambio es la ley del unive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consideras como muer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n realidad l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 cualquier momento pu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r un millonari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en el siguiente pu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er en pobr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71500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Gráfico1"/>
          <p:cNvPicPr/>
          <p:nvPr/>
        </p:nvPicPr>
        <p:blipFill>
          <a:blip r:embed="rId1"/>
          <a:stretch/>
        </p:blipFill>
        <p:spPr>
          <a:xfrm>
            <a:off x="2021040" y="-3240"/>
            <a:ext cx="510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uyo y mío, grande y pequeñ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orra esas ideas de tu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tonces todo te pertenecerá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rás dueño de 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e cuerpo no te pertene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poco eres de ese cue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uerpo está hecho de fuego, agua, aire, tierr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éter, y retornará en estos ele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o el alma es permanente – así que ¿Quien eres tú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4120" y="533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Gráfico1"/>
          <p:cNvPicPr/>
          <p:nvPr/>
        </p:nvPicPr>
        <p:blipFill>
          <a:blip r:embed="rId1"/>
          <a:stretch/>
        </p:blipFill>
        <p:spPr>
          <a:xfrm>
            <a:off x="2048040" y="0"/>
            <a:ext cx="5086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0880" y="609480"/>
            <a:ext cx="83822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dica tu ser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Él es el único en el que debes conf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ienes conocen esta verdad son para siemp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bres de temor, preocupación y d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gas lo que hag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zlo como una ofrenda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o te llev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experimentar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alegría, la libertad y la vida por siemp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19920" y="838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Gráfico1"/>
          <p:cNvPicPr/>
          <p:nvPr/>
        </p:nvPicPr>
        <p:blipFill>
          <a:blip r:embed="rId1"/>
          <a:stretch/>
        </p:blipFill>
        <p:spPr>
          <a:xfrm>
            <a:off x="1708200" y="0"/>
            <a:ext cx="57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28584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ACIAS POR LA LECTURA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N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HONESTAMEN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LICARLO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N TU VIDA DIA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5708520"/>
            <a:ext cx="8215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or favor comparte esta presentación con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ráfico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447840"/>
            <a:ext cx="83822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r qué te preocupas sin motiv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A quién temes sin raz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ién te podría ma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alma no nace, ni mu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a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sará por tu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esté sucedie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á sucediendo para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vaya a pa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bién pasará para bi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94360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Gráfico1"/>
          <p:cNvPicPr/>
          <p:nvPr/>
        </p:nvPicPr>
        <p:blipFill>
          <a:blip r:embed="rId1"/>
          <a:stretch/>
        </p:blipFill>
        <p:spPr>
          <a:xfrm>
            <a:off x="539640" y="-6480"/>
            <a:ext cx="8064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80880" y="1447920"/>
            <a:ext cx="838224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lamentarte por el pas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preocuparte por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presente está sucediendo..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pérdida te hace llo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has traído conti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crees que has perdi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4120" y="160020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Gráfico1"/>
          <p:cNvPicPr/>
          <p:nvPr/>
        </p:nvPicPr>
        <p:blipFill>
          <a:blip r:embed="rId1"/>
          <a:stretch/>
        </p:blipFill>
        <p:spPr>
          <a:xfrm>
            <a:off x="539640" y="1440"/>
            <a:ext cx="80647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35712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has produci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piensas que se ha destr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has dado na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has traído nada cont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s, la has recibido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hayas tomado, la tomaste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sea que hayas dado, se lo has dado a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legaste con las manos vací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regresarás con las manos vac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Gráfico1"/>
          <p:cNvPicPr/>
          <p:nvPr/>
        </p:nvPicPr>
        <p:blipFill>
          <a:blip r:embed="rId1"/>
          <a:stretch/>
        </p:blipFill>
        <p:spPr>
          <a:xfrm>
            <a:off x="755640" y="-7920"/>
            <a:ext cx="7561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115416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s hoy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ía a otra persona el día de ayer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erá a otra el día de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róneamente has disfrutado de la id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 que eso te perte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sta falsa fe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causa de tus p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6:37Z</dcterms:created>
  <dc:creator>Recopilado por Harshad Maniar</dc:creator>
  <dc:description/>
  <dc:language>en-US</dc:language>
  <cp:lastModifiedBy>ERNESTO</cp:lastModifiedBy>
  <dcterms:modified xsi:type="dcterms:W3CDTF">2010-10-01T23:53:50Z</dcterms:modified>
  <cp:revision>90</cp:revision>
  <dc:subject>El Gita simplificado</dc:subject>
  <dc:title>PowerPoint Presentation</dc:title>
</cp:coreProperties>
</file>