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Mozart%20-%20Piano%20Concerto%20in%20A,%20(II.%20Adag)%20195.wav" ContentType="audio/x-wav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BAC0-022A-46E7-8BA8-44F89759F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2BD3-501F-42E0-90AD-7DF56362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8394-D677-4DF0-8972-BE7DF70DF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E0EB-9A35-49C3-8180-95DB0C184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9FC0-A167-4DD7-8346-03E9CA6C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6A18-D96F-492E-853C-41F3355E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15F6-063E-4290-914A-F7BED452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F555-A812-4A4C-BAA3-00009F19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786D-F059-435C-997C-7C31A7BC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AA71-6DDE-4F81-BB99-F5B3712C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F3BC-DF74-4E68-A135-1A77C123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C5D1-DB71-400E-AD59-67B804B8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D235-B3BD-4AF9-B11B-54C32E71BCA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Mozart%20-%20Piano%20Concerto%20in%20A,%20(II.%20Adag)%20195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66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049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en pudiendo servir domina, es del “mundo”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en pudiendo dominar sirve, es de Cri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Apoyo%20BEBE%20ayudado-%20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6400800" cy="4140360"/>
          </a:xfrm>
          <a:prstGeom prst="rect">
            <a:avLst/>
          </a:prstGeom>
          <a:ln w="9360">
            <a:solidFill>
              <a:srgbClr val="336600"/>
            </a:solidFill>
            <a:prstDash val="dash"/>
            <a:miter/>
          </a:ln>
        </p:spPr>
      </p:pic>
      <p:sp>
        <p:nvSpPr>
          <p:cNvPr id="43" name=""/>
          <p:cNvSpPr/>
          <p:nvPr/>
        </p:nvSpPr>
        <p:spPr>
          <a:xfrm>
            <a:off x="1066680" y="624852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Marcos 9, 30-37 – 25 Tiempo Ordinario –B- 20 septiembre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Mozart%20-%20Piano%20Concerto%20in%20A,%20(II.%20Adag)%20195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GALILA%20Lago%20camp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19320" y="152280"/>
            <a:ext cx="7924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336600"/>
                </a:solidFill>
                <a:latin typeface="Georgia"/>
              </a:rPr>
              <a:t>30</a:t>
            </a:r>
            <a:r>
              <a:rPr b="0" lang="en-US" sz="2000" spc="-1" strike="noStrike">
                <a:solidFill>
                  <a:srgbClr val="336600"/>
                </a:solidFill>
                <a:latin typeface="Georgia"/>
              </a:rPr>
              <a:t> Se fueron de allí y atravesaron Galilea. Jesús no quería que nadie lo supiera, </a:t>
            </a:r>
            <a:r>
              <a:rPr b="0" lang="en-US" sz="2000" spc="-1" strike="noStrike" baseline="30000">
                <a:solidFill>
                  <a:srgbClr val="336600"/>
                </a:solidFill>
                <a:latin typeface="Georgia"/>
              </a:rPr>
              <a:t>31</a:t>
            </a:r>
            <a:r>
              <a:rPr b="0" lang="en-US" sz="2000" spc="-1" strike="noStrike">
                <a:solidFill>
                  <a:srgbClr val="336600"/>
                </a:solidFill>
                <a:latin typeface="Georgia"/>
              </a:rPr>
              <a:t> porque estaba dedicado a instruir a sus discípulos. 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Georgia"/>
              </a:rPr>
              <a:t>Les decía: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Georgia"/>
              </a:rPr>
              <a:t>–</a:t>
            </a:r>
            <a:r>
              <a:rPr b="0" i="1" lang="en-US" sz="2000" spc="-1" strike="noStrike">
                <a:solidFill>
                  <a:srgbClr val="336600"/>
                </a:solidFill>
                <a:latin typeface="Georgia"/>
              </a:rPr>
              <a:t>El Hijo del hombre va a ser entregado en manos de los hombres, </a:t>
            </a:r>
            <a:br>
              <a:rPr sz="2000"/>
            </a:br>
            <a:r>
              <a:rPr b="0" i="1" lang="en-US" sz="2000" spc="-1" strike="noStrike">
                <a:solidFill>
                  <a:srgbClr val="336600"/>
                </a:solidFill>
                <a:latin typeface="Georgia"/>
              </a:rPr>
              <a:t>le darán muerte y, después de morir, a los tres días, resucitará</a:t>
            </a:r>
            <a:r>
              <a:rPr b="0" lang="en-US" sz="2000" spc="-1" strike="noStrike">
                <a:solidFill>
                  <a:srgbClr val="336600"/>
                </a:solidFill>
                <a:latin typeface="Georg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586728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Mientras atraviesa Galilea, hacia Jerusalén, Jesús sigue instruyendo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 los discípulos sobre el tema fundamental: quién y cómo es el Mesí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9600" y="230364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alile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NTERROGACIONES%20color%20preguntar.02" descr=""/>
          <p:cNvPicPr/>
          <p:nvPr/>
        </p:nvPicPr>
        <p:blipFill>
          <a:blip r:embed="rId1"/>
          <a:stretch/>
        </p:blipFill>
        <p:spPr>
          <a:xfrm>
            <a:off x="0" y="1371600"/>
            <a:ext cx="4572000" cy="4465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84040" y="228600"/>
            <a:ext cx="857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9900"/>
                </a:solidFill>
                <a:latin typeface="Georgia"/>
              </a:rPr>
              <a:t>32</a:t>
            </a:r>
            <a:r>
              <a:rPr b="0" lang="en-US" sz="2000" spc="-1" strike="noStrike">
                <a:solidFill>
                  <a:srgbClr val="ff9900"/>
                </a:solidFill>
                <a:latin typeface="Georgia"/>
              </a:rPr>
              <a:t> Ellos no entendían lo que quería decir, pero les daba miedo preguntar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5486400"/>
            <a:ext cx="8991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s más cómodo no escuchar la Palabra por miedo a lo que pueda exigir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Tener miedo de preguntar es un mecanismo psicológico que tod@s tenemos cuando preferimos ignorar algo que nos puede comprome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INTERROGACIONES%20color%20preguntar.02" descr=""/>
          <p:cNvPicPr/>
          <p:nvPr/>
        </p:nvPicPr>
        <p:blipFill>
          <a:blip r:embed="rId2"/>
          <a:stretch/>
        </p:blipFill>
        <p:spPr>
          <a:xfrm>
            <a:off x="4267080" y="609480"/>
            <a:ext cx="4876920" cy="4876920"/>
          </a:xfrm>
          <a:prstGeom prst="rect">
            <a:avLst/>
          </a:prstGeom>
          <a:ln w="0">
            <a:noFill/>
          </a:ln>
        </p:spPr>
      </p:pic>
      <p:pic>
        <p:nvPicPr>
          <p:cNvPr id="52" name="hombre%20miedo%20redondo" descr=""/>
          <p:cNvPicPr/>
          <p:nvPr/>
        </p:nvPicPr>
        <p:blipFill>
          <a:blip r:embed="rId3"/>
          <a:stretch/>
        </p:blipFill>
        <p:spPr>
          <a:xfrm>
            <a:off x="4952880" y="3276720"/>
            <a:ext cx="3473640" cy="2279520"/>
          </a:xfrm>
          <a:prstGeom prst="rect">
            <a:avLst/>
          </a:prstGeom>
          <a:ln w="0">
            <a:noFill/>
          </a:ln>
        </p:spPr>
      </p:pic>
      <p:pic>
        <p:nvPicPr>
          <p:cNvPr id="53" name="hombe%20MIEDO%20cara%20tapada%20-ojo-" descr=""/>
          <p:cNvPicPr/>
          <p:nvPr/>
        </p:nvPicPr>
        <p:blipFill>
          <a:blip r:embed="rId4"/>
          <a:stretch/>
        </p:blipFill>
        <p:spPr>
          <a:xfrm>
            <a:off x="228600" y="990720"/>
            <a:ext cx="2844720" cy="2692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230480" y="228600"/>
            <a:ext cx="6684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baseline="30000">
                <a:solidFill>
                  <a:srgbClr val="3333cc"/>
                </a:solidFill>
                <a:latin typeface="Georgia"/>
              </a:rPr>
              <a:t>33</a:t>
            </a:r>
            <a:r>
              <a:rPr b="0" lang="es-ES" sz="2000" spc="-1" strike="noStrike">
                <a:solidFill>
                  <a:srgbClr val="3333cc"/>
                </a:solidFill>
                <a:latin typeface="Georgia"/>
              </a:rPr>
              <a:t> Llegaron a Cafarnaún y, una vez en casa, les preguntó:</a:t>
            </a:r>
            <a:br>
              <a:rPr sz="2000"/>
            </a:br>
            <a:r>
              <a:rPr b="0" i="1" lang="es-ES" sz="2000" spc="-1" strike="noStrike">
                <a:solidFill>
                  <a:srgbClr val="3333cc"/>
                </a:solidFill>
                <a:latin typeface="Georgia"/>
              </a:rPr>
              <a:t>–¿De qué discutíais por el camino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Cafarnaún%20Casa%20de%20Pedro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4191120"/>
            <a:ext cx="9144000" cy="25333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Jesús pregunta a los discípulos cuando llegan a casa,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cuando están más serenos, cuando se sienten a gusto, en su sitio.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Jesús hace que, con él,  nos sintamos como en casa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ara dialogar y profundizar,  para reflexionar, para dejarnos interpelar, para orar...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¿Cuál es mi respuesta cuando Jesús me pregunta: de qué hablas?,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¿de qué discutes?, ¿cuáles son tus proyectos y tus anhelos?,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¿ a qué dedicas tu tiempo, tu energía, tu i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34320" y="1295280"/>
            <a:ext cx="230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Cafarnaún.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Lugar de la casa de Ped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AMINO%20A%20JERUSLÉN%20CAMINO_POR_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6400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724280" y="685800"/>
            <a:ext cx="4419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Las preocupaciones del Maestro 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y de los discípulos no coinciden.  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Jesús habla de servicio y entrega, 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los discípulos de reparto de poder.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Estar al lado de Maestro es todavía para ellos una oportunidad de medrar, 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no una oportunidad de servir.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La situación retrata a las comunidades cristianas que ya empezaban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 a preocuparse, peligrosamente, 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por el rango de sus miembros, 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el prestigio, la posesión de la verdad, 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el poder... 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Preocupaciones que siguen siendo actuales y que suponen una profunda perversión del mensaje de Jesús. 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La marca de sus seguidores 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y seguidoras es ser 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“el último y el servidor de todos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4800600"/>
            <a:ext cx="3657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34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Ellos callaban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pues por el camino habían discutido sobre quién era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el más import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6477120"/>
            <a:ext cx="185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otype Corsiva"/>
              </a:rPr>
              <a:t>Camino a Jerusalé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Últ.%20Cena.Zeffirelli%2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-11160" y="228600"/>
            <a:ext cx="916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3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esús se sentó, llamó a los doce y les dijo: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–El que quiera ser el primero, que sea el último de todos y el servidor de tod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5334120"/>
            <a:ext cx="883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c66"/>
                </a:solidFill>
                <a:latin typeface="Comic Sans MS"/>
              </a:rPr>
              <a:t>Jesús sigue insistiendo. </a:t>
            </a:r>
            <a:r>
              <a:rPr b="0" i="1" lang="es-ES" sz="1800" spc="-1" strike="noStrike">
                <a:solidFill>
                  <a:srgbClr val="ffcc66"/>
                </a:solidFill>
                <a:latin typeface="Comic Sans MS"/>
              </a:rPr>
              <a:t>Hacerse</a:t>
            </a:r>
            <a:r>
              <a:rPr b="0" lang="es-ES" sz="1800" spc="-1" strike="noStrike">
                <a:solidFill>
                  <a:srgbClr val="ffcc66"/>
                </a:solidFill>
                <a:latin typeface="Comic Sans MS"/>
              </a:rPr>
              <a:t> últim@, </a:t>
            </a:r>
            <a:r>
              <a:rPr b="0" i="1" lang="es-ES" sz="1800" spc="-1" strike="noStrike">
                <a:solidFill>
                  <a:srgbClr val="ffcc66"/>
                </a:solidFill>
                <a:latin typeface="Comic Sans MS"/>
              </a:rPr>
              <a:t>aceptarse</a:t>
            </a:r>
            <a:r>
              <a:rPr b="0" lang="es-ES" sz="1800" spc="-1" strike="noStrike">
                <a:solidFill>
                  <a:srgbClr val="ffcc66"/>
                </a:solidFill>
                <a:latin typeface="Comic Sans MS"/>
              </a:rPr>
              <a:t> últim@, </a:t>
            </a:r>
            <a:r>
              <a:rPr b="0" i="1" lang="es-ES" sz="1800" spc="-1" strike="noStrike">
                <a:solidFill>
                  <a:srgbClr val="ffcc66"/>
                </a:solidFill>
                <a:latin typeface="Comic Sans MS"/>
              </a:rPr>
              <a:t>aceptarse</a:t>
            </a:r>
            <a:r>
              <a:rPr b="0" lang="es-ES" sz="1800" spc="-1" strike="noStrike">
                <a:solidFill>
                  <a:srgbClr val="ffcc66"/>
                </a:solidFill>
                <a:latin typeface="Comic Sans MS"/>
              </a:rPr>
              <a:t> servidor-a </a:t>
            </a:r>
            <a:br>
              <a:rPr sz="1800"/>
            </a:br>
            <a:r>
              <a:rPr b="0" lang="es-ES" sz="1800" spc="-1" strike="noStrike">
                <a:solidFill>
                  <a:srgbClr val="ffcc66"/>
                </a:solidFill>
                <a:latin typeface="Comic Sans MS"/>
              </a:rPr>
              <a:t>de tod@s, eso es lo primero de todo. Se es grande y se transforma radicalmente nuestro mundo, no cuando se ocupa un puesto relevante, sino cuando en la vida se hace sitio para quien no tiene grandeza según el mundo. Como Jesú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c66"/>
                </a:solidFill>
                <a:latin typeface="Comic Sans MS"/>
              </a:rPr>
              <a:t>Quien sirve a quienes son “inservibles” para la sociedad, nunca se equivo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GRUPO%20NIÑ@S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3962520"/>
            <a:ext cx="9144000" cy="283716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n la sociedad y cultura de aquel tiempo, el niño era “nadie”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Jesús lo abraza como gesto de amor y de total identific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Para Jesús es modelo de humildad radical, del asombro, la fascinación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y la alegría. Los niños son espontáneamente confiados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Jesús reconoció en los niños la confianza total e incondicional que él tenía en Abbá. Quien acoge, ayuda... a un “insignificante”, lo recibe a él y a su Padr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Va en la línea de “a mí me lo hicisteis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Además de lo pequeño, indefenso y socialmente irrelevante,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l niño también representa lo entrañable, puro y abierto a la esperanza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 un futuro nuevo y mejor. Es el símbolo de quienes forman la nueva comun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7680" y="0"/>
            <a:ext cx="8896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36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Luego tomó a un niño, lo puso en medio de ellos y, abrazándolo, les dijo:</a:t>
            </a:r>
            <a:br>
              <a:rPr sz="2000"/>
            </a:b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37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–</a:t>
            </a:r>
            <a:r>
              <a:rPr b="0" i="1" lang="en-US" sz="2000" spc="-1" strike="noStrike">
                <a:solidFill>
                  <a:srgbClr val="ffffff"/>
                </a:solidFill>
                <a:latin typeface="Georgia"/>
              </a:rPr>
              <a:t>El que acoge a un niño como éste en mi nombre, a mí me acoge; 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Georgia"/>
              </a:rPr>
              <a:t>y el que me acoge a mí, no es a mí a quien acoge, sino al que me ha enviado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Copia%20de%20Madre%20niñas%20peinando" descr=""/>
          <p:cNvPicPr/>
          <p:nvPr/>
        </p:nvPicPr>
        <p:blipFill>
          <a:blip r:embed="rId1"/>
          <a:stretch/>
        </p:blipFill>
        <p:spPr>
          <a:xfrm>
            <a:off x="4952880" y="990720"/>
            <a:ext cx="3934080" cy="5705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52280" y="228600"/>
            <a:ext cx="57913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Donde hay un árbol que plantar, plántalo tú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Donde haya un error que enmendar, enmiéndalo tú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Donde haya un esfuerzo que todos esquiven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acéptalo tú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Sé el que apartó del camino la piedr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el odio de los corazones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y las dificultades del proble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Hay la alegría de ser justo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pero hay, sobre todo, la inmensa alegría de servi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Qué triste sería el mundo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si todo en él estuviera hecho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si no hubiera un rosal que plantar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una empresa que emprender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No caigas en el error de que sólo se hacen mérito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con los grandes trabaj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Hay pequeños servicios que nos hacen grandes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poner una mesa, ordenar unos libros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peinar a una niña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El servir no es una faena de seres inferi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Dios, que es el fruto y la luz, sir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Y me pregunta cada día: ¿Serviste hoy?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Monotype Corsiva"/>
              </a:rPr>
              <a:t>Gloria Fuer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 rot="21333000">
            <a:off x="6171840" y="228600"/>
            <a:ext cx="17146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ERVIR</a:t>
            </a:r>
            <a:endParaRPr b="0" lang="en-US" sz="4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2T09:00:39Z</dcterms:created>
  <dc:creator> Asun Gutiérrez</dc:creator>
  <dc:description/>
  <dc:language>en-US</dc:language>
  <cp:lastModifiedBy>Usuario</cp:lastModifiedBy>
  <dcterms:modified xsi:type="dcterms:W3CDTF">2009-09-16T11:53:04Z</dcterms:modified>
  <cp:revision>28</cp:revision>
  <dc:subject>jeasam@gmail.com</dc:subject>
  <dc:title>25 Tiempo Ordinario B</dc:title>
</cp:coreProperties>
</file>