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zart%20-%20Piano%20Concerto%20in%20A,%20(II.%20Adag)%20195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3F3-688D-4855-9AA1-4CF6FCF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F09-837C-4719-8007-660C7EA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EE3-7F60-42C4-AF79-3236E29A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838-ABE2-4842-82A2-7284DD26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CC4-CCFF-4B2C-91D7-58EF80D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BE0-BB86-4D43-99F0-7CA27DF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4C3-B0FE-45D3-AC26-16FA68A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765-F1F9-4D70-A655-F50197E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7CD-1ADB-4B15-966D-53EF002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E1C-C362-4235-8421-57CA963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941-F788-48B7-8CD0-343BFD8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082-16FA-4358-BCBF-46D85A0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EADE-1B64-4E1F-B3E2-D6D49A0073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zart%20-%20Piano%20Concerto%20in%20A,%20(II.%20Adag)%20195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n pudiendo servir domina, es del “mundo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n pudiendo dominar sirve, es de Cri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Apoyo%20BEBE%20ayudado-%20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4140360"/>
          </a:xfrm>
          <a:prstGeom prst="rect">
            <a:avLst/>
          </a:prstGeom>
          <a:ln w="9360">
            <a:solidFill>
              <a:srgbClr val="336600"/>
            </a:solidFill>
            <a:prstDash val="dash"/>
            <a:miter/>
          </a:ln>
        </p:spPr>
      </p:pic>
      <p:sp>
        <p:nvSpPr>
          <p:cNvPr id="43" name=""/>
          <p:cNvSpPr/>
          <p:nvPr/>
        </p:nvSpPr>
        <p:spPr>
          <a:xfrm>
            <a:off x="1066680" y="6248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cos 9, 30-37 – 25 Tiempo Ordinario –B- 20 septiembre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Mozart%20-%20Piano%20Concerto%20in%20A,%20(II.%20Adag)%20195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ALILA%20Lago%20camp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15228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0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Se fueron de allí y atravesaron Galilea. Jesús no quería que nadie lo supiera,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31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 porque estaba dedicado a instruir a sus discípulos. 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es decía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–</a:t>
            </a:r>
            <a:r>
              <a:rPr b="0" i="1" lang="en-US" sz="2000" spc="-1" strike="noStrike">
                <a:solidFill>
                  <a:srgbClr val="336600"/>
                </a:solidFill>
                <a:latin typeface="Georgia"/>
              </a:rPr>
              <a:t>El Hijo del hombre va a ser entregado en manos de los hombres, </a:t>
            </a:r>
            <a:br>
              <a:rPr sz="2000"/>
            </a:br>
            <a:r>
              <a:rPr b="0" i="1" lang="en-US" sz="2000" spc="-1" strike="noStrike">
                <a:solidFill>
                  <a:srgbClr val="336600"/>
                </a:solidFill>
                <a:latin typeface="Georgia"/>
              </a:rPr>
              <a:t>le darán muerte y, después de morir, a los tres días, resucitará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58672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entras atraviesa Galilea, hacia Jerusalén, Jesús sigue instruyendo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los discípulos sobre el tema fundamental: quién y cómo es el Mes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600" y="23036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alil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NTERROGACIONES%20color%20preguntar.02" descr=""/>
          <p:cNvPicPr/>
          <p:nvPr/>
        </p:nvPicPr>
        <p:blipFill>
          <a:blip r:embed="rId1"/>
          <a:stretch/>
        </p:blipFill>
        <p:spPr>
          <a:xfrm>
            <a:off x="0" y="1371600"/>
            <a:ext cx="4572000" cy="446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4040" y="228600"/>
            <a:ext cx="857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9900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ff9900"/>
                </a:solidFill>
                <a:latin typeface="Georgia"/>
              </a:rPr>
              <a:t> Ellos no entendían lo que quería decir, pero les daba miedo preguntar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486400"/>
            <a:ext cx="8991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más cómodo no escuchar la Palabra por miedo a lo que pueda exigi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ener miedo de preguntar es un mecanismo psicológico que tod@s tenemos cuando preferimos ignorar algo que nos puede comprom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NTERROGACIONES%20color%20preguntar.02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87692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hombre%20miedo%20redondo" descr=""/>
          <p:cNvPicPr/>
          <p:nvPr/>
        </p:nvPicPr>
        <p:blipFill>
          <a:blip r:embed="rId3"/>
          <a:stretch/>
        </p:blipFill>
        <p:spPr>
          <a:xfrm>
            <a:off x="4952880" y="3276720"/>
            <a:ext cx="3473640" cy="2279520"/>
          </a:xfrm>
          <a:prstGeom prst="rect">
            <a:avLst/>
          </a:prstGeom>
          <a:ln w="0">
            <a:noFill/>
          </a:ln>
        </p:spPr>
      </p:pic>
      <p:pic>
        <p:nvPicPr>
          <p:cNvPr id="53" name="hombe%20MIEDO%20cara%20tapada%20-ojo-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284472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30480" y="228600"/>
            <a:ext cx="668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3333cc"/>
                </a:solidFill>
                <a:latin typeface="Georgia"/>
              </a:rPr>
              <a:t>33</a:t>
            </a:r>
            <a:r>
              <a:rPr b="0" lang="es-ES" sz="2000" spc="-1" strike="noStrike">
                <a:solidFill>
                  <a:srgbClr val="3333cc"/>
                </a:solidFill>
                <a:latin typeface="Georgia"/>
              </a:rPr>
              <a:t> Llegaron a Cafarnaún y, una vez en casa, les preguntó:</a:t>
            </a:r>
            <a:br>
              <a:rPr sz="2000"/>
            </a:br>
            <a:r>
              <a:rPr b="0" i="1" lang="es-ES" sz="2000" spc="-1" strike="noStrike">
                <a:solidFill>
                  <a:srgbClr val="3333cc"/>
                </a:solidFill>
                <a:latin typeface="Georgia"/>
              </a:rPr>
              <a:t>–¿De qué discutíais por el camino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afarnaún%20Casa%20de%20Pedro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191120"/>
            <a:ext cx="9144000" cy="2533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pregunta a los discípulos cuando llegan a casa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uando están más serenos, cuando se sienten a gusto, en su sitio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Jesús hace que, con él,  nos sintamos como en cas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ara dialogar y profundizar,  para reflexionar, para dejarnos interpelar, para orar...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Cuál es mi respuesta cuando Jesús me pregunta: de qué hablas?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de qué discutes?, ¿cuáles son tus proyectos y tus anhelos?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¿ a qué dedicas tu tiempo, tu energía, tu i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1295280"/>
            <a:ext cx="23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afarnaún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ugar de la casa de Ped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AMINO%20A%20JERUSLÉN%20CAMINO_POR_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685800"/>
            <a:ext cx="4419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s preocupaciones del Maestro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de los discípulos no coinciden. 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Jesús habla de servicio y entrega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os discípulos de reparto de poder.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star al lado de Maestro es todavía para ellos una oportunidad de medrar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no una oportunidad de servir.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 situación retrata a las comunidades cristianas que ya empezaban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 a preocuparse, peligrosamente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por el rango de sus miembros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l prestigio, la posesión de la verdad,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el poder...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Preocupaciones que siguen siendo actuales y que suponen una profunda perversión del mensaje de Jesús.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La marca de sus seguidores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y seguidoras es ser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“el último y el servidor de todo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800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Ellos callaba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ues por el camino habían discutido sobre quién er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l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647712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otype Corsiva"/>
              </a:rPr>
              <a:t>Camino a Jerusal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Últ.%20Cena.Zeffirelli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1160" y="228600"/>
            <a:ext cx="91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sús se sentó, llamó a los doce y les dijo: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–El que quiera ser el primero, que sea el último de todos y el servidor de tod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4120"/>
            <a:ext cx="883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Jesús sigue insistiendo.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Hace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últim@,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acepta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últim@, </a:t>
            </a:r>
            <a:r>
              <a:rPr b="0" i="1" lang="es-ES" sz="1800" spc="-1" strike="noStrike">
                <a:solidFill>
                  <a:srgbClr val="ffcc66"/>
                </a:solidFill>
                <a:latin typeface="Comic Sans MS"/>
              </a:rPr>
              <a:t>aceptarse</a:t>
            </a: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 servidor-a </a:t>
            </a:r>
            <a:br>
              <a:rPr sz="1800"/>
            </a:b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de tod@s, eso es lo primero de todo. Se es grande y se transforma radicalmente nuestro mundo, no cuando se ocupa un puesto relevante, sino cuando en la vida se hace sitio para quien no tiene grandeza según el mundo. Como Jesú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Comic Sans MS"/>
              </a:rPr>
              <a:t>Quien sirve a quienes son “inservibles” para la sociedad, nunca se equivo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UPO%20NIÑ@S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962520"/>
            <a:ext cx="9144000" cy="28371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sociedad y cultura de aquel tiempo, el niño era “nadie”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Jesús lo abraza como gesto de amor y de total identif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ara Jesús es modelo de humildad radical, del asombro, la fascinación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la alegría. Los niños son espontáneamente confiado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reconoció en los niños la confianza total e incondicional que él tenía en Abbá. Quien acoge, ayuda... a un “insignificante”, lo recibe a él y a su Pad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a en la línea de “a mí me lo hicistei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demás de lo pequeño, indefenso y socialmente irrelevante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niño también representa lo entrañable, puro y abierto a la esperanza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un futuro nuevo y mejor. Es el símbolo de quienes forman la nuev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680" y="0"/>
            <a:ext cx="889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6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Luego tomó a un niño, lo puso en medio de ellos y, abrazándolo, les dijo:</a:t>
            </a:r>
            <a:br>
              <a:rPr sz="2000"/>
            </a:b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3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–</a:t>
            </a: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El que acoge a un niño como éste en mi nombre, a mí me acoge;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Georgia"/>
              </a:rPr>
              <a:t>y el que me acoge a mí, no es a mí a quien acoge, sino al que me ha enviado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pia%20de%20Madre%20niñas%20peinando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934080" cy="570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228600"/>
            <a:ext cx="57913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 un árbol que plantar, plánt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a un error que enmendar, enmiénd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nde haya un esfuerzo que todos esquiven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céptalo t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é el que apartó del camino la pied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odio de los corazone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las dificultades del probl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la alegría de ser just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ro hay, sobre todo, la inmensa alegría de ser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Qué triste sería el mund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i todo en él estuviera hecho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i no hubiera un rosal que plantar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una empresa que emprende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No caigas en el error de que sólo se hacen mérito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n los grandes traba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ay pequeños servicios que nos hacen grande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oner una mesa, ordenar unos libro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einar a una niñ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l servir no es una faena de sere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ios, que es el fruto y la luz, sir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 me pregunta cada día: ¿Serviste hoy?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Monotype Corsiva"/>
              </a:rPr>
              <a:t>Gloria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21333000">
            <a:off x="6171840" y="228600"/>
            <a:ext cx="1714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RVIR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9:00:39Z</dcterms:created>
  <dc:creator> Asun Gutiérrez</dc:creator>
  <dc:description/>
  <dc:language>en-US</dc:language>
  <cp:lastModifiedBy>Usuario</cp:lastModifiedBy>
  <dcterms:modified xsi:type="dcterms:W3CDTF">2009-09-16T11:53:04Z</dcterms:modified>
  <cp:revision>28</cp:revision>
  <dc:subject>jeasam@gmail.com</dc:subject>
  <dc:title>25 Tiempo Ordinario B</dc:title>
</cp:coreProperties>
</file>