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B37A-B881-40C8-9AD2-D325FF7C2B9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8B2D-1CAC-4093-A866-8EBF852AF78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FB7B-B29D-471A-92D7-782E76A0237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7773-009E-4BC8-BF2F-E8F6EE88E39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485F-2552-406D-A4CE-F4D54E36367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F596-FA06-4AE9-B78C-1D5BBC53C01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69F6-56D9-499C-9F59-07427242691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4E7F-405A-484D-9FE7-EB92C21F4DE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00E5-C60E-4E6D-BA8D-BC7A0F98F32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796B-5E4E-449B-BBA4-8E57A932770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BB44-2A41-48A3-9D5B-D06EF4A9887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BE02-0C50-4373-9210-0639DB3A4DD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D73F-DA5A-4567-A182-BD7B9E6D540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D28-E0FA-4758-AAB8-0F33B1C1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B02-2C87-4156-AA8A-DCE394F0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DCB-A02F-402A-B4A0-2254C2D9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298C-DBD9-4361-9FD1-09278104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A6C1-FD65-4B9F-AFC0-99ED5B1A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9A06-BDC7-4E47-A774-DE8E2A93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88AC-9A08-4D4B-9A51-FC89028A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AA6D-7D7E-4020-A961-6030C92C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4DCA-BC70-46AA-8779-4C3EBD58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7128-8C60-4DFA-9D34-6476EC7B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061E-54F1-4A33-AE54-8E3450B9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751-EC4C-49AE-9F2B-18D35EFE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C6F2-0270-4BA4-BBE9-C7177535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7E24-4645-4A89-A0DA-BD7582E7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2D25-280C-4ED8-8992-A1F6C77E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411B-001E-48C1-8942-D66BD863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8CF6-5912-4B8C-9FC3-C319C883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40D-09AA-4CC4-A661-99E6FEFD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4121-15F3-46BE-80B0-E6C254DE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1690-AE64-4934-859B-81D06DB6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937-7258-466F-8794-E7216678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A5BF-BF95-4807-84AC-821A1342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98C-F768-4225-A6F5-A40C15F2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CA6-72B1-4255-B3A3-DDE87EC3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3087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EJO de PREVENCION COMUNITARIA COMISARIA 10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D24E-CE1D-4EA0-AFFB-2135563FB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348000" y="6244920"/>
            <a:ext cx="31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CONSEJO PREVENCION COMUNITARIA COMISARIA 10 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4795-39C9-43EB-8C00-59F8EE56F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2"/>
          <p:cNvSpPr/>
          <p:nvPr/>
        </p:nvSpPr>
        <p:spPr>
          <a:xfrm>
            <a:off x="3348000" y="6245280"/>
            <a:ext cx="316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CONSEJO PREVENCION COMUNITARIA COMISARIA 10 m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b7"/>
                </a:solidFill>
                <a:latin typeface="Arial Black"/>
              </a:rPr>
              <a:t>PERU </a:t>
            </a: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9640" y="396252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ribuyamos con un poc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4 Marcador de pie de página"/>
          <p:cNvSpPr/>
          <p:nvPr/>
        </p:nvSpPr>
        <p:spPr>
          <a:xfrm>
            <a:off x="3429000" y="6245280"/>
            <a:ext cx="308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EJO de PREVENCION COMUNITARIA COMISARIA 10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¿Usted Encuentra terrible el problema de la drogadicción?</a:t>
            </a: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2665080"/>
            <a:ext cx="8007480" cy="34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Solución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Únicamente cuide y atienda bien a sus hijos interesese por ellos. Así ni siquiera tendrá que vigilarlos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40"/>
                            </p:stCondLst>
                            <p:childTnLst>
                              <p:par>
                                <p:cTn id="2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4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4 Marcador de pie de página"/>
          <p:cNvSpPr/>
          <p:nvPr/>
        </p:nvSpPr>
        <p:spPr>
          <a:xfrm>
            <a:off x="3429000" y="6245280"/>
            <a:ext cx="308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EJO de PREVENCION COMUNITARIA COMISARIA 10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USTED CONSIDERA QUE NINGUNA DE LAS COSAS ANTERIORES MEJORARÍA EL PAÍS, ENTONCES USTED ES PARTE DEL PROBLEMA Y NO DE LA SOLU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 si no participa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¡¡ NO SE QUEJE !!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4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4 Marcador de pie de página"/>
          <p:cNvSpPr/>
          <p:nvPr/>
        </p:nvSpPr>
        <p:spPr>
          <a:xfrm>
            <a:off x="3429000" y="6245280"/>
            <a:ext cx="308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EJO de PREVENCION COMUNITARIA COMISARIA 10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tamos pasando por una etapa de falta de valores civicos, educacion y de patriotismo. Necesitamos cambiar nuestro comportamiento para que podamos vivir en un país donde tengamos el orgullo de deci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66"/>
                </a:solidFill>
                <a:latin typeface="Arial"/>
              </a:rPr>
              <a:t>!! SOY PERUANO !!</a:t>
            </a: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solución a nuestros problemas no se encuentra en un presidente o en un gobernado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ucho menos en un partido polític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mediocridad o grandeza de un país reside en 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NOSOTROS sus CIUDADANO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800"/>
                            </p:stCondLst>
                            <p:childTnLst>
                              <p:par>
                                <p:cTn id="2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980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268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392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Necesario…Verdad !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66"/>
                </a:solidFill>
                <a:latin typeface="comic"/>
              </a:rPr>
              <a:t>Empieza ahora y envíalo a tus amigos y parient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66"/>
                </a:solidFill>
                <a:latin typeface="comic"/>
              </a:rPr>
              <a:t>Hazlo !!!!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4 Marcador de pie de página"/>
          <p:cNvSpPr/>
          <p:nvPr/>
        </p:nvSpPr>
        <p:spPr>
          <a:xfrm>
            <a:off x="3429000" y="6245280"/>
            <a:ext cx="308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EJO de PREVENCION COMUNITARIA COMISARIA 10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¿No le gusta su país?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¡¡Cámbielo usted mismo!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Y si no participa..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¡¡NO SE QUEJE!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2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4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36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4 Marcador de pie de página"/>
          <p:cNvSpPr/>
          <p:nvPr/>
        </p:nvSpPr>
        <p:spPr>
          <a:xfrm>
            <a:off x="3429000" y="6245280"/>
            <a:ext cx="308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EJO de PREVENCION COMUNITARIA COMISARIA 10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25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¿Encuentra absurdo el robo de camiones de carga, a veces hasta con asesinatos de los camionero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26920" y="3416400"/>
            <a:ext cx="75614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Solución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xija la factura en todas sus compras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280"/>
                            </p:stCondLst>
                            <p:childTnLst>
                              <p:par>
                                <p:cTn id="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28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4 Marcador de pie de página"/>
          <p:cNvSpPr/>
          <p:nvPr/>
        </p:nvSpPr>
        <p:spPr>
          <a:xfrm>
            <a:off x="3429000" y="6245280"/>
            <a:ext cx="308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EJO de PREVENCION COMUNITARIA COMISARIA 10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¿Le disgusta el desorden causado por los vendedor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mbulantes?</a:t>
            </a:r>
            <a:r>
              <a:rPr b="0" lang="en-US" sz="4400" spc="-1" strike="noStrike">
                <a:solidFill>
                  <a:srgbClr val="cc0000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3429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olució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unca compre nada a el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mayor parte de sus mercaderías son  productos robados, falsificados y/o contrabandead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280"/>
                            </p:stCondLst>
                            <p:childTnLst>
                              <p:par>
                                <p:cTn id="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28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2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4 Marcador de pie de página"/>
          <p:cNvSpPr/>
          <p:nvPr/>
        </p:nvSpPr>
        <p:spPr>
          <a:xfrm>
            <a:off x="3429000" y="6245280"/>
            <a:ext cx="308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EJO de PREVENCION COMUNITARIA COMISARIA 10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¿Le parece mal tanta cantidad de mendigos en los semáforos y en las calles,   y en cada esquina?</a:t>
            </a: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ció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nca les dé NADA. Canalice su ayuda solidaria directamente a las instituciones de su confianz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12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12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4 Marcador de pie de página"/>
          <p:cNvSpPr/>
          <p:nvPr/>
        </p:nvSpPr>
        <p:spPr>
          <a:xfrm>
            <a:off x="3429000" y="6245280"/>
            <a:ext cx="308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EJO de PREVENCION COMUNITARIA COMISARIA 10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¿No puede entender como unas pocas gotas de lluvia inunden la ciudad?</a:t>
            </a: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560" y="2205000"/>
            <a:ext cx="800748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Solución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Solamente tire papelitos y basura, EN LOS CANASTOS para tal fin, barra su vereda.       Y si construye, no eche la basura en las rejillas...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360"/>
                            </p:stCondLst>
                            <p:childTnLst>
                              <p:par>
                                <p:cTn id="1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36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4 Marcador de pie de página"/>
          <p:cNvSpPr/>
          <p:nvPr/>
        </p:nvSpPr>
        <p:spPr>
          <a:xfrm>
            <a:off x="3429000" y="6245280"/>
            <a:ext cx="308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EJO de PREVENCION COMUNITARIA COMISARIA 10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¿Usted encuentra injusto que haya revendedores de entradas para espectáculos?</a:t>
            </a: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3141720"/>
            <a:ext cx="800748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ución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 les compre, aunque eso signifique perderse el even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760"/>
                            </p:stCondLst>
                            <p:childTnLst>
                              <p:par>
                                <p:cTn id="1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76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4 Marcador de pie de página"/>
          <p:cNvSpPr/>
          <p:nvPr/>
        </p:nvSpPr>
        <p:spPr>
          <a:xfrm>
            <a:off x="3429000" y="6245280"/>
            <a:ext cx="308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EJO de PREVENCION COMUNITARIA COMISARIA 10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¿Usted encuentra un caos el tránsito en su ciudad?</a:t>
            </a: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007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Solución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Solo respete todas las normas de transito, estaciónese en lugares permitidos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, et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720"/>
                            </p:stCondLst>
                            <p:childTnLst>
                              <p:par>
                                <p:cTn id="1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72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4 Marcador de pie de página"/>
          <p:cNvSpPr/>
          <p:nvPr/>
        </p:nvSpPr>
        <p:spPr>
          <a:xfrm>
            <a:off x="3429000" y="6245280"/>
            <a:ext cx="308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EJO de PREVENCION COMUNITARIA COMISARIA 10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¿Usted Considera alarmante el índice de criminalidad en nuestro país?</a:t>
            </a: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olució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vierta en el Perú si es empresario; trabaje con afán si es empleado y ambos paguen sus impuestos. ¡Produzca con calidad y pague sueldos de dignidad! con ello, podrán darles una educación de calidad a sus hijos y evitar la formación de delincuentes. No hay criminal que no salga de una famil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440"/>
                            </p:stCondLst>
                            <p:childTnLst>
                              <p:par>
                                <p:cTn id="1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44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8:11:56Z</dcterms:created>
  <dc:creator>Alberto Garcia Correa</dc:creator>
  <dc:description>consejo10@yahoo.com.ar</dc:description>
  <dc:language>en-US</dc:language>
  <cp:lastModifiedBy>Alberto Garcia Correa</cp:lastModifiedBy>
  <dcterms:modified xsi:type="dcterms:W3CDTF">2008-10-16T18:15:05Z</dcterms:modified>
  <cp:revision>1</cp:revision>
  <dc:subject/>
  <dc:title>PERU  </dc:title>
</cp:coreProperties>
</file>