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D19-F31B-4CBF-A209-C29273F0856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26C-29AD-4348-84F0-3AC06346F6F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91B-182A-4E43-8B34-53CE46F260F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887-12D5-4580-B015-BC141B3EC3A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5F2-9092-4E42-9523-B45ABC9638F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6FC6-26F1-40DD-83D5-508C75F0A19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FB0B-F94F-4DE7-A9E8-3FD111A91DE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91E-E8BC-4E16-AA84-DC61AD832C9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604-61E4-45DB-903B-27D6914E457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DC99-D88A-495E-8B84-E2E0CB523BD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E9AC-BC6C-4F7F-A08F-14AD870937A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F77-37FD-4057-9110-D86A8174A7B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D28D-847A-4E02-BC44-DCEF806EC3A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E6A-4540-43E2-929B-F4B7A1B0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338-A64C-4BD7-8FEF-4453AB0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E19-04C2-4C78-B5B9-15D84988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E04-E679-43B5-8355-20160ABD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AAB6-A7BC-4191-8FB2-4E268DC8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DDCA-1D34-4937-A627-919066D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F679-8247-4257-A583-1F28644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FEA-5786-48AD-A469-B97D74F4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685-E48F-4318-8D8E-EBCB1653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246-FB57-445B-9E03-7C033D5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CC16-11BA-494F-A95D-4208571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53E-E57E-48C8-9F12-F479BC4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DB2-86B2-457E-A8BB-61467D4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D92-3E02-4F89-86E0-91DDB93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B6E-6D29-4F81-96C3-BE7EEA8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AC06-5897-407A-9277-FC5D19B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AD0-71C9-43E9-9BCC-6400B09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A81-C4C3-4697-90C7-7040429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432-EF1E-44B4-A72F-0D837C0E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92B-89B4-4861-AB02-EB8CE117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28D-62FF-4A1A-BD9D-471CCC7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07D-7A30-4143-87C2-40E185F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3DE-62A7-400A-8578-084DFC8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2B9-6B7E-461D-A2E7-A857F8A5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3087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e PREVENCION COMUNITARIA COMISARIA 10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D89-D9A6-4204-8634-AEA61B25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34800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NSEJO PREVENCION COMUNITARIA COMISARIA 10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BE3-7360-4CDC-BBE8-25726E376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2"/>
          <p:cNvSpPr/>
          <p:nvPr/>
        </p:nvSpPr>
        <p:spPr>
          <a:xfrm>
            <a:off x="3348000" y="6245280"/>
            <a:ext cx="316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NSEJO PREVENCION COMUNITARIA COMISARIA 10 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b7"/>
                </a:solidFill>
                <a:latin typeface="Arial Black"/>
              </a:rPr>
              <a:t>PERU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3962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ibuyamos con un poc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Encuentra terrible el problema de la drogadicción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2665080"/>
            <a:ext cx="800748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Únicamente cuide y atienda bien a sus hijos interesese por ellos. Así ni siquiera tendrá que vigilarlo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4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USTED CONSIDERA QUE NINGUNA DE LAS COSAS ANTERIORES MEJORARÍA EL PAÍS, ENTONCES USTED ES PARTE DEL PROBLEMA Y NO DE LA SOL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i no participa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¡¡ NO SE QUEJE !!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mos pasando por una etapa de falta de valores civicos, educacion y de patriotismo. Necesitamos cambiar nuestro comportamiento para que podamos vivir en un país donde tengamos el orgullo de dec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Arial"/>
              </a:rPr>
              <a:t>!! SOY PERUANO !!</a:t>
            </a: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olución a nuestros problemas no se encuentra en un presidente o en un goberna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cho menos en un partido polít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mediocridad o grandeza de un país reside en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NOSOTROS sus CIUDADAN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800"/>
                            </p:stCondLst>
                            <p:childTnLst>
                              <p:par>
                                <p:cTn id="2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8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68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9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ecesario…Verdad 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66"/>
                </a:solidFill>
                <a:latin typeface="comic"/>
              </a:rPr>
              <a:t>Empieza ahora y envíalo a tus amigos y parien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66"/>
                </a:solidFill>
                <a:latin typeface="comic"/>
              </a:rPr>
              <a:t>Hazlo 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¿No le gusta su país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¡¡Cámbielo usted mismo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Y si no participa.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¡¡NO SE QUEJE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3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5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Encuentra absurdo el robo de camiones de carga, a veces hasta con asesinatos de los camionero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26920" y="3416400"/>
            <a:ext cx="7561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xija la factura en todas sus compra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28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2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¿Le disgusta el desorden causado por los vendedor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bulantes?</a:t>
            </a: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unca compre nada a el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mayor parte de sus mercaderías son  productos robados, falsificados y/o contrabandea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8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2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Le parece mal tanta cantidad de mendigos en los semáforos y en las calles,   y en cada esquina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nca les dé NADA. Canalice su ayuda solidaria directamente a las instituciones de su confianz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12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12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No puede entender como unas pocas gotas de lluvia inunden la ciudad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Solamente tire papelitos y basura, EN LOS CANASTOS para tal fin, barra su vereda.       Y si construye, no eche la basura en las rejillas...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6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3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encuentra injusto que haya revendedores de entradas para espectáculos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3141720"/>
            <a:ext cx="80074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les compre, aunque eso signifique perderse el ev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6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6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¿Usted encuentra un caos el tránsito en su ciudad?</a:t>
            </a: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o respete todas las normas de transito, estaciónese en lugares permitidos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20"/>
                            </p:stCondLst>
                            <p:childTnLst>
                              <p:par>
                                <p:cTn id="1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7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Considera alarmante el índice de criminalidad en nuestro país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vierta en el Perú si es empresario; trabaje con afán si es empleado y ambos paguen sus impuestos. ¡Produzca con calidad y pague sueldos de dignidad! con ello, podrán darles una educación de calidad a sus hijos y evitar la formación de delincuentes. No hay criminal que no salga de una famil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4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4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8:11:56Z</dcterms:created>
  <dc:creator>Alberto Garcia Correa</dc:creator>
  <dc:description>consejo10@yahoo.com.ar</dc:description>
  <dc:language>en-US</dc:language>
  <cp:lastModifiedBy>Alberto Garcia Correa</cp:lastModifiedBy>
  <dcterms:modified xsi:type="dcterms:W3CDTF">2008-10-16T18:15:05Z</dcterms:modified>
  <cp:revision>1</cp:revision>
  <dc:subject/>
  <dc:title>PERU  </dc:title>
</cp:coreProperties>
</file>