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HENDEL%20-%20El%20Mes%C3%ADas.%20Aleluya.wav" ContentType="audio/x-wav"/>
  <Override PartName="/ppt/media/image2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47C-F272-484B-A2A9-17CAAB0F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2BE-19FE-45D0-B2B5-B93A8F2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41F-A596-4922-BA10-F8B7216C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333-1D0B-4EC2-96E7-234FC594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A37-16F3-42DB-9BC5-9C4DB10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03A-23D1-411C-A4D5-2CAFED1A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926-D8FB-47FA-929F-43FB9814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542-9772-499B-B68F-1EE14276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288-A6F9-4716-8002-B493EA21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4D0-EC1E-4376-845B-88C4F78B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FCB-62A3-4321-9342-4AA5998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F82-9052-49AC-8B37-BE51A719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5CB-4C42-40FF-B866-FBE874FBDD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HENDEL%20-%20El%20Mes&#237;as.%20Aleluy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191280" cy="518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5400000">
            <a:off x="-1148760" y="3029760"/>
            <a:ext cx="395280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ngravers MT"/>
              </a:rPr>
              <a:t>CONCIERTO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ngravers MT"/>
              <a:ea typeface="Engravers MT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6343920" y="3097800"/>
            <a:ext cx="3743280" cy="66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ngravers MT"/>
              </a:rPr>
              <a:t>EL MESÍA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ngravers MT"/>
              <a:ea typeface="Engravers M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28000" y="6237360"/>
            <a:ext cx="762120" cy="40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6381720"/>
            <a:ext cx="695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Engravers MT"/>
              </a:rPr>
              <a:t>PATÓN</a:t>
            </a:r>
            <a:endParaRPr b="0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Engravers MT"/>
              <a:ea typeface="Engravers M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2000" y="6381720"/>
            <a:ext cx="19047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Orquesta y Coros, BIELORRUSIA.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3480" y="644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59480" y="6515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27840" y="644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43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623736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656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6237360"/>
            <a:ext cx="2160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6093000"/>
            <a:ext cx="45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mágenes de Orquesta y Coros de BIELORRUS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67640" y="6381720"/>
            <a:ext cx="4478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leluya.</a:t>
            </a:r>
            <a:endParaRPr b="0" lang="en-US" sz="1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 advTm="5000">
    <p:random/>
    <p:sndAc>
      <p:stSnd>
        <p:snd r:embed="rId3" name="HENDEL%20-%20El%20Mes%C3%ADas.%20Aleluy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644220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nte tan numerosos aplausos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n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obsequiaron , otra vez, con el Aleluya. IMPRESIONA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6:27:19Z</dcterms:created>
  <dc:creator>Jesús Martín Patón</dc:creator>
  <dc:description/>
  <dc:language>en-US</dc:language>
  <cp:lastModifiedBy>Jesus</cp:lastModifiedBy>
  <dcterms:modified xsi:type="dcterms:W3CDTF">2009-02-17T18:38:16Z</dcterms:modified>
  <cp:revision>3</cp:revision>
  <dc:subject/>
  <dc:title>EL MESÍAS</dc:title>
</cp:coreProperties>
</file>