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HENDEL%20-%20El%20Mes%C3%ADas.%20Aleluya.wav" ContentType="audio/x-wav"/>
  <Override PartName="/ppt/media/image2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850-C1E6-42A3-B836-95EC07C6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22D-2D37-4620-9F54-A4867490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E45-162A-4338-905C-794E2D90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B98-6440-4975-8CDF-090BD9A5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C32-0A3B-4DDF-A1A3-ADE1BDDB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AC5-2FDA-4CF1-8D41-35A3CD8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3EB-D637-4297-9E08-8819F4BF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F69-ECEF-4FB7-B3AE-890C04C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878-DCAA-43D6-8E1F-3381C77C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9E0-5C11-441B-89B2-67F97CE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DA1-1CAD-4FDF-8A45-0A911F4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9BE-5E3C-4570-ACDE-4EC7FD4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4C5-00DA-4E73-9E36-417BCE64C3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HENDEL%20-%20El%20Mes&#237;as.%20Aleluy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191280" cy="518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 rot="5400000">
            <a:off x="-1148760" y="3029760"/>
            <a:ext cx="395280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ngravers MT"/>
              </a:rPr>
              <a:t>CONCIERTO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ngravers MT"/>
              <a:ea typeface="Engravers MT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6343920" y="3097800"/>
            <a:ext cx="3743280" cy="66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Engravers MT"/>
              </a:rPr>
              <a:t>EL MESÍA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Engravers MT"/>
              <a:ea typeface="Engravers M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28000" y="6237360"/>
            <a:ext cx="762120" cy="40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6381720"/>
            <a:ext cx="69516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Engravers MT"/>
              </a:rPr>
              <a:t>PATÓN</a:t>
            </a:r>
            <a:endParaRPr b="0" lang="en-US" sz="1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Engravers MT"/>
              <a:ea typeface="Engravers M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2000" y="6381720"/>
            <a:ext cx="1904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Orquesta y Coros, BIELORRUSIA.</a:t>
            </a:r>
            <a:endParaRPr b="0" lang="en-US" sz="1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3480" y="644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59480" y="6515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27840" y="644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43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623736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656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6237360"/>
            <a:ext cx="2160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6093000"/>
            <a:ext cx="45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mágenes de Orquesta y Coros de BIELORRUS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67640" y="6381720"/>
            <a:ext cx="4478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leluya.</a:t>
            </a:r>
            <a:endParaRPr b="0" lang="en-US" sz="1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5000">
    <p:random/>
    <p:sndAc>
      <p:stSnd>
        <p:snd r:embed="rId3" name="HENDEL%20-%20El%20Mes%C3%ADas.%20Aleluy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644220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nte tan numerosos aplausos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n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obsequiaron , otra vez, con el Aleluya. IMPRESIONA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27:19Z</dcterms:created>
  <dc:creator>Jesús Martín Patón</dc:creator>
  <dc:description/>
  <dc:language>en-US</dc:language>
  <cp:lastModifiedBy>Jesus</cp:lastModifiedBy>
  <dcterms:modified xsi:type="dcterms:W3CDTF">2009-02-17T18:38:16Z</dcterms:modified>
  <cp:revision>3</cp:revision>
  <dc:subject/>
  <dc:title>EL MESÍAS</dc:title>
</cp:coreProperties>
</file>