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1F8-D025-4545-9F41-83242D3B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F28-70A1-4787-9F33-277BE91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C01-5AE8-40E5-AAC9-479E19CA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D6B-6D1E-4121-AE48-71ACBA91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AAF-71FB-421A-81EE-E8434DC7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BBD-4BD9-4A13-AD4C-779A5D7A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47A-4A9A-426F-B2F6-F1AAD23E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D4C-3CCC-4A11-96C3-35E80CC5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1E5-B985-4E75-B635-72A4B442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00E-B427-4492-8847-ED4CE331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3D0-1D8A-4101-A66E-E9C57F5C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811-5B06-45A1-A171-BCDAF206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5E40-DC4A-43FB-AE08-427D03E6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449680" y="303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Kristen ITC"/>
              </a:rPr>
              <a:t>B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5280" y="582444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0120" y="83664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ócala de nuevo, Sam, por los viejos tiem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1840" y="4365720"/>
            <a:ext cx="702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¡Tócala, S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ca “As time goes b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2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2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2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875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2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2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2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73120" y="3357720"/>
            <a:ext cx="584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:Creo haberte dic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no debías tocar nunc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2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2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2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79320" y="765000"/>
            <a:ext cx="60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todos los b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todos los pueblos en todo el mun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a entra en el mí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51760" y="42696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todos los bares en todos los pueb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todo el mundo, ella entró en el mí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7960" y="8366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 la tocaste para ella y la puedes tocar para 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6120" y="292428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 si ella puede soportarla ¡ yo también pue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1240" y="4581360"/>
            <a:ext cx="21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¡Tócal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5480" y="2276640"/>
            <a:ext cx="7956000" cy="2288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el comienzo de la segunda guerra mundial, mu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jos en la impresionada Europa se volvieron, lleno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ranza  o  desesperadamente, hacia la  libertad 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boa se convirtió en el gran punto de embarque. Pe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todo el mundo podía llegar hasta Lisboa direc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18920" y="1557360"/>
            <a:ext cx="58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ch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puedo volver a v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debes preguntar por qu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ólo recuerda que te qui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te mi amor y buena s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Il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2756" r="0" b="26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98120" y="3500280"/>
            <a:ext cx="63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mpre nos quedará Parí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200"/>
                            </p:stCondLst>
                            <p:childTnLst>
                              <p:par>
                                <p:cTn id="116" nodeType="afterEffect" fill="hold" presetClass="exit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2720" y="69228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i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50480" y="1341360"/>
            <a:ext cx="75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, Pienso que este es el comien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una bonita amis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2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2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2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81080" y="5084640"/>
            <a:ext cx="187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676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ágenes de la Películ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asablan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madas de la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a Mus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s time Goes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érp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ank Sin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23280" y="679320"/>
            <a:ext cx="10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Il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560" y="9079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ctor Lazs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75680" y="47628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itán Louis Ren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8720" y="549360"/>
            <a:ext cx="146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9548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08:26:00Z</dcterms:created>
  <dc:creator>azpe</dc:creator>
  <dc:description/>
  <dc:language>en-US</dc:language>
  <cp:lastModifiedBy>MIC</cp:lastModifiedBy>
  <dcterms:modified xsi:type="dcterms:W3CDTF">2010-05-18T18:34:56Z</dcterms:modified>
  <cp:revision>10</cp:revision>
  <dc:subject/>
  <dc:title>Diapositiva 1</dc:title>
</cp:coreProperties>
</file>