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nochedepaz,%2053Kb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9B8-BDAE-4CC7-9B68-398CB2F4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A7B-3904-4BF8-9218-38A0B191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4E6-89CF-42C8-8150-59091F2F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988-1C0E-4AC1-BEC1-5720C591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F25-ADE1-4F5F-BB70-908D6D31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A6D-0D3C-45AD-B35E-604B2494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FE6-02E6-46E8-8B88-774C64E7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00E-DD07-40C2-BB7F-DE7E9AAE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EF3-E64E-48C1-B8D6-F1D2D79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881-CF4A-4D1C-9889-1759E6F9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806-AEBD-4F36-86C0-B8C1C331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857-0670-4905-BCEC-0F75BBF9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D10E-1DDF-4204-AB4A-B196DFEF90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ochedepaz,%2053K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NOS%20GRANDES%20MANOS%20PEQUEÑAS%20DENTRO%20espi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"La Palabra se hizo carne“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 Llevamos a Dios en nuestra carne y podemos empeñarnos en divinizarlo todo. Hagamos, también nosotros, la palabra carne, como la hizo Jesús: conmoviéndonos, compadeciéndonos, aliviando heridas, ofreciendo felicidad, siendo felices en la bon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Monotype Corsiva"/>
              </a:rPr>
              <a:t>José Arreg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360" y="6095880"/>
            <a:ext cx="71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Lucas 2, 1-14.  Natividad de Jesús // 24 diciembre 2009.</a:t>
            </a:r>
            <a:br>
              <a:rPr sz="1600"/>
            </a:b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Autora: 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nochedepaz,%2053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ELEN%20PUERTA%20de%20la%20humildad.Entrada%20basilica%20nacimien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85800"/>
            <a:ext cx="9144000" cy="4483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nacimiento de Jesús nos invita a tod@s a bajar de nuestros engreimientos y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 inclinarnos ante un ni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ien quiera visitar en Belén el lugar del nacimiento de Jesús, tiene que inclin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puerta de entrada a la basílica de la Natividad tiene un metro de altura. La razón de esta puerta tan pequeña no tiene que ver directamente con la Na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la Edad Media los dominadores entraba en las iglesias a caballo, sin desmontar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para evitarlo se tapió la puerta de la entrada a la basílica, dejando sólo esta pequeña aper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señores, si querían entrar en la gruta del nacimiento, tenían que desmontar del caballo, de buena o mala gana, bajar de su cabalgadura e inclinarse. Esta entrada, tan baja, permanece actualmente. Sólo quien se hace pequeñ@, quien se inclina puede acercarse al Dios que se hace pequeño y se inclina ante nosotr@s. Sólo quien desciende de la alta cabalgadura de su saber, de su poder... puede comprender el misterio de un Dios que se ha hecho hombre para nosotr@s, con nosotr@s, por nosotr@s, en nosotr@s y para siemp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920"/>
            <a:ext cx="26668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lén. Entrada a la Basí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4572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Georgia"/>
              </a:rPr>
              <a:t>1 En aquellos días apareció un decreto del emperador Augusto ordenado que se empadronasen los habitantes del imperio. 2 Este censo fue el primero que se hizo durante el mandato de Quirino, gobernador de Siria. 3 Todos iban a inscribirse a su ciudad. 4 También José, por ser de la estirpe y familia de David, subió desde Galilea, desde la ciudad de Nazaret, a Judea, a la ciudad de David, que se llama Belén, 5 para inscribirse con María, su esposa, que estaba encinta. 6 Mientras estaban en Belén le llegó a María el tiempo del pa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63868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Jesús nace en un lugar y un tiempo concretos. En el marco y en la entraña de la historia humana. No se detuvieron las leyes de la historia, el edicto le alcanzó como a cualquier familia. Entra en nuestra historia “como uno de tantos”. Compartiendo la situación de tantas personas que nacen en condiciones de extrema car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uscan%20posada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2958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ÍA%20JOSÉ%20NIÑO%20LUZ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286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Georgia"/>
              </a:rPr>
              <a:t>7</a:t>
            </a:r>
            <a:r>
              <a:rPr b="0" lang="en-US" sz="2000" spc="-1" strike="noStrike">
                <a:solidFill>
                  <a:srgbClr val="ccecff"/>
                </a:solidFill>
                <a:latin typeface="Georgia"/>
              </a:rPr>
              <a:t> y dio a luz a su hijo primogénito, lo envolvió en pañales y lo acostó en un pesebre, porque no había sitio para ellos en la pos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257800"/>
            <a:ext cx="8991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El movimiento de Dios se parece al de las madres y los padres cuando se arrodillan en el suelo para ponerse a la altura de los ojos de sus hij@s, para comunicarse mejor con ell@s. Dios se coloca a nuestra alt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Toda vida que necesita ser protegida, envuelta en pañales y cariño, acogida,acunada y cuidada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en un regazo, en una tierra extranjera... sigue siendo señal de la encarnación de nuestro D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STORES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 Había en aquellos campos unos pastores que pasaban la noche al raso velando sus rebaños</a:t>
            </a:r>
            <a:r>
              <a:rPr b="0" lang="en-US" sz="1600" spc="-1" strike="noStrike">
                <a:solidFill>
                  <a:srgbClr val="3333cc"/>
                </a:solidFill>
                <a:latin typeface="Georgia"/>
              </a:rPr>
              <a:t>. 9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 Un ángel se les apareció, y la gloria del Señor los envolvió con su luz. Entonces les entró un gran miedo, </a:t>
            </a:r>
            <a:r>
              <a:rPr b="0" lang="en-US" sz="1600" spc="-1" strike="noStrike">
                <a:solidFill>
                  <a:srgbClr val="3333cc"/>
                </a:solidFill>
                <a:latin typeface="Georgia"/>
              </a:rPr>
              <a:t>10 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pero el ángel les dijo: -No temáis, pues os anuncio una gran alegría, que lo será también para todo el pueb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67080"/>
            <a:ext cx="9144000" cy="28371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s pastores eran considerados personas despreciables; impuros y contaminados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a que, por su oficio, no podían guardar el descanso del sábado. Formaban un grup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e vivía al margen de la sociedad, sin ningún tipo de derechos religiosos ni civ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los fueron los primeros elegidos para conocer la Buena Noticia, los primeros invitados al nacimiento del niño que iba a cambiar la historia. Ninguna persona ni institución considerada prestigiosa y relev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¿Coincide con mi actuación y mis preferenci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 temor que sienten es característica del Antiguo Test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 situación va a cambiar. Jesús va a mostrar “otro” Dios que no inspira tem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ÏA%20JOSE%20NIÑO%20PORTAL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28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Georgia"/>
              </a:rPr>
              <a:t>11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Os ha nacido hoy, en la ciudad de David, un Salvador, que es el Mesías, el Señor. </a:t>
            </a:r>
            <a:r>
              <a:rPr b="0" lang="en-US" sz="1600" spc="-1" strike="noStrike">
                <a:solidFill>
                  <a:srgbClr val="ffffcc"/>
                </a:solidFill>
                <a:latin typeface="Georgia"/>
              </a:rPr>
              <a:t>12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Esto os servirá de señal</a:t>
            </a:r>
            <a:r>
              <a:rPr b="1" lang="en-US" sz="2000" spc="-1" strike="noStrike">
                <a:solidFill>
                  <a:srgbClr val="ffffcc"/>
                </a:solidFill>
                <a:latin typeface="Georgia"/>
              </a:rPr>
              <a:t>: 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encontraréis un niño envuelto en pañales y acostado en un pese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105520"/>
            <a:ext cx="8915400" cy="1465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a señal es un niño pobre. El nacimiento de Jesús tiene plena actualidad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¡HOY es el momento oportuno en que Dios se nos ofrece como Buena Noticia, como alegría, salvación  y paz!. Ahora, en este instante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HOY nos confía la misión de repartir bondad,  ilusión, esperanza, solidaridad..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Navidad nos invita a tener el valor de ser pequeñ@s. Jesús nos ense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ngel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551400" cy="1716120"/>
          </a:xfrm>
          <a:prstGeom prst="rect">
            <a:avLst/>
          </a:prstGeom>
          <a:ln w="0">
            <a:noFill/>
          </a:ln>
        </p:spPr>
      </p:pic>
      <p:pic>
        <p:nvPicPr>
          <p:cNvPr id="60" name="angel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3581640" cy="1716120"/>
          </a:xfrm>
          <a:prstGeom prst="rect">
            <a:avLst/>
          </a:prstGeom>
          <a:ln w="0">
            <a:noFill/>
          </a:ln>
        </p:spPr>
      </p:pic>
      <p:pic>
        <p:nvPicPr>
          <p:cNvPr id="61" name="estrella" descr=""/>
          <p:cNvPicPr/>
          <p:nvPr/>
        </p:nvPicPr>
        <p:blipFill>
          <a:blip r:embed="rId3"/>
          <a:stretch/>
        </p:blipFill>
        <p:spPr>
          <a:xfrm>
            <a:off x="228600" y="244440"/>
            <a:ext cx="1752480" cy="1663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15228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Y de repente se juntó al ángel una multitud del ejército celestial, que alababa a Dios diciendo: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¡Gloria a Dio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n las alturas y en la tierra paz a los hombres que goza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 su amor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1814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a gloria de Dios era vinculada hasta ahora al marco sacro y grandioso del templo. Desde ahora se manifiesta en ese niño del pesebre y en lo que él repres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Se trata de la mejor Noticia, causa de la mayor alegría. No se manifiesta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alardes ni prodigios, sino en signos sencillos y humildes: el quehacer diario,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a convivencia familiar y social, las obras de paz, justicia y am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LUETA%20brazos%20alto%20S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1066680"/>
            <a:ext cx="8686800" cy="558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s han dicho que quieres volver a nacer otra vez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ra que eres loco ¿eh?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Pero no ves lo que somos y lo que estamos haciendo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, sin embargo, Tú quieres venir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a no sé si con tu gesto testarudo de volver cada Navidad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ás pretendiendo decirnos algo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el cielo está siempre abierto, que hay estrellas para guiar nuestros paso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hay ángeles humanos a nuestro lado, que podemos hacernos tiernos como niños, que el mundo puede ser nuevo y que Dios es Padre y Madre en nuestro desconciert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nadamos en abundancia mientras hay personas, hermanas nuestras y tuyas, que sufren hambre de pan, de cultura, de cariño, de libertad, de dignidad..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tenemos un mensaje que se llama Evangelio, que todavía no es Buena Noticia para tod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nos preocupamos mucho por nosotr@s y nos justificamos dando limosn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 es así, Jesús, ven a nuestras casas esta Navidad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en a nuestra ciudad, ven a nuestro grupo, ven a nuestro mund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ven, antes que nada, a nuestro coraz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Ulibarri, F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81080" y="304920"/>
            <a:ext cx="3276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¡Mira que eres loco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6:49:11Z</dcterms:created>
  <dc:creator> Asun Gutiérrez</dc:creator>
  <dc:description/>
  <dc:language>en-US</dc:language>
  <cp:lastModifiedBy>Usuario</cp:lastModifiedBy>
  <dcterms:modified xsi:type="dcterms:W3CDTF">2009-12-21T14:38:47Z</dcterms:modified>
  <cp:revision>10</cp:revision>
  <dc:subject>jeasam@gmail.com</dc:subject>
  <dc:title>Natividad de Jesús. 24-12-2009</dc:title>
</cp:coreProperties>
</file>