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zarzuela%20-%20luis%20cobos%20-%20pasodobles%20-%20suspiros%20de%20espa%C3%B1a%20y%20otros%20(popurri).wav" ContentType="audio/x-wav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892-BDF1-4018-9103-328B3957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52B-4481-46E5-875A-2C97EC8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EFA-278A-4053-ACA0-FA96685B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3A1-7BE6-4AE2-9EFA-4163758A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434-D030-4E6A-8C66-DB472384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B4C-3B71-4E59-A68B-CC39F9BE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4E4-1659-48A5-B311-097E43F2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0F0-E382-4CAA-BE2E-E093973D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CFC-CC21-4E12-96E1-A404EA81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312-4F94-4E57-85F9-3C0416B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366-9011-4FD0-BED0-453B213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6F4-98CB-4AF9-ACED-7833EF5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414-7668-42B4-A2E8-F2724357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rzuela%20-%20luis%20cobos%20-%20pasodobles%20-%20suspiros%20de%20espa&#241;a%20y%20otros%20(popurri)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55736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4240" y="1557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981000"/>
            <a:ext cx="720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40720" y="1557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AB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14680" y="223920"/>
            <a:ext cx="5715000" cy="641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28920" y="122400"/>
            <a:ext cx="4289400" cy="661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07960"/>
            <a:ext cx="7619760" cy="584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717480"/>
            <a:ext cx="7619760" cy="5423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44720" y="217440"/>
            <a:ext cx="5235480" cy="6423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270080"/>
            <a:ext cx="7619760" cy="431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14680" y="614520"/>
            <a:ext cx="5715000" cy="5628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" y="376200"/>
            <a:ext cx="4643280" cy="602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 rot="5400000">
            <a:off x="3193920" y="3055680"/>
            <a:ext cx="566100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OTRA CAR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5265000" y="3095640"/>
            <a:ext cx="566100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SAN FERMÍ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6617880" y="2935440"/>
            <a:ext cx="105084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D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581040"/>
            <a:ext cx="5715000" cy="569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509760"/>
            <a:ext cx="4572000" cy="58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19000"/>
            <a:ext cx="7619760" cy="522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81400" y="123840"/>
            <a:ext cx="4363920" cy="662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71680" y="115920"/>
            <a:ext cx="4383000" cy="6621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060560"/>
            <a:ext cx="7619760" cy="473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 rot="5400000">
            <a:off x="1418760" y="4024080"/>
            <a:ext cx="1743120" cy="927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Times New Roman"/>
              </a:rPr>
              <a:t>FI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5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495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60600" y="262080"/>
            <a:ext cx="4208400" cy="631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825480"/>
            <a:ext cx="761976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84240"/>
            <a:ext cx="7619760" cy="488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36560"/>
            <a:ext cx="7619760" cy="538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54120"/>
            <a:ext cx="7619760" cy="5549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6:23:14Z</dcterms:created>
  <dc:creator>Gabriel</dc:creator>
  <dc:description/>
  <dc:language>en-US</dc:language>
  <cp:lastModifiedBy>pc</cp:lastModifiedBy>
  <dcterms:modified xsi:type="dcterms:W3CDTF">2008-09-15T15:45:48Z</dcterms:modified>
  <cp:revision>3</cp:revision>
  <dc:subject/>
  <dc:title>Diapositiva 1</dc:title>
</cp:coreProperties>
</file>