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zarzuela%20-%20luis%20cobos%20-%20pasodobles%20-%20suspiros%20de%20espa%C3%B1a%20y%20otros%20(popurri).wav" ContentType="audio/x-wav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2EE-18C6-4F23-915F-AA712EA5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AFA-ACA4-48A0-A2E5-D8B6FD31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CF3-D483-46C8-AC6B-683DA012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838-6936-48FF-A9DC-79953FED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E03-1E21-4BE3-9A87-924EF6A9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675-A8CB-4EF2-9BCA-0170164C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517-2387-4B63-8BAD-B515349D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FCA-56F9-4878-9DA8-4C7B9EB1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02B-2C7B-4F2E-9F6E-31FE34A3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1DA-D438-45E0-90E1-3B196E5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3E8-3E0C-4C35-8546-BD414224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170-EFC6-4468-A14F-7C07E146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FEF1-FA8D-4566-A723-FFB49B209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rzuela%20-%20luis%20cobos%20-%20pasodobles%20-%20suspiros%20de%20espa&#241;a%20y%20otros%20(popurri)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7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55736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4240" y="1557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I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981000"/>
            <a:ext cx="720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40720" y="1557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TAB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14680" y="223920"/>
            <a:ext cx="5715000" cy="641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28920" y="122400"/>
            <a:ext cx="4289400" cy="661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07960"/>
            <a:ext cx="7619760" cy="584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717480"/>
            <a:ext cx="7619760" cy="542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44720" y="217440"/>
            <a:ext cx="5235480" cy="642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270080"/>
            <a:ext cx="7619760" cy="431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14680" y="614520"/>
            <a:ext cx="5715000" cy="5628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600" y="376200"/>
            <a:ext cx="4643280" cy="602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 rot="5400000">
            <a:off x="3193920" y="3055680"/>
            <a:ext cx="5661000" cy="695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OTRA CAR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5265000" y="3095640"/>
            <a:ext cx="566100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SAN FERMÍN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6617880" y="2935440"/>
            <a:ext cx="105084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DE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14680" y="581040"/>
            <a:ext cx="5715000" cy="569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0" y="509760"/>
            <a:ext cx="4572000" cy="58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819000"/>
            <a:ext cx="7619760" cy="522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81400" y="123840"/>
            <a:ext cx="4363920" cy="662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71680" y="115920"/>
            <a:ext cx="4383000" cy="662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901800"/>
            <a:ext cx="7619760" cy="505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77800"/>
            <a:ext cx="7619760" cy="570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060560"/>
            <a:ext cx="7619760" cy="473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 rot="5400000">
            <a:off x="1418760" y="4024080"/>
            <a:ext cx="1743120" cy="927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FIN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5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495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60600" y="262080"/>
            <a:ext cx="4208400" cy="631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825480"/>
            <a:ext cx="761976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984240"/>
            <a:ext cx="7619760" cy="488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736560"/>
            <a:ext cx="7619760" cy="538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54120"/>
            <a:ext cx="7619760" cy="554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6:23:14Z</dcterms:created>
  <dc:creator>Gabriel</dc:creator>
  <dc:description/>
  <dc:language>en-US</dc:language>
  <cp:lastModifiedBy>pc</cp:lastModifiedBy>
  <dcterms:modified xsi:type="dcterms:W3CDTF">2008-09-15T15:45:48Z</dcterms:modified>
  <cp:revision>3</cp:revision>
  <dc:subject/>
  <dc:title>Diapositiva 1</dc:title>
</cp:coreProperties>
</file>