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Ria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98B-2297-49E6-986D-D90D222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7F4-059A-43D7-8A06-AAA7781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3F5-0400-490D-8675-4AEB4120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CDD-ADBF-47C6-8451-9296F8EB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581-E25A-446D-AFA0-58DF2536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5A0-0553-4F09-9FEE-C985668A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4A5-8812-4E30-AABA-1E22AC0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505-5CB4-40F1-B8FF-00411D7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0F7-80EE-4DA4-AC78-90A97C3C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E63-2293-41C4-9592-B1C7324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A63-BD2C-44CA-A92F-B9A360A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067-82D9-45B6-AB27-70A4D44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A48-02A4-4807-9EEA-A1ACD402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a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762120" y="252000"/>
            <a:ext cx="76197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Papyrus"/>
              </a:rPr>
              <a:t>Una vez  iba un hombre en su auto por una larga y muy solitaria carretera cuando de pronto su auto comenzó a detenerse hasta quedar estátic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Papyrus"/>
              </a:rPr>
              <a:t>El hombre bajó, lo revisó, trató de averiguar qué era lo que tení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ffffff"/>
                </a:solidFill>
                <a:latin typeface="Bradley Hand ITC"/>
              </a:rPr>
              <a:t>SI TE GUSTÓ ESTE MENSAJE,  ENVÍALO  A LAS PERSONAS QUE APRECIES MUCHO PARA QUE DIOS LES BENDIGA AL IGUAL QUE TE BENDIJO A T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Pensaba que pronto podría encontrar el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desperfecto</a:t>
            </a: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  que tenía su auto pues hacía muchos años que lo conducía; sin embargo, después de mucho rato se dio cuenta de que no encontraba la falla del mo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En ese momento apareció otro auto, del cual bajó un señor a ofrecerle ayu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Papyrus"/>
              </a:rPr>
              <a:t>El dueño del primer auto dijo: </a:t>
            </a:r>
            <a:br>
              <a:rPr sz="36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533520" y="1080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600" spc="-1" strike="noStrike">
                <a:solidFill>
                  <a:srgbClr val="ffffff"/>
                </a:solidFill>
                <a:latin typeface="Papyrus"/>
              </a:rPr>
              <a:t>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Mir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e, 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éste es mi auto de toda la vida, lo conozco como la palma de mi ma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No creo que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usted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sin ser el dueño pueda o sepa hacer al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l otro hombre insistió con una cierta sonrisa, hasta que finalmente el primer hombre dijo:</a:t>
            </a:r>
            <a:br>
              <a:rPr sz="3600"/>
            </a:b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  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stá bien, ha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ga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el intento, pero no creo que pueda, pues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és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te es mi au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62120" y="-270720"/>
            <a:ext cx="761976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segundo hombre echó manos a la obra y en pocos minutos encontró el daño que tenía el auto y lo pudo arran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primer hombre quedó atónito y preguntó:</a:t>
            </a:r>
            <a:br>
              <a:rPr sz="4000"/>
            </a:b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  --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¿Cómo pud</a:t>
            </a: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o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arreglar el fallo si es </a:t>
            </a:r>
            <a:r>
              <a:rPr b="0" lang="es-DO" sz="4000" spc="-1" strike="noStrike">
                <a:solidFill>
                  <a:srgbClr val="ffffff"/>
                </a:solidFill>
                <a:latin typeface="Papyrus"/>
              </a:rPr>
              <a:t>mi</a:t>
            </a: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 au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Papyrus"/>
              </a:rPr>
              <a:t>El segundo hombre contestó: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3526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33520" y="-16200"/>
            <a:ext cx="815328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--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 Verá, mi nombre es Félix Wankel... Yo inventé el motor rotativo que usa 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s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u auto…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Cuántas veces decimo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Esta es MI vida; Este es MI destino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; E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sta es MI casa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¡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Déjenme a mí, sólo yo puedo resolver el problema! Al enfrentarnos a los problemas y a los días difíciles creemos que nadie nos podrá ayudar pues "</a:t>
            </a:r>
            <a:r>
              <a:rPr b="1" lang="es-DO" sz="3600" spc="-1" strike="noStrike">
                <a:solidFill>
                  <a:srgbClr val="ffffff"/>
                </a:solidFill>
                <a:latin typeface="Papyrus"/>
              </a:rPr>
              <a:t>E</a:t>
            </a:r>
            <a:r>
              <a:rPr b="1" lang="es-ES" sz="3600" spc="-1" strike="noStrike">
                <a:solidFill>
                  <a:srgbClr val="ffffff"/>
                </a:solidFill>
                <a:latin typeface="Papyrus"/>
              </a:rPr>
              <a:t>sta es MI vida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Pero... Te voy a hacer unas preguntas: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hizo la vida?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hizo el tiempo?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¿Quién creó la familia?</a:t>
            </a:r>
            <a:r>
              <a:rPr b="0" lang="es-ES" sz="4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Sólo aquel que es el autor de la vida y el amor, puede ayudarte cuando te quedes tirado en la carretera de la vida.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Papyrus"/>
              </a:rPr>
              <a:t>Te doy sus datos por si alguna vez necesitas un buen "mecánico</a:t>
            </a:r>
            <a:r>
              <a:rPr b="0" lang="es-ES" sz="4400" spc="-1" strike="noStrike">
                <a:solidFill>
                  <a:srgbClr val="ffffff"/>
                </a:solidFill>
                <a:latin typeface="Papyrus"/>
              </a:rPr>
              <a:t>"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Nombre del mecánico del alma:   DIOS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Dirección:   El Cielo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Horario:   </a:t>
            </a:r>
            <a:r>
              <a:rPr b="1" lang="es-ES" sz="4800" spc="-1" strike="noStrike">
                <a:solidFill>
                  <a:srgbClr val="ffff00"/>
                </a:solidFill>
                <a:latin typeface="Papyrus"/>
              </a:rPr>
              <a:t>24 </a:t>
            </a: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horas al día, </a:t>
            </a:r>
            <a:r>
              <a:rPr b="1" lang="es-ES" sz="4400" spc="-1" strike="noStrike">
                <a:solidFill>
                  <a:srgbClr val="ffff00"/>
                </a:solidFill>
                <a:latin typeface="Papyrus"/>
              </a:rPr>
              <a:t>365 </a:t>
            </a:r>
            <a:r>
              <a:rPr b="1" lang="es-ES" sz="3200" spc="-1" strike="noStrike">
                <a:solidFill>
                  <a:srgbClr val="ffff00"/>
                </a:solidFill>
                <a:latin typeface="Papyrus"/>
              </a:rPr>
              <a:t>días al año por toda la etern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0574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Garantía:     Por todos los siglos.</a:t>
            </a:r>
            <a:br>
              <a:rPr sz="4000"/>
            </a:br>
            <a:r>
              <a:rPr b="0" lang="es-ES" sz="1100" spc="-1" strike="noStrike">
                <a:solidFill>
                  <a:srgbClr val="ffff00"/>
                </a:solidFill>
                <a:latin typeface="Papyrus"/>
              </a:rPr>
              <a:t>.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Respaldo:         Eterno.</a:t>
            </a:r>
            <a:br>
              <a:rPr sz="4000"/>
            </a:br>
            <a:r>
              <a:rPr b="0" lang="es-ES" sz="1100" spc="-1" strike="noStrike">
                <a:solidFill>
                  <a:srgbClr val="ffff00"/>
                </a:solidFill>
                <a:latin typeface="Papyrus"/>
              </a:rPr>
              <a:t>.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Papyrus"/>
              </a:rPr>
              <a:t>Teléfono:     No tiene.    Pero basta con que pienses en  Él   con fe,  además de que esta línea no está nunca ocup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1:00:54Z</dcterms:created>
  <dc:creator>AntCardo</dc:creator>
  <dc:description/>
  <dc:language>en-US</dc:language>
  <cp:lastModifiedBy>JCS</cp:lastModifiedBy>
  <dcterms:modified xsi:type="dcterms:W3CDTF">2008-05-05T16:18:21Z</dcterms:modified>
  <cp:revision>12</cp:revision>
  <dc:subject/>
  <dc:title>El Zapatero</dc:title>
</cp:coreProperties>
</file>