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Ria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814-302D-4B3E-8AD9-1B0FAE13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5C7-8E90-4707-9815-50FC979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74B-AC7D-4E68-B4D0-D1DFA831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D03-8072-474F-AD8D-2A48A0A8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345-7DF5-4422-B5A4-158A1EB8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0A9-D8E0-4FA9-9CF1-DD7F53A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0DF-D0AB-4530-ADC0-4AFF515B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6C4-C690-4A9B-A2C1-5042203D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F2F-E508-45AD-A489-1B2EEA6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43F-FCA6-47E6-B4F0-6ED7B05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424-6508-4EDC-B3CF-1E0AC45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24B-FEC1-4CCB-8A6D-99F2111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D36F-59E2-482C-B1F0-C7479FB7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a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762120" y="252000"/>
            <a:ext cx="76197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Papyrus"/>
              </a:rPr>
              <a:t>Una vez  iba un hombre en su auto por una larga y muy solitaria carretera cuando de pronto su auto comenzó a detenerse hasta quedar está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Papyrus"/>
              </a:rPr>
              <a:t>El hombre bajó, lo revisó, trató de averiguar qué era lo que tení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Bradley Hand ITC"/>
              </a:rPr>
              <a:t>SI TE GUSTÓ ESTE MENSAJE,  ENVÍALO  A LAS PERSONAS QUE APRECIES MUCHO PARA QUE DIOS LES BENDIGA AL IGUAL QUE TE BENDIJO A 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Pensaba que pronto podría encontrar el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desperfecto</a:t>
            </a: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  que tenía su auto pues hacía muchos años que lo conducía; sin embargo, después de mucho rato se dio cuenta de que no encontraba la falla del mo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En ese momento apareció otro auto, del cual bajó un señor a ofrecerle ayu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El dueño del primer auto dijo: </a:t>
            </a:r>
            <a:br>
              <a:rPr sz="36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533520" y="108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Papyrus"/>
              </a:rPr>
              <a:t>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Mir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e, 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éste es mi auto de toda la vida, lo conozco como la palma de mi ma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No creo que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usted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sin ser el dueño pueda o sepa hacer al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l otro hombre insistió con una cierta sonrisa, hasta que finalmente el primer hombre dijo:</a:t>
            </a:r>
            <a:br>
              <a:rPr sz="3600"/>
            </a:b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  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stá bien, ha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ga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el intento, pero no creo que pueda, pues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és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te es mi au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62120" y="-270720"/>
            <a:ext cx="761976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segundo hombre echó manos a la obra y en pocos minutos encontró el daño que tenía el auto y lo pudo arran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primer hombre quedó atónito y preguntó:</a:t>
            </a:r>
            <a:br>
              <a:rPr sz="4000"/>
            </a:b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  --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¿Cómo pud</a:t>
            </a: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o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arreglar el fallo si es </a:t>
            </a: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mi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au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segundo hombre contestó: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3526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33520" y="-16200"/>
            <a:ext cx="815328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Verá, mi nombre es Félix Wankel... Yo inventé el motor rotativo que usa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s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u auto…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Cuántas veces decim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sta es MI vida; Este es MI destino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; E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sta es MI cas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¡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Déjenme a mí, sólo yo puedo resolver el problema! Al enfrentarnos a los problemas y a los días difíciles creemos que nadie nos podrá ayudar pues "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E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sta es MI vida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Pero... Te voy a hacer unas preguntas: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hizo la vida?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hizo el tiempo?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creó la familia?</a:t>
            </a:r>
            <a:r>
              <a:rPr b="0" lang="es-ES" sz="4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Sólo aquel que es el autor de la vida y el amor, puede ayudarte cuando te quedes tirado en la carretera de la vida.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Te doy sus datos por si alguna vez necesitas un buen "mecánico</a:t>
            </a: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"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Nombre del mecánico del alma:   DIOS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Dirección:   El Cielo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Horario:   </a:t>
            </a:r>
            <a:r>
              <a:rPr b="1" lang="es-ES" sz="4800" spc="-1" strike="noStrike">
                <a:solidFill>
                  <a:srgbClr val="ffff00"/>
                </a:solidFill>
                <a:latin typeface="Papyrus"/>
              </a:rPr>
              <a:t>24 </a:t>
            </a: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horas al día, </a:t>
            </a:r>
            <a:r>
              <a:rPr b="1" lang="es-ES" sz="4400" spc="-1" strike="noStrike">
                <a:solidFill>
                  <a:srgbClr val="ffff00"/>
                </a:solidFill>
                <a:latin typeface="Papyrus"/>
              </a:rPr>
              <a:t>365 </a:t>
            </a: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días al año por toda la eter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0574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Garantía:     Por todos los siglos.</a:t>
            </a:r>
            <a:br>
              <a:rPr sz="4000"/>
            </a:br>
            <a:r>
              <a:rPr b="0" lang="es-ES" sz="1100" spc="-1" strike="noStrike">
                <a:solidFill>
                  <a:srgbClr val="ffff00"/>
                </a:solidFill>
                <a:latin typeface="Papyrus"/>
              </a:rPr>
              <a:t>.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Respaldo:         Eterno.</a:t>
            </a:r>
            <a:br>
              <a:rPr sz="4000"/>
            </a:br>
            <a:r>
              <a:rPr b="0" lang="es-ES" sz="1100" spc="-1" strike="noStrike">
                <a:solidFill>
                  <a:srgbClr val="ffff00"/>
                </a:solidFill>
                <a:latin typeface="Papyrus"/>
              </a:rPr>
              <a:t>.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Teléfono:     No tiene.    Pero basta con que pienses en  Él   con fe,  además de que esta línea no está nunca ocup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1:00:54Z</dcterms:created>
  <dc:creator>AntCardo</dc:creator>
  <dc:description/>
  <dc:language>en-US</dc:language>
  <cp:lastModifiedBy>JCS</cp:lastModifiedBy>
  <dcterms:modified xsi:type="dcterms:W3CDTF">2008-05-05T16:18:21Z</dcterms:modified>
  <cp:revision>12</cp:revision>
  <dc:subject/>
  <dc:title>El Zapatero</dc:title>
</cp:coreProperties>
</file>