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07B-3B4D-403B-B925-B7AAC4D8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D6B-A819-4D15-A088-FBF88A98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A83-4B7D-4499-BFAA-BBC99ACD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869-7206-4A4B-AD04-C7F2AFBB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3D1-5535-4684-B50C-3323F15B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4FE-1053-47A7-BE3C-56F4D594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E95-1C6E-4C2E-932B-9F923DC9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08E-DA68-4E40-A0B8-DCDA380B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049-FD9D-436F-8D91-120BFF21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451-8E3E-4F91-84DD-578FE596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3E1-4C58-4457-A2D5-95C2906E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166-ABDF-4A6B-92C4-D63495A4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9573-71C3-4F94-92A8-27D4BDC849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9144000" cy="25207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nstantia"/>
              </a:rPr>
              <a:t>Netanya</a:t>
            </a:r>
            <a:br>
              <a:rPr sz="8800"/>
            </a:b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srael 200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re is nothing lik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Netanya's 14 km of golden be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38840" y="1673280"/>
            <a:ext cx="264960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Netanya- The Sports City of Isra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19280" y="5660640"/>
            <a:ext cx="752472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dle Ball World Championship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7640" y="765000"/>
            <a:ext cx="6337440" cy="12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each Soccer Championship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srael vs. Brazil, July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92720" y="2507760"/>
            <a:ext cx="360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Volleyball on the bea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149360"/>
            <a:ext cx="9144000" cy="252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etanya's Triathlon 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triathlon competition which takes place once a year in Netanya crosses the city's nature reserves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Iris Reserv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0240" y="5670720"/>
            <a:ext cx="5832360" cy="8539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Winter Pond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6697800" cy="86364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Poleg Nature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9144000" cy="121464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etanya also offers you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an active night lif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92720" y="1197000"/>
            <a:ext cx="3527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ituated in the center of Israel, located in the Sharon region</a:t>
            </a:r>
            <a:r>
              <a:rPr b="1" lang="he-IL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nd the 8th biggest city in Israel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5994360" cy="4562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189000"/>
            <a:ext cx="2737080" cy="131292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reet Theater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419640" y="2421000"/>
            <a:ext cx="5472000" cy="41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72360" y="5373720"/>
            <a:ext cx="2592360" cy="131292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rt and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092640"/>
            <a:ext cx="9144000" cy="765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erzl  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n outdoor event at 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afés and Restaur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12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Various festivals where you can discover the beauty of Netan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717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9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Netanya invites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205000"/>
            <a:ext cx="3671640" cy="76428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72428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nstantia"/>
              </a:rPr>
              <a:t>And to FALL in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3429000"/>
            <a:ext cx="3168720" cy="76428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o ENJ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451640" y="5460840"/>
            <a:ext cx="136836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860640"/>
            <a:ext cx="9144000" cy="25927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etanya is located on the coastal p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long the Mediterranean S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5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 above the s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haracterized by gravel clif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437000"/>
            <a:ext cx="9144000" cy="2232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Netanya has the longest promenade in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srael - runs along over 9 k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f stunning sea view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5013360"/>
            <a:ext cx="6408720" cy="70344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Shaked Promenad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20640"/>
            <a:ext cx="7380360" cy="70344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Galei Yam Promenad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5418000"/>
            <a:ext cx="9144000" cy="1440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Cliff Promenad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inner of the “Israel Realization Priz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4076640"/>
            <a:ext cx="9144000" cy="1689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alking down the stairs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promenade to the bea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212640"/>
            <a:ext cx="9144000" cy="129564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r in our unique elevator to the bea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39:00Z</dcterms:created>
  <dc:creator>Yaara_K</dc:creator>
  <dc:description/>
  <dc:language>en-US</dc:language>
  <cp:lastModifiedBy>Yaara_K</cp:lastModifiedBy>
  <dcterms:modified xsi:type="dcterms:W3CDTF">2009-12-24T07:15:14Z</dcterms:modified>
  <cp:revision>15</cp:revision>
  <dc:subject/>
  <dc:title>Netanya Israel 2009</dc:title>
</cp:coreProperties>
</file>