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8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D5D-F901-4570-B680-52070232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089-FB2E-4148-A953-01CBB1DD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05E-A2A4-453F-B301-AC0AD904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6D5-4625-485B-96D4-99180274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1D1-1ABF-4C64-B88C-5C8E2CA3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E1F-7268-4BBE-94C3-284C051F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FBB-C240-4ECC-9111-B2310C47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D14-C31D-4A0E-A3A6-A17BD033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58E-8940-4BA3-8209-73428D82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AF2-9505-443E-939E-D3CD4708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8E7B-92E8-4882-95DA-7A881619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163-4232-4E33-979E-9998DB27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704F-945B-430C-9927-076E99F2F56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21000"/>
            <a:ext cx="9144000" cy="25207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nstantia"/>
              </a:rPr>
              <a:t>Netanya</a:t>
            </a:r>
            <a:br>
              <a:rPr sz="8800"/>
            </a:b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Israel 200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5444640"/>
            <a:ext cx="9144000" cy="141300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re is nothing like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Netanya's 14 km of golden be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38840" y="1673280"/>
            <a:ext cx="264960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Netanya- The Sports City of Isra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19280" y="5660640"/>
            <a:ext cx="752472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dle Ball World Championship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47640" y="765000"/>
            <a:ext cx="6337440" cy="122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Beach Soccer Championship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Israel vs. Brazil, July 20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92720" y="2507760"/>
            <a:ext cx="3600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Volleyball on the beac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149360"/>
            <a:ext cx="9144000" cy="2521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Netanya's Triathlon 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triathlon competition which takes place once a year in Netanya crosses the city's nature reserves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he Iris Reserv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0240" y="5670720"/>
            <a:ext cx="5832360" cy="8539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he Winter Pond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0" y="980640"/>
            <a:ext cx="6697800" cy="863640"/>
          </a:xfrm>
          <a:prstGeom prst="rect">
            <a:avLst/>
          </a:prstGeom>
          <a:solidFill>
            <a:srgbClr val="bbe0e3">
              <a:alpha val="85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he Poleg Nature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933720"/>
            <a:ext cx="9144000" cy="1214640"/>
          </a:xfrm>
          <a:prstGeom prst="rect">
            <a:avLst/>
          </a:prstGeom>
          <a:solidFill>
            <a:srgbClr val="bbe0e3">
              <a:alpha val="8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Netanya also offers you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an active night life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92720" y="1197000"/>
            <a:ext cx="3527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ituated in the center of Israel, located in the Sharon region</a:t>
            </a:r>
            <a:r>
              <a:rPr b="1" lang="he-IL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nd the 8th biggest city in Israel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5994360" cy="4562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189000"/>
            <a:ext cx="2737080" cy="1312920"/>
          </a:xfrm>
          <a:prstGeom prst="rect">
            <a:avLst/>
          </a:prstGeom>
          <a:solidFill>
            <a:srgbClr val="bbe0e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treet Theater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419640" y="2421000"/>
            <a:ext cx="5472000" cy="41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72360" y="5373720"/>
            <a:ext cx="2592360" cy="1312920"/>
          </a:xfrm>
          <a:prstGeom prst="rect">
            <a:avLst/>
          </a:prstGeom>
          <a:solidFill>
            <a:srgbClr val="bbe0e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rt and 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7000"/>
                            </p:stCondLst>
                            <p:childTnLst>
                              <p:par>
                                <p:cTn id="2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092640"/>
            <a:ext cx="9144000" cy="76500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erzl  str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n outdoor event at n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660640"/>
            <a:ext cx="9144000" cy="119700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afés and Restaur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9144000" cy="12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Various festivals where you can discover the beauty of Netany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717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69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Netanya invites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205000"/>
            <a:ext cx="3671640" cy="764280"/>
          </a:xfrm>
          <a:prstGeom prst="rect">
            <a:avLst/>
          </a:prstGeom>
          <a:solidFill>
            <a:srgbClr val="bbe0e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To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724280"/>
            <a:ext cx="76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Constantia"/>
              </a:rPr>
              <a:t>And to FALL in LO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3429000"/>
            <a:ext cx="3168720" cy="764280"/>
          </a:xfrm>
          <a:prstGeom prst="rect">
            <a:avLst/>
          </a:prstGeom>
          <a:solidFill>
            <a:srgbClr val="bbe0e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To ENJ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451640" y="5460840"/>
            <a:ext cx="1368360" cy="11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3860640"/>
            <a:ext cx="9144000" cy="25927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etanya is located on the coastal pl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long the Mediterranean Sea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45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 above the sea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haracterized by gravel clif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4437000"/>
            <a:ext cx="9144000" cy="223200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Netanya has the longest promenade in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srael - runs along over 9 km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of stunning sea view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5013360"/>
            <a:ext cx="6408720" cy="70344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he Shaked Promenade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20640"/>
            <a:ext cx="7380360" cy="70344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he Galei Yam Promenade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5418000"/>
            <a:ext cx="9144000" cy="144000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The Cliff Promenade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inner of the “Israel Realization Prize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4076640"/>
            <a:ext cx="9144000" cy="168912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alking down the stairs 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promenade to the beac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212640"/>
            <a:ext cx="9144000" cy="129564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or in our unique elevator to the beac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39:00Z</dcterms:created>
  <dc:creator>Yaara_K</dc:creator>
  <dc:description/>
  <dc:language>en-US</dc:language>
  <cp:lastModifiedBy>Yaara_K</cp:lastModifiedBy>
  <dcterms:modified xsi:type="dcterms:W3CDTF">2009-12-24T07:15:14Z</dcterms:modified>
  <cp:revision>15</cp:revision>
  <dc:subject/>
  <dc:title>Netanya Israel 2009</dc:title>
</cp:coreProperties>
</file>