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4.jpeg" ContentType="image/jpeg"/>
  <Override PartName="/ppt/media/jose%20luis%20perales%20-%20que%20canten%20los%20ni%C3%B1os.wav" ContentType="audio/x-wav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A55E-A507-4FBF-9C85-E7833772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AA72-093A-4F5A-B49C-2AE2C6F6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DA65-570A-4EE9-B212-8678CED3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A413-94F1-4FC1-B679-17EE6A82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39A8-8A2E-4820-9C27-9EE720EF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CAD1-5662-4921-8EA3-1B1EE473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AF22-AB87-4714-9B72-4DC6D6FC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D80A-3148-4508-88FB-2E4788BA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BFA6-6408-4CFA-8D31-BF20F18A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D279-D89C-43CF-8194-CCE7E2D4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8804-25A0-4C4A-9E94-4615DA9C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D506-422F-4BDA-90E8-3EC27691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59EC-0FBE-4420-98FD-CF74A183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45AB-32F2-4859-9D64-1116365B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7999-42EB-4055-955F-4B2A46FF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FB3D-23F8-410A-BCD6-C98A363E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2A44-EAAA-481B-9B52-22067817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2687-4D60-4F2A-AB1D-72AF4D2A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18F4-5A7C-40E5-BA02-F3B3E2E8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56CD-EDD2-4444-A3F8-1171AD39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768E-58E3-4511-9973-05DD6217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0799-E82A-4487-AC3B-0AE38524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0949-E609-4644-A63D-60205D0D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BCF4-43D5-4293-AC05-C83BB610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7CC9-3053-4719-942C-E4478A5C0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205000"/>
            <a:ext cx="8134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9F89-0E1C-42D2-8DD4-B9DC59CF5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ose%20luis%20perales%20-%20que%20canten%20los%20ni&#241;o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66680" y="533520"/>
            <a:ext cx="70866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 los años vamos perdiendo la inocencia, que no es otra cosa que la sabiduría que nos regaló Dio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1" name="jose%20luis%20perales%20-%20que%20canten%20los%20ni%C3%B1o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140360" y="620640"/>
            <a:ext cx="43192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l día que las partes de la obra fueron repartidas, yo estaba en la escue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Jamie salió corriendo con los ojos brillant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n orgullo y emo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"Adivina qué mamá"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gritó y luego dijo las palabras que permanecerán como una lección para 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“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e sido elegido p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plaudir y animar".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3290760" cy="4897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067280" y="1125360"/>
            <a:ext cx="45352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Un niño de 10 años estaba parado frente a una tienda de zapatos en una calle, descalzo apuntando a través de la ventana y temblando de frío. Una señora se acercó al niño y le dijo:</a:t>
            </a: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"Mi pequeño amigo, ¿qué estas mirando con tanto interés en esa ventana?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"Le estaba pidiendo a Dios que me diera un par de zapatos"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fue la respuesta del ni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2495520" cy="46083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uarta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0" y="907920"/>
            <a:ext cx="388764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a señora lo tomó de la mano y entraron en la tienda. Le pidió al empleado media docena de pares de calcetines para el ni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reguntó si podía darle un recipiente con agua y una toalla. El empleado le trajo lo que pidió. Ella llevó al niño a la parte trasera de la tienda le lavó los pies y se los sec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327528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3860640"/>
            <a:ext cx="8209080" cy="24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ara entonces el empleado llegó con los calceti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a señora le puso un par al niño y le compró un par de zapatos. Juntó el resto de los calcetines y se los dió al niño. Le acarició la cabeza y le dij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“</a:t>
            </a: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¡No hay duda pequeño ami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que te sientes mas cómodo ahora!"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132000" y="692280"/>
            <a:ext cx="300852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0000" y="4221000"/>
            <a:ext cx="7272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uando ella daba la vuelta para irse, el niño le agarró la mano y mirándola con lágrimas en los ojos, le pregunt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“</a:t>
            </a:r>
            <a:r>
              <a:rPr b="0" i="1" lang="en-GB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¿Es usted la esposa de Dios?".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11280" y="1197000"/>
            <a:ext cx="4310280" cy="2584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3933720"/>
            <a:ext cx="77407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cuerda decir "Gracias"... Gracias Señor, por recibir este mensaje, porque me invita a la reflexión, y por la oportunidad que me das de enviarlo a otras person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 sobre todo, por darme amigos tan especiales y maravillosos con quien comparti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jalá no perdamos nunca la inocencia!!!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24000" y="549360"/>
            <a:ext cx="4967280" cy="3376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543640" cy="3695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71640" y="486900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Unicode MS"/>
              </a:rPr>
              <a:t>¡Que pases un grandioso dí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4724280"/>
            <a:ext cx="80643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l autor y orador Leo Buscaglia se le solicitó una v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que fuera parte del jurado en un concur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l propósito del concurso era encontr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l niño mas cariñ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79640" y="836640"/>
            <a:ext cx="4836960" cy="3492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775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Primera historia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11280" y="443700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El ganador fue un niño de 4 años, vecino de un anciano cuya esposa había fallecido reciente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El niño, al ver al anciano llorar en el patio de su casa, se acercó y se sentó en su regaz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00360" y="0"/>
            <a:ext cx="3672000" cy="4797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9640" y="4724280"/>
            <a:ext cx="8064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Cuando su mamá le preguntó qué le había dic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l vecino, el niño le contestó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Unicode MS"/>
              </a:rPr>
              <a:t>"Nada, sólo le ayudé a llorar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771640" y="836640"/>
            <a:ext cx="3541680" cy="3541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859280" y="1197000"/>
            <a:ext cx="3600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a maestra Debbie Moon estaba estudiando con su grupo de primer grado la pintura de una fami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n la pintura había un niño que tenía el cabello de color diferente al del resto de los miembros de la fami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3106800" cy="4608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egunda histo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427640" y="981000"/>
            <a:ext cx="403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o de los niños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upo sugirió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niño de la pin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ra adopt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onces, una niña del grupo le dij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"Yo sé todo de adopciones porque yo soy adoptada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¿Qué significa ser adoptado?"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guntó otro ni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301464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5640" y="4508640"/>
            <a:ext cx="7201080" cy="19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"Significa“ -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dijo la niña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"que tú creces en el corazón de tu mamá en lugar de crecer  en su vientre"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16381" r="-3458" b="12607"/>
          <a:stretch/>
        </p:blipFill>
        <p:spPr>
          <a:xfrm>
            <a:off x="2050920" y="836640"/>
            <a:ext cx="4897440" cy="3535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bbe0e3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4437000"/>
            <a:ext cx="7201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Jamie estaba intentando conseguir una p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n una obra en la escu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u mamá contaba que el niño había puesto s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razón en ello y ella temía que no fuera eleg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95640" y="907920"/>
            <a:ext cx="4495680" cy="3189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859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Tercera histo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22:02:07Z</dcterms:created>
  <dc:creator>**10</dc:creator>
  <dc:description/>
  <dc:language>en-US</dc:language>
  <cp:lastModifiedBy>Consuela</cp:lastModifiedBy>
  <dcterms:modified xsi:type="dcterms:W3CDTF">2010-04-22T16:28:29Z</dcterms:modified>
  <cp:revision>0</cp:revision>
  <dc:subject/>
  <dc:title>Alma de niño</dc:title>
</cp:coreProperties>
</file>