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4.jpeg" ContentType="image/jpeg"/>
  <Override PartName="/ppt/media/jose%20luis%20perales%20-%20que%20canten%20los%20ni%C3%B1os.wav" ContentType="audio/x-wav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5.gif" ContentType="image/gif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C93A-31DF-4E4D-AF8D-B9B6590EC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054F-D2CC-4686-AC9B-A6F34362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E98E-E866-427D-9473-EE3B00C8F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E0E7-E8B5-470B-B07D-2327F5A58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8A36-873B-434F-9A4A-A91042C5E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04AC-9A13-4B7D-9B03-03C2C661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47F3-10FA-422E-B850-47D1E627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924B-6FB8-4529-A4CD-B3AEA40A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01C6-C198-4C85-905E-86F4E2EB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4094-BD11-401B-9774-1C0523E6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17CE-B384-4A87-B2EF-DCA9CBD4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451A-C35F-4E06-B451-C0D64FE0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5F4D-D70C-482C-952D-93E9B3C2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2CBE-6801-488E-80B5-8D94E3CB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7A2C-644B-4DF2-B8E6-1CD0DB47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00A7-9D56-4513-8410-0ECF0858C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1991-8304-47CD-8233-CCE140E5D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E002-D58E-457D-B32C-8E00C0A9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D730-87A5-4EBB-B7D9-AF3DD981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EC85-81BD-4A84-AE0B-0539E11A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F759-B469-4831-9EF4-8D201476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BF94-5E94-4DC3-8F6D-A6B179F9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62E4-46CD-4303-841D-0C49069D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5770-4E10-44DC-AE89-7C2DB668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bbe0e3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6040-5288-442C-BB0E-C5263BF88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bbe0e3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205000"/>
            <a:ext cx="8134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DFED-A1A9-4F1B-AE22-7BA3B0011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ose%20luis%20perales%20-%20que%20canten%20los%20ni&#241;os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bbe0e3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66680" y="533520"/>
            <a:ext cx="70866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 los años vamos perdiendo la inocencia, que no es otra cosa que la sabiduría que nos regaló Dio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1" name="jose%20luis%20perales%20-%20que%20canten%20los%20ni%C3%B1o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bbe0e3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140360" y="620640"/>
            <a:ext cx="43192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l día que las partes de la obra fueron repartidas, yo estaba en la escue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Jamie salió corriendo con los ojos brillant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n orgullo y emo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"Adivina qué mamá"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gritó y luego dijo las palabras que permanecerán como una lección para m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“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e sido elegido pa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plaudir y animar".</a:t>
            </a:r>
            <a:r>
              <a:rPr b="0" i="1" lang="en-GB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3290760" cy="4897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bbe0e3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067280" y="1125360"/>
            <a:ext cx="45352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Un niño de 10 años estaba parado frente a una tienda de zapatos en una calle, descalzo apuntando a través de la ventana y temblando de frío. Una señora se acercó al niño y le dijo:</a:t>
            </a:r>
            <a:r>
              <a:rPr b="0" i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"Mi pequeño amigo, ¿qué estas mirando con tanto interés en esa ventana?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"Le estaba pidiendo a Dios que me diera un par de zapatos"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, fue la respuesta del ni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2495520" cy="46083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uarta his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bbe0e3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0" y="907920"/>
            <a:ext cx="388764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La señora lo tomó de la mano y entraron en la tienda. Le pidió al empleado media docena de pares de calcetines para el ni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reguntó si podía darle un recipiente con agua y una toalla. El empleado le trajo lo que pidió. Ella llevó al niño a la parte trasera de la tienda le lavó los pies y se los sec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3275280" cy="4824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bbe0e3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9640" y="3860640"/>
            <a:ext cx="8209080" cy="24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ara entonces el empleado llegó con los calceti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La señora le puso un par al niño y le compró un par de zapatos. Juntó el resto de los calcetines y se los dió al niño. Le acarició la cabeza y le dij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“</a:t>
            </a:r>
            <a:r>
              <a:rPr b="0" i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¡No hay duda pequeño ami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que te sientes mas cómodo ahora!"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132000" y="692280"/>
            <a:ext cx="300852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bbe0e3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00000" y="4221000"/>
            <a:ext cx="7272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uando ella daba la vuelta para irse, el niño le agarró la mano y mirándola con lágrimas en los ojos, le pregunt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“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¿Es usted la esposa de Dios?".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411280" y="1197000"/>
            <a:ext cx="4310280" cy="2584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bbe0e3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1280" y="3933720"/>
            <a:ext cx="77407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ecuerda decir "Gracias"... Gracias Señor, por recibir este mensaje, porque me invita a la reflexión, y por la oportunidad que me das de enviarlo a otras person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y sobre todo, por darme amigos tan especiales y maravillosos con quien comparti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Ojalá no perdamos nunca la inocencia!!!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124000" y="549360"/>
            <a:ext cx="4967280" cy="3376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bbe0e3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543640" cy="36957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71640" y="486900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Unicode MS"/>
              </a:rPr>
              <a:t>¡Que pases un grandioso día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bbe0e3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bbe0e3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8360" y="4724280"/>
            <a:ext cx="806436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l autor y orador Leo Buscaglia se le solicitó una v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que fuera parte del jurado en un concur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l propósito del concurso era encontr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l niño mas cariñ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979640" y="836640"/>
            <a:ext cx="4836960" cy="3492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7756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Primera historia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bbe0e3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11280" y="4437000"/>
            <a:ext cx="82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El ganador fue un niño de 4 años, vecino de un anciano cuya esposa había fallecido reciente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El niño, al ver al anciano llorar en el patio de su casa, se acercó y se sentó en su regaz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700360" y="0"/>
            <a:ext cx="3672000" cy="4797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bbe0e3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9640" y="4724280"/>
            <a:ext cx="8064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Cuando su mamá le preguntó qué le había dic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al vecino, el niño le contestó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"Nada, sólo le ayudé a llorar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771640" y="836640"/>
            <a:ext cx="3541680" cy="3541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bbe0e3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859280" y="1197000"/>
            <a:ext cx="3600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La maestra Debbie Moon estaba estudiando con su grupo de primer grado la pintura de una famil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n la pintura había un niño que tenía el cabello de color diferente al del resto de los miembros de la famil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3106800" cy="46087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Segunda histo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bbe0e3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427640" y="981000"/>
            <a:ext cx="403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o de los niños 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upo sugirió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niño de la pin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ra adopt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tonces, una niña del grupo le dij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"Yo sé todo de adopciones porque yo soy adoptada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¿Qué significa ser adoptado?"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guntó otro ni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3014640" cy="4319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bbe0e3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5640" y="4508640"/>
            <a:ext cx="7201080" cy="19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"Significa“ -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dijo la niña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"que tú creces en el corazón de tu mamá en lugar de crecer  en su vientre"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16381" r="-3458" b="12607"/>
          <a:stretch/>
        </p:blipFill>
        <p:spPr>
          <a:xfrm>
            <a:off x="2050920" y="836640"/>
            <a:ext cx="4897440" cy="3535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bbe0e3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4437000"/>
            <a:ext cx="72010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Jamie estaba intentando conseguir una p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n una obra en la escue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u mamá contaba que el niño había puesto s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razón en ello y ella temía que no fuera eleg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95640" y="907920"/>
            <a:ext cx="4495680" cy="31892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859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Tercera histo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22:02:07Z</dcterms:created>
  <dc:creator>**10</dc:creator>
  <dc:description/>
  <dc:language>en-US</dc:language>
  <cp:lastModifiedBy>Consuela</cp:lastModifiedBy>
  <dcterms:modified xsi:type="dcterms:W3CDTF">2010-04-22T16:28:29Z</dcterms:modified>
  <cp:revision>0</cp:revision>
  <dc:subject/>
  <dc:title>Alma de niño</dc:title>
</cp:coreProperties>
</file>