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binoni%20-%20Largueto,%20in%20G%20minor%20Track%20No2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385-1253-4919-8D09-50C323D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757-D4F5-4B38-85BA-C141D435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A1F-88BB-4BA7-82C4-6EA446D2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D8D-1FD2-473F-A55A-4F4E2D75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D43-38FB-443F-A873-E86B1A2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EAC-4C8C-4AF3-AAFB-534F0A4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548-F628-44BF-95AE-0211257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31A-DB09-4A54-A1E1-F59046B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BEA-F097-42E1-A68A-7C2F7B1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988-3BA8-46B3-87A6-256F7A3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D77-FD0E-4A47-99CF-1053D54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B80-1370-4F67-A637-87A54C3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726-1738-4A9C-B384-00F0A4E5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binoni%20-%20Largueto,%20in%20G%20minor%20Track%20No2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samientos%20lilas%20y%20blan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380880"/>
            <a:ext cx="6039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6600cc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EGÓN DE CUARESM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6600cc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64840" y="6110280"/>
            <a:ext cx="287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Texto: Florentino Ulibar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resentación: M.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Música: Albinoni. Largueto, in 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lbinoni%20-%20Largueto,%20in%20G%20minor%20Track%20No2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MINAR%20por%20el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8088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sido bautizados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escuchado la voz del Espíritu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acogido la revelación del Dios vivo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descubierto que sois sus hijos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¡adentraos en el desierto sin miedo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y caminad con paso liger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minando%20mochil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Cuaresma es ese tiempo que viene y va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tiempo para vivirlo en camin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sin instalarse, sin retenerlo, sin lament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con la esperanza siempre a flor de piel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y la mirada fija en otro tiemp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la Pascua, que es defini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uerta_al_cielo_87845_t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3581280"/>
            <a:ext cx="48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Entrad en Cuaresma convencidos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istos para el combate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igeros de equipaje;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a mente despejada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entrañas llenas de ternura y misericordia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calzado apropiado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y mucha paciencia con vosotros mis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uellas%20en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510552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jaos mecer por la brisa del Espíritu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ned vuestro corazón en sintoní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los latidos de Dios y el grito de los afligido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bed en los manantiales de la vi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no os dejéis engañar por los espejismos del des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JAR%20pasaj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5228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ajad del monte a los caminos de la vida,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ajad sin miedo y llenos de misterio.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No profanéis los templos vivos,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uscad de noche como Nicodemo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y, como aquellos griegos,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preguntad a discípulos y amigos por Jesús y su Reino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y cómo sembrarse en el campo del mundo para germinar a su esti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698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9640" y="3048120"/>
            <a:ext cx="38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vid la Cuaresma bien despierto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inando en comunida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fe, esperanza y amo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jos los OJOS en Jesú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¡Daos esa oportunida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243828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apo00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0" y="1523880"/>
            <a:ext cx="8763120" cy="5799240"/>
            <a:chOff x="0" y="1523880"/>
            <a:chExt cx="8763120" cy="5799240"/>
          </a:xfrm>
        </p:grpSpPr>
        <p:sp>
          <p:nvSpPr>
            <p:cNvPr id="59" name=""/>
            <p:cNvSpPr/>
            <p:nvPr/>
          </p:nvSpPr>
          <p:spPr>
            <a:xfrm>
              <a:off x="0" y="1523880"/>
              <a:ext cx="4800600" cy="50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228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sido bautiza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escuchado la voz del Espíritu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acogido la revelación del Dios viv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descubierto que sois sus hij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¡adentraos en el desierto sin mie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caminad con paso ligero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uaresma es ese tiempo que viene y v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tiempo para vivirlo en camin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sin instalarse, sin retenerlo, sin lament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la esperanza siempre a flor de p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la mirada fija en otro tiemp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a Pascua, que es definitiv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Entrad en Cuaresma convenci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istos para el combat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igeros de equipaje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a mente despejad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entrañas llenas de ternura y misericordi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alzado apropiad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mucha paciencia con vosotros mismos</a:t>
              </a: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1631880"/>
              <a:ext cx="4038840" cy="56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Dejaos mecer por la brisa del Espíritu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oned vuestro corazón en sinton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los latidos de Dios y el grito de los afligi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ebed en los manantiales de la 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no os dejéis engañar por los espejismos del desier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ajad del monte a los caminos de la vid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ajad sin miedo y llenos de misteri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No profanéis los templos viv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uscad de noche como Nicode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, como aquellos griegos, preguntad a discípulos y amig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or Jesús y su Re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cómo sembrarse en el campo del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ara germinar a su estil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Vivid la Cuaresma bien despiertos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aminando en comunidad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fe, esperanza y amor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fijos los OJOS en Jesús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¡Daos esa oportunidad! </a:t>
              </a:r>
              <a:r>
                <a:rPr b="0" i="1" lang="es-ES" sz="1600" spc="-1" strike="noStrike">
                  <a:solidFill>
                    <a:srgbClr val="ffff99"/>
                  </a:solidFill>
                  <a:latin typeface="Comic Sans MS"/>
                </a:rPr>
                <a:t>(Ulibarri F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2743200" y="228600"/>
            <a:ext cx="3429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ff9933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egón de Cuaresm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ff9933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7:25:09Z</dcterms:created>
  <dc:creator> M.Asun Gutiérrez</dc:creator>
  <dc:description/>
  <dc:language>en-US</dc:language>
  <cp:lastModifiedBy> </cp:lastModifiedBy>
  <dcterms:modified xsi:type="dcterms:W3CDTF">2011-03-06T17:14:09Z</dcterms:modified>
  <cp:revision>13</cp:revision>
  <dc:subject>jeasam@gmail.com</dc:subject>
  <dc:title>Pregón de Cuaresma</dc:title>
</cp:coreProperties>
</file>