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lbinoni%20-%20Largueto,%20in%20G%20minor%20Track%20No21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549D-BF90-4540-B116-B0CDA220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6F54-F411-4B4F-B103-E372D946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C3C0-EF1D-4A37-98B8-5BD6C3A5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57AB-6535-4241-988C-73D970AC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51E0-83AA-4ED2-ACD3-342A1CFB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BCB-623F-4ED7-A82D-B5F0511C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7AFA-4C13-43D2-BC11-99211DCE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EA7D-9906-4590-A3C5-67999EF3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9A1C-53FA-4E36-BF67-9F395B16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4CD8-4F88-451B-BA15-D01B46D4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5E7A-72BA-4BD3-942E-180E9758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6D5E-8C0B-4F21-8012-2C9ABF6F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41C9-1F95-428A-945D-9697E5D69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lbinoni%20-%20Largueto,%20in%20G%20minor%20Track%20No21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ensamientos%20lilas%20y%20blanco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23880" y="380880"/>
            <a:ext cx="6039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6600cc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REGÓN DE CUARESM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6600cc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4164840" y="6110280"/>
            <a:ext cx="2873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Texto: Florentino Ulibarr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Presentación: M.Asun Gutiérre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Música: Albinoni. Largueto, in 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Albinoni%20-%20Largueto,%20in%20G%20minor%20Track%20No21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AMINAR%20por%20el%20desier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380880"/>
            <a:ext cx="563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Los que habéis sido bautizados,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los que habéis escuchado la voz del Espíritu,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los que habéis acogido la revelación del Dios vivo,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los que habéis descubierto que sois sus hijos,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¡adentraos en el desierto sin miedo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y caminad con paso liger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aminando%20mochil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0" y="4724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99"/>
                </a:solidFill>
                <a:latin typeface="Comic Sans MS"/>
              </a:rPr>
              <a:t>Cuaresma es ese tiempo que viene y va,</a:t>
            </a:r>
            <a:br>
              <a:rPr sz="1800"/>
            </a:br>
            <a:r>
              <a:rPr b="0" lang="es-ES" sz="1800" spc="-1" strike="noStrike">
                <a:solidFill>
                  <a:srgbClr val="ffff99"/>
                </a:solidFill>
                <a:latin typeface="Comic Sans MS"/>
              </a:rPr>
              <a:t>tiempo para vivirlo en camino,</a:t>
            </a:r>
            <a:br>
              <a:rPr sz="1800"/>
            </a:br>
            <a:r>
              <a:rPr b="0" lang="es-ES" sz="1800" spc="-1" strike="noStrike">
                <a:solidFill>
                  <a:srgbClr val="ffff99"/>
                </a:solidFill>
                <a:latin typeface="Comic Sans MS"/>
              </a:rPr>
              <a:t>sin instalarse, sin retenerlo, sin lamento,</a:t>
            </a:r>
            <a:br>
              <a:rPr sz="1800"/>
            </a:br>
            <a:r>
              <a:rPr b="0" lang="es-ES" sz="1800" spc="-1" strike="noStrike">
                <a:solidFill>
                  <a:srgbClr val="ffff99"/>
                </a:solidFill>
                <a:latin typeface="Comic Sans MS"/>
              </a:rPr>
              <a:t>con la esperanza siempre a flor de piel</a:t>
            </a:r>
            <a:br>
              <a:rPr sz="1800"/>
            </a:br>
            <a:r>
              <a:rPr b="0" lang="es-ES" sz="1800" spc="-1" strike="noStrike">
                <a:solidFill>
                  <a:srgbClr val="ffff99"/>
                </a:solidFill>
                <a:latin typeface="Comic Sans MS"/>
              </a:rPr>
              <a:t>y la mirada fija en otro tiempo,</a:t>
            </a:r>
            <a:br>
              <a:rPr sz="1800"/>
            </a:br>
            <a:r>
              <a:rPr b="0" lang="es-ES" sz="1800" spc="-1" strike="noStrike">
                <a:solidFill>
                  <a:srgbClr val="ffff99"/>
                </a:solidFill>
                <a:latin typeface="Comic Sans MS"/>
              </a:rPr>
              <a:t>la Pascua, que es defini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uerta_al_cielo_87845_t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3581280"/>
            <a:ext cx="4800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ffff"/>
                </a:solidFill>
                <a:latin typeface="Comic Sans MS"/>
              </a:rPr>
              <a:t>Entrad en Cuaresma convencidos,</a:t>
            </a:r>
            <a:br>
              <a:rPr sz="1800"/>
            </a:br>
            <a:r>
              <a:rPr b="0" lang="es-ES" sz="1800" spc="-1" strike="noStrike">
                <a:solidFill>
                  <a:srgbClr val="ccffff"/>
                </a:solidFill>
                <a:latin typeface="Comic Sans MS"/>
              </a:rPr>
              <a:t>listos para el combate,</a:t>
            </a:r>
            <a:br>
              <a:rPr sz="1800"/>
            </a:br>
            <a:r>
              <a:rPr b="0" lang="es-ES" sz="1800" spc="-1" strike="noStrike">
                <a:solidFill>
                  <a:srgbClr val="ccffff"/>
                </a:solidFill>
                <a:latin typeface="Comic Sans MS"/>
              </a:rPr>
              <a:t>ligeros de equipaje;</a:t>
            </a:r>
            <a:br>
              <a:rPr sz="1800"/>
            </a:br>
            <a:r>
              <a:rPr b="0" lang="es-ES" sz="1800" spc="-1" strike="noStrike">
                <a:solidFill>
                  <a:srgbClr val="ccffff"/>
                </a:solidFill>
                <a:latin typeface="Comic Sans MS"/>
              </a:rPr>
              <a:t>la mente despejada,</a:t>
            </a:r>
            <a:br>
              <a:rPr sz="1800"/>
            </a:br>
            <a:r>
              <a:rPr b="0" lang="es-ES" sz="1800" spc="-1" strike="noStrike">
                <a:solidFill>
                  <a:srgbClr val="ccffff"/>
                </a:solidFill>
                <a:latin typeface="Comic Sans MS"/>
              </a:rPr>
              <a:t>entrañas llenas de ternura y misericordia,</a:t>
            </a:r>
            <a:br>
              <a:rPr sz="1800"/>
            </a:br>
            <a:r>
              <a:rPr b="0" lang="es-ES" sz="1800" spc="-1" strike="noStrike">
                <a:solidFill>
                  <a:srgbClr val="ccffff"/>
                </a:solidFill>
                <a:latin typeface="Comic Sans MS"/>
              </a:rPr>
              <a:t>calzado apropiado,</a:t>
            </a:r>
            <a:br>
              <a:rPr sz="1800"/>
            </a:br>
            <a:r>
              <a:rPr b="0" lang="es-ES" sz="1800" spc="-1" strike="noStrike">
                <a:solidFill>
                  <a:srgbClr val="ccffff"/>
                </a:solidFill>
                <a:latin typeface="Comic Sans MS"/>
              </a:rPr>
              <a:t>y mucha paciencia con vosotros mism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huellas%20en%20desier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62320" y="5105520"/>
            <a:ext cx="601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jaos mecer por la brisa del Espíritu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ned vuestro corazón en sintoní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 los latidos de Dios y el grito de los afligido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bed en los manantiales de la vid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 no os dejéis engañar por los espejismos del desier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BAJAR%20pasaj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" y="152280"/>
            <a:ext cx="8229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Comic Sans MS"/>
              </a:rPr>
              <a:t>Bajad del monte a los caminos de la vida, </a:t>
            </a:r>
            <a:br>
              <a:rPr sz="1800"/>
            </a:br>
            <a:r>
              <a:rPr b="0" lang="es-ES" sz="1800" spc="-1" strike="noStrike">
                <a:solidFill>
                  <a:srgbClr val="003300"/>
                </a:solidFill>
                <a:latin typeface="Comic Sans MS"/>
              </a:rPr>
              <a:t>bajad sin miedo y llenos de misterio.</a:t>
            </a:r>
            <a:br>
              <a:rPr sz="1800"/>
            </a:br>
            <a:r>
              <a:rPr b="0" lang="es-ES" sz="1800" spc="-1" strike="noStrike">
                <a:solidFill>
                  <a:srgbClr val="003300"/>
                </a:solidFill>
                <a:latin typeface="Comic Sans MS"/>
              </a:rPr>
              <a:t>No profanéis los templos vivos,</a:t>
            </a:r>
            <a:br>
              <a:rPr sz="1800"/>
            </a:br>
            <a:r>
              <a:rPr b="0" lang="es-ES" sz="1800" spc="-1" strike="noStrike">
                <a:solidFill>
                  <a:srgbClr val="003300"/>
                </a:solidFill>
                <a:latin typeface="Comic Sans MS"/>
              </a:rPr>
              <a:t>buscad de noche como Nicodemo</a:t>
            </a:r>
            <a:br>
              <a:rPr sz="1800"/>
            </a:br>
            <a:r>
              <a:rPr b="0" lang="es-ES" sz="1800" spc="-1" strike="noStrike">
                <a:solidFill>
                  <a:srgbClr val="003300"/>
                </a:solidFill>
                <a:latin typeface="Comic Sans MS"/>
              </a:rPr>
              <a:t>y, como aquellos griegos, </a:t>
            </a:r>
            <a:br>
              <a:rPr sz="1800"/>
            </a:br>
            <a:r>
              <a:rPr b="0" lang="es-ES" sz="1800" spc="-1" strike="noStrike">
                <a:solidFill>
                  <a:srgbClr val="003300"/>
                </a:solidFill>
                <a:latin typeface="Comic Sans MS"/>
              </a:rPr>
              <a:t>preguntad a discípulos y amigos por Jesús y su Reino</a:t>
            </a:r>
            <a:br>
              <a:rPr sz="1800"/>
            </a:br>
            <a:r>
              <a:rPr b="0" lang="es-ES" sz="1800" spc="-1" strike="noStrike">
                <a:solidFill>
                  <a:srgbClr val="003300"/>
                </a:solidFill>
                <a:latin typeface="Comic Sans MS"/>
              </a:rPr>
              <a:t>y cómo sembrarse en el campo del mundo para germinar a su esti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48720" cy="6986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89640" y="3048120"/>
            <a:ext cx="387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vid la Cuaresma bien despierto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minando en comunidad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 fe, esperanza y amor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jos los OJOS en Jesú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¡Daos esa oportunida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1447920"/>
            <a:ext cx="2438280" cy="1523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lapo007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0" y="1523880"/>
            <a:ext cx="8763120" cy="5799240"/>
            <a:chOff x="0" y="1523880"/>
            <a:chExt cx="8763120" cy="5799240"/>
          </a:xfrm>
        </p:grpSpPr>
        <p:sp>
          <p:nvSpPr>
            <p:cNvPr id="59" name=""/>
            <p:cNvSpPr/>
            <p:nvPr/>
          </p:nvSpPr>
          <p:spPr>
            <a:xfrm>
              <a:off x="0" y="1523880"/>
              <a:ext cx="4800600" cy="50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228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Los que habéis sido bautizado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los que habéis escuchado la voz del Espíritu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los que habéis acogido la revelación del Dios vivo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los que habéis descubierto que sois sus hijo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¡adentraos en el desierto sin mie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y caminad con paso ligero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Cuaresma es ese tiempo que viene y va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tiempo para vivirlo en camino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sin instalarse, sin retenerlo, sin lamento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con la esperanza siempre a flor de pi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y la mirada fija en otro tiempo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la Pascua, que es definitiv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Entrad en Cuaresma convencido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listos para el combate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ligeros de equipaje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la mente despejada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entrañas llenas de ternura y misericordia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calzado apropiado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y mucha paciencia con vosotros mismos</a:t>
              </a: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24280" y="1631880"/>
              <a:ext cx="4038840" cy="56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Dejaos mecer por la brisa del Espíritu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poned vuestro corazón en sintoní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con los latidos de Dios y el grito de los afligido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bebed en los manantiales de la vi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y no os dejéis engañar por los espejismos del desiert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Bajad del monte a los caminos de la vida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bajad sin miedo y llenos de misteri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No profanéis los templos vivo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buscad de noche como Nicode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y, como aquellos griegos, preguntad a discípulos y amig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por Jesús y su Rei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y cómo sembrarse en el campo del mun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para germinar a su estil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Vivid la Cuaresma bien despiertos,</a:t>
              </a:r>
              <a:br>
                <a:rPr sz="1600"/>
              </a:b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caminando en comunidad,</a:t>
              </a:r>
              <a:br>
                <a:rPr sz="1600"/>
              </a:b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con fe, esperanza y amor,</a:t>
              </a:r>
              <a:br>
                <a:rPr sz="1600"/>
              </a:b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fijos los OJOS en Jesús</a:t>
              </a:r>
              <a:br>
                <a:rPr sz="1600"/>
              </a:br>
              <a:r>
                <a:rPr b="0" lang="es-ES" sz="1600" spc="-1" strike="noStrike">
                  <a:solidFill>
                    <a:srgbClr val="ffff99"/>
                  </a:solidFill>
                  <a:latin typeface="Comic Sans MS"/>
                </a:rPr>
                <a:t>¡Daos esa oportunidad! </a:t>
              </a:r>
              <a:r>
                <a:rPr b="0" i="1" lang="es-ES" sz="1600" spc="-1" strike="noStrike">
                  <a:solidFill>
                    <a:srgbClr val="ffff99"/>
                  </a:solidFill>
                  <a:latin typeface="Comic Sans MS"/>
                </a:rPr>
                <a:t>(Ulibarri F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 txBox="1"/>
          <p:nvPr/>
        </p:nvSpPr>
        <p:spPr>
          <a:xfrm>
            <a:off x="2743200" y="228600"/>
            <a:ext cx="34290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ff9933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regón de Cuaresm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ff9933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7:25:09Z</dcterms:created>
  <dc:creator> M.Asun Gutiérrez</dc:creator>
  <dc:description/>
  <dc:language>en-US</dc:language>
  <cp:lastModifiedBy> </cp:lastModifiedBy>
  <dcterms:modified xsi:type="dcterms:W3CDTF">2011-03-06T17:14:09Z</dcterms:modified>
  <cp:revision>13</cp:revision>
  <dc:subject>jeasam@gmail.com</dc:subject>
  <dc:title>Pregón de Cuaresma</dc:title>
</cp:coreProperties>
</file>