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Roger%20Williams%20-%20Till.wav" ContentType="audio/x-wav"/>
  <Override PartName="/ppt/media/image18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1D4-1D9A-4D94-8840-4B0D0966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206-1671-4F92-B11E-98B63591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2A7-3B63-44CB-9DCC-942BDCA4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848-F2BB-466B-BC60-47D79C5D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F2F-CBF0-4FAD-A163-4D0F0C21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832-491F-449E-B2C1-18D32BF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AB4-E74E-42D7-B472-32C77E2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DC3-80BD-4B67-AE73-9CD46C5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F74-33C8-46D0-AF4D-9B1C34E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836-D5C5-4670-819E-EEC683C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C23-67CD-4804-BF70-8D46FB60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7D3-79D3-4947-A23B-2ECEC55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3EA5-7BC9-4BFD-95AF-DF99A3C2DA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Roger%20William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ni11"/>
          <p:cNvPicPr/>
          <p:nvPr/>
        </p:nvPicPr>
        <p:blipFill>
          <a:blip r:embed="rId1"/>
          <a:stretch/>
        </p:blipFill>
        <p:spPr>
          <a:xfrm>
            <a:off x="2209680" y="228600"/>
            <a:ext cx="167652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2" name="Picture 5" descr="mini9"/>
          <p:cNvPicPr/>
          <p:nvPr/>
        </p:nvPicPr>
        <p:blipFill>
          <a:blip r:embed="rId2"/>
          <a:stretch/>
        </p:blipFill>
        <p:spPr>
          <a:xfrm>
            <a:off x="5257800" y="228600"/>
            <a:ext cx="1676520" cy="31240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3" name="Picture 8" descr="mini1"/>
          <p:cNvPicPr/>
          <p:nvPr/>
        </p:nvPicPr>
        <p:blipFill>
          <a:blip r:embed="rId3"/>
          <a:stretch/>
        </p:blipFill>
        <p:spPr>
          <a:xfrm>
            <a:off x="304920" y="3581280"/>
            <a:ext cx="1676160" cy="30481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44" name="Picture 9" descr="mini10"/>
          <p:cNvPicPr/>
          <p:nvPr/>
        </p:nvPicPr>
        <p:blipFill>
          <a:blip r:embed="rId4"/>
          <a:stretch/>
        </p:blipFill>
        <p:spPr>
          <a:xfrm>
            <a:off x="7162920" y="3429000"/>
            <a:ext cx="1676160" cy="32004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5" name="Text Box 10"/>
          <p:cNvSpPr/>
          <p:nvPr/>
        </p:nvSpPr>
        <p:spPr>
          <a:xfrm>
            <a:off x="2143080" y="4572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Acuarelas d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981080" y="51055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3300"/>
                </a:solidFill>
                <a:latin typeface="Times New Roman"/>
              </a:rPr>
              <a:t>Marcel Reynae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2857680" y="600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3300"/>
                </a:solidFill>
                <a:latin typeface="Times New Roman"/>
              </a:rPr>
              <a:t>Musica: Roger Willi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2102400" y="3905280"/>
            <a:ext cx="48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PROVERBIOS CON HUM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052" descr="aqua17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143000"/>
            <a:ext cx="67867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054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Times New Roman"/>
              </a:rPr>
              <a:t>Los jóvenes piensan que los viejos son tontos; los viejos saben que los jóvenes lo s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Rectángulo"/>
          <p:cNvSpPr/>
          <p:nvPr/>
        </p:nvSpPr>
        <p:spPr>
          <a:xfrm>
            <a:off x="500040" y="5715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-Mi mujer es un ángel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-¡Que suerte tienes, la mía todavía vive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aqua13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7172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00040" y="54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madurez del hombre es haber vuelto a encontrar la seriedad con la que jugaba cuando era niñ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4 Rectángulo"/>
          <p:cNvSpPr/>
          <p:nvPr/>
        </p:nvSpPr>
        <p:spPr>
          <a:xfrm>
            <a:off x="1214280" y="60483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Mi tía toca el violín y mi tío, la viol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qua12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357200" y="78588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85716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Nada va más deprisa que los añ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4 Rectángulo"/>
          <p:cNvSpPr/>
          <p:nvPr/>
        </p:nvSpPr>
        <p:spPr>
          <a:xfrm>
            <a:off x="642960" y="578628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No importa el tamaño de la pieza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no el tiempo  que esté ties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aqua6Copy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ando era joven decía: “ ya verás cuando tenga cincuenta años” Tengo cincuenta años y no he visto nad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4 Rectángulo"/>
          <p:cNvSpPr/>
          <p:nvPr/>
        </p:nvSpPr>
        <p:spPr>
          <a:xfrm>
            <a:off x="428760" y="5857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er viejo no es un problema ni un estorbo, pues  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viejos son los caminos y  todavía echan polv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aqua9Co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928800"/>
            <a:ext cx="6715440" cy="4429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1280" y="324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n los ojos del joven arde la llama, en los ojos del viejo  brilla la luz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Rectángulo"/>
          <p:cNvSpPr/>
          <p:nvPr/>
        </p:nvSpPr>
        <p:spPr>
          <a:xfrm>
            <a:off x="142920" y="5398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Cuando una dama dice: ¡no!, quiere decir quizás;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cuando dice ¡quizás!, quiere  decir sí; y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 dice sí, ¡no es una dama!"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aqua5Copy"/>
          <p:cNvPicPr/>
          <p:nvPr/>
        </p:nvPicPr>
        <p:blipFill>
          <a:blip r:embed="rId1"/>
          <a:stretch/>
        </p:blipFill>
        <p:spPr>
          <a:xfrm>
            <a:off x="785880" y="1000080"/>
            <a:ext cx="757224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071720" y="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iniciativa de la juventud vale tanto como la experiencia de los viej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4 Rectángulo"/>
          <p:cNvSpPr/>
          <p:nvPr/>
        </p:nvSpPr>
        <p:spPr>
          <a:xfrm>
            <a:off x="642960" y="5715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Sea consciente ¡use condón!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  Más vale prevenir que  alimentar"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9"/>
          <p:cNvPicPr/>
          <p:nvPr/>
        </p:nvPicPr>
        <p:blipFill>
          <a:blip r:embed="rId1"/>
          <a:stretch/>
        </p:blipFill>
        <p:spPr>
          <a:xfrm>
            <a:off x="1143000" y="785880"/>
            <a:ext cx="6715080" cy="48578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92" name="Text Box 7"/>
          <p:cNvSpPr/>
          <p:nvPr/>
        </p:nvSpPr>
        <p:spPr>
          <a:xfrm>
            <a:off x="1214280" y="123840"/>
            <a:ext cx="67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Siempre hay un niño en todos los hombr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928800" y="56894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*"Hay tres tipos de Mujeres:  1)las lindas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   2)las  inteligentes y  3)la mayoría."  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55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857160" y="607212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cada edad le cae bien una conducta diferent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Rectángulo"/>
          <p:cNvSpPr/>
          <p:nvPr/>
        </p:nvSpPr>
        <p:spPr>
          <a:xfrm>
            <a:off x="1643040" y="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sexo sin boda es tan bueno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omo el whisky sin  soda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57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285840" y="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Feliz el que fue joven en su juventud y                                    feliz el que fue sabio en su vejez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500120" y="58402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os jóvenes van en grupo, los adultos en parejas, y los viejos van so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hampagne"/>
          <p:cNvPicPr/>
          <p:nvPr/>
        </p:nvPicPr>
        <p:blipFill>
          <a:blip r:embed="rId1"/>
          <a:stretch/>
        </p:blipFill>
        <p:spPr>
          <a:xfrm>
            <a:off x="857160" y="85716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492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ESTO DE LOS AÑOS YO NO LO ENTIENDO, QUE AUNQUE ES BUENO CUMPLIRLOS, NO LO ES TENERL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6"/>
          <p:cNvSpPr/>
          <p:nvPr/>
        </p:nvSpPr>
        <p:spPr>
          <a:xfrm>
            <a:off x="1143000" y="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Todos deseamos llegar a viejos y todos negamos que hemos llegad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aqua3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95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el único medio de vivir mucho tiemp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4 Rectángulo"/>
          <p:cNvSpPr/>
          <p:nvPr/>
        </p:nvSpPr>
        <p:spPr>
          <a:xfrm>
            <a:off x="1071720" y="583236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i Marìa concibió sin pecar ¿Por qué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yo no puedo  pecar sin concebir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45"/>
          <p:cNvPicPr/>
          <p:nvPr/>
        </p:nvPicPr>
        <p:blipFill>
          <a:blip r:embed="rId1"/>
          <a:stretch/>
        </p:blipFill>
        <p:spPr>
          <a:xfrm>
            <a:off x="1143000" y="571680"/>
            <a:ext cx="671508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4 Rectángulo"/>
          <p:cNvSpPr/>
          <p:nvPr/>
        </p:nvSpPr>
        <p:spPr>
          <a:xfrm>
            <a:off x="285840" y="5072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Curioso pensamiento:"Todo aquel  que profane mi tumba tendra años de sufrimientos y sus seguidores moriran en lotes“.                       Simon Bolivar......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 Imagen" descr="1cib2.gif"/>
          <p:cNvPicPr/>
          <p:nvPr/>
        </p:nvPicPr>
        <p:blipFill>
          <a:blip r:embed="rId2"/>
          <a:stretch/>
        </p:blipFill>
        <p:spPr>
          <a:xfrm>
            <a:off x="8215200" y="60008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qua7Copy"/>
          <p:cNvPicPr/>
          <p:nvPr/>
        </p:nvPicPr>
        <p:blipFill>
          <a:blip r:embed="rId1"/>
          <a:stretch/>
        </p:blipFill>
        <p:spPr>
          <a:xfrm>
            <a:off x="1214280" y="1071720"/>
            <a:ext cx="6715440" cy="485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71280" y="1173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La edad madura es aquella en la cual se es todavía joven, pero con mucho más esfuerz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4 Rectángulo"/>
          <p:cNvSpPr/>
          <p:nvPr/>
        </p:nvSpPr>
        <p:spPr>
          <a:xfrm>
            <a:off x="714240" y="590400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Después de hacer el amor, da las gracias...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 ... Por  educación sexual"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2"/>
          <p:cNvPicPr/>
          <p:nvPr/>
        </p:nvPicPr>
        <p:blipFill>
          <a:blip r:embed="rId1"/>
          <a:stretch/>
        </p:blipFill>
        <p:spPr>
          <a:xfrm>
            <a:off x="1214280" y="1357200"/>
            <a:ext cx="6715440" cy="450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De mis disparates de juventud, lo que me da más pena,       no es el haberlos cometido, sino el no poder volver                 a cometerl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4 Rectángulo"/>
          <p:cNvSpPr/>
          <p:nvPr/>
        </p:nvSpPr>
        <p:spPr>
          <a:xfrm>
            <a:off x="428760" y="5761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bogado y las prostitutas son igualitos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  si  no le pagas por  adelantado: ¡no se mueven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qua4 copyCopy"/>
          <p:cNvPicPr/>
          <p:nvPr/>
        </p:nvPicPr>
        <p:blipFill>
          <a:blip r:embed="rId1"/>
          <a:stretch/>
        </p:blipFill>
        <p:spPr>
          <a:xfrm>
            <a:off x="1214280" y="928800"/>
            <a:ext cx="6715440" cy="48574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59" name="Text Box 7"/>
          <p:cNvSpPr/>
          <p:nvPr/>
        </p:nvSpPr>
        <p:spPr>
          <a:xfrm>
            <a:off x="495360" y="195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nvejecer es pasar de la pasión a la compas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Rectángulo"/>
          <p:cNvSpPr/>
          <p:nvPr/>
        </p:nvSpPr>
        <p:spPr>
          <a:xfrm>
            <a:off x="1143000" y="59770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leche en polvo... ¿No es redundancia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9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9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Muchas personas no cumplen los ochenta porque intentan durante demasiado tiempo quedarse en los cuarent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4 Rectángulo"/>
          <p:cNvSpPr/>
          <p:nvPr/>
        </p:nvSpPr>
        <p:spPr>
          <a:xfrm>
            <a:off x="285840" y="583236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El amor es como la enfermedad: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siempre termina en  la cama"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4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14280" y="1428840"/>
            <a:ext cx="6715440" cy="45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50920" y="7128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El que no es bello a los veinte, ni fuerte a los treinta, ni rico a los cuarenta, ni sabio a los cincuenta, nunca será ni bello, ni fuerte, ni rico, ni sab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4 Rectángulo"/>
          <p:cNvSpPr/>
          <p:nvPr/>
        </p:nvSpPr>
        <p:spPr>
          <a:xfrm>
            <a:off x="642960" y="61196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La rama femenina va siempre detrás del tronco"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39 bis"/>
          <p:cNvPicPr/>
          <p:nvPr/>
        </p:nvPicPr>
        <p:blipFill>
          <a:blip r:embed="rId1"/>
          <a:stretch/>
        </p:blipFill>
        <p:spPr>
          <a:xfrm>
            <a:off x="1357200" y="1071720"/>
            <a:ext cx="67150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7800" y="4608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A los veinte años reina la  voluntad, a los treinta el espíritu, a los cuarenta el juici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Rectángulo"/>
          <p:cNvSpPr/>
          <p:nvPr/>
        </p:nvSpPr>
        <p:spPr>
          <a:xfrm>
            <a:off x="928800" y="58323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Substancia nueva contra el SIDA: 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    Nitrato Demeterlo.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4"/>
          <p:cNvPicPr/>
          <p:nvPr/>
        </p:nvPicPr>
        <p:blipFill>
          <a:blip r:embed="rId1"/>
          <a:stretch/>
        </p:blipFill>
        <p:spPr>
          <a:xfrm>
            <a:off x="1214280" y="1000080"/>
            <a:ext cx="671544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Es verdad que cuando se pasa de los sesenta son muy pocas las cosas que nos parecen disparat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4 Rectángulo"/>
          <p:cNvSpPr/>
          <p:nvPr/>
        </p:nvSpPr>
        <p:spPr>
          <a:xfrm>
            <a:off x="1357200" y="6048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Times New Roman"/>
              </a:rPr>
              <a:t>*"Vagina llena... ¡ con razón contenta !"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21:25:02Z</dcterms:created>
  <dc:creator/>
  <dc:description/>
  <dc:language>en-US</dc:language>
  <cp:lastModifiedBy/>
  <dcterms:modified xsi:type="dcterms:W3CDTF">2012-02-09T03:10:07Z</dcterms:modified>
  <cp:revision>32</cp:revision>
  <dc:subject/>
  <dc:title>ACQUARELAS</dc:title>
</cp:coreProperties>
</file>