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NO%20TENGO%20EDAD-MELODICO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4D2-EE40-4550-8EE4-C686B74E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FEA-F632-4D7F-9B21-07975ECF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53C1-B579-4BEC-87B1-8E45819C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1A612-F8E2-4CFC-BB3D-7B9E3EF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10DE-4BBD-48B6-8775-3A9BA28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43D82-33E5-42EE-905F-43CB8738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52A03-1D47-48BF-B4D8-C1D1CE7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F809D-7969-439D-9FE0-FAFB646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722A7-70A9-4E91-9F18-940DCDA4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D38D-3BE2-4C19-A41F-9E989871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2C34-8767-409B-A88D-E56119C5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DE6B3-11FB-4C71-AF73-2FB13A6A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48E-480D-452F-B135-80A7FA65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6D3E1-5DDA-4F48-BF02-3761AB8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8C235-2003-4333-81C8-58C6E702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15547-4723-44AC-8FB2-A5C70180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5E9E1-074D-4592-ACA7-ACFBF958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BCFFB-3E62-4CD9-A5DB-2B3A4829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742B-C419-4247-9092-27026AA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B796-CD12-456C-BE24-C47E965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BB385-7E77-41D3-AEBE-2C0FA09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A5BD-D6AF-4E87-BB07-3375C776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8B1A-6231-4431-BB02-F4EC80A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3A0-135F-47BD-8209-A60693DB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E1502-5F47-48AF-B5D8-F01EFF42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0C4EC-13AC-49C9-B1CE-B35F4E9A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2AD12-DA7D-41FE-ACA8-D985B510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62D0-8924-474F-B628-BADB7C3F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1147C-F5AF-4898-B070-DF72C50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CCDB-450E-40C9-96A2-987B96E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C7A66-9844-4AC0-96E1-0C623607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C4F2-8F78-4292-8921-7A1BDD7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0D40B-16DB-4BA9-92B2-C7B1460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C0B84-8692-46DA-99F9-5B28F74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1E4-A457-457F-922C-9D82B6D2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06869-2BD4-4396-A61C-C615003F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033B-8893-492A-A602-A8312E9B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229A-C22F-4AE8-BA70-090F88B4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8738-CA37-4456-B388-4D0F884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BABE-9FE4-4E97-9000-A3CC89BF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5E8C-CB53-4C6B-8DE6-91F1142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F5C4-9D65-4F5F-8878-B333354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229-604B-45F0-8841-123D506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50C9-E41A-4AF1-9D35-7364362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C01-7C09-4D7F-B7DC-A1FEBAB3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C92-D791-432B-BE2A-FA357CB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C559-417E-4600-9CF5-A0191E4B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DD8F-1E98-4CCD-9F8E-BF44E86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1305-5797-40AB-8FBA-3B1FB568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B8E-701F-4AB7-B6B5-81106EC5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E2DA-3A04-40F2-B17E-059F21C9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D11A-DDC3-4287-B5D1-FC174EF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1D7A-0CB1-4780-8A45-BC02D3B0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B848-0C37-48BF-88F5-C4FD9FF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B298-54F3-4B1A-8766-922B6798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6F1-D23C-4069-B67A-2F0F98D1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6410-F5F7-4556-A6B7-7D4E655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EADB-A550-4F40-8BAE-E3D0038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2E29-346C-40F6-A909-0D59F46D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438C-4C12-4D2B-96CF-D3DDC18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B157-CEA2-46B8-B290-F03A256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B42F-1BE2-4DC4-9896-E7030564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595C-47FB-4782-A523-D3657685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439C4-3118-4C33-855C-43BE0D7E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697B-34F7-468B-B515-270C262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49FD-E7AD-4802-8435-EEC00EF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D1E-3C71-4BE6-8072-92BE7BB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B3E8-B344-4E9B-8C6E-CAA26C4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4FD3-4B24-433C-B892-8C8555A5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E5B9-72F1-4851-9975-627EACA7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E5C3-FA5D-49DD-86EF-B7A67BD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67B8-A662-498D-832D-2F05AB0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4A5CA-84B4-4424-85A3-AF9C1A6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C880-8516-40B0-8C66-78C8361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32A3-2145-461C-900D-CB5E245C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69B9-0965-4EF4-9F4A-47ACF3CC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920A-850F-4132-BA42-19BAE6D6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649-59F8-49E6-9EC2-686AEEF2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4559-F1EA-4963-8AD9-506856D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53EF9-50D5-463D-A042-9A46617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01C7-82CA-40A2-BF57-EA1126DC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B32E-7027-4C47-8E3C-8AE08BF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6625-B129-4106-9236-A2089DD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9C1E4-51F4-4F5D-9F72-788E19F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4AB9-D66E-4E8E-A403-0435AE6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33E4-C92B-4898-8EAD-EF39507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BC0A-1FBB-4E72-9F24-98A155C8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C8AD-AAC1-420C-85A6-8B28F93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188-0C6C-444C-B7FD-99E455AF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A9EB7-B313-456F-B756-FE39924E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D7CE-9307-4C85-90D1-7C02D2F9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2F0E-2AF5-42CD-9C16-714F2CC4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A685-9955-432F-8476-B158341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1449C-B93A-4D36-836B-8EF8DC3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7E1D-74BF-4CAC-8A4F-CB070959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040C-14B5-4825-A9AC-0FD183D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5D89-F400-402D-AC21-101AB02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46E9F-B9DF-4539-B239-35C18A5A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AFDC-7972-4C7A-ABC3-28AE89F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71A-E019-4698-A3D4-2ADFE75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45A5-0AAE-41CB-8882-E7282C2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B4925-6337-44F0-99AE-A95CA022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AA89-7B7C-4028-8E9B-5B66B4A0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5B1D-E41A-4DD8-8BBB-D711E521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D57A-E4AA-4D99-9877-66279CC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8963-FF73-4C4F-83F7-5D42B51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029D-F2DF-4DD9-8BB6-B4DDD4C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1450-3368-4C77-8BDF-6AE09430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528F7-631B-4948-80C9-B02B7A57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1AF5-2E03-4FEC-9810-BC8ADC5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E01-95CC-4AB3-9828-4F1F939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0A4B-E170-4737-90F9-E598043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2779-3155-4CF0-9DBB-53C058A3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2812-7D71-4136-A080-05CD6A3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A71F-2885-41DE-B306-C0A8B98E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6E5B-3AFC-4891-9662-8B57882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E00A3-391B-452C-A7D0-124E9E14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3D3C-7FE6-4B88-94C2-78E476C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3E24-D209-4C16-A781-87102CC2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D82C3-651E-4762-B915-DC45616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65CC-5EDA-4FDF-B005-BFC6272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9C1-0992-423E-8C19-C350DD2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07D5-AEFB-4248-BC3D-AAF9EC6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68491-DFE7-4CE6-8D62-5B078BE7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16F4-50EB-45A4-B1C8-14E75FC3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5E4F-12AF-460C-9B2A-000941D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13EC-D6E8-4DF5-917E-D1374A3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3BA13-FD65-40B4-B254-5C47A575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4350-327A-4057-BE15-082CCC86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02E6-1C44-4BC9-939C-B7AA2D98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6862A-C471-4C3A-8534-76E1215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A605-51F4-4846-843A-27B2F803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2DA-AC95-47EF-9C12-2F0658918F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5D9B-B6F2-479D-9D34-ED5B0650B6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E016-2F44-4D3E-A818-08A0F7E8A8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6C4-2CC2-48DE-8B75-8BA55C4E05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220-7AC9-40B8-94C8-45E6F1C315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1B3-366D-4E8B-B72A-E7063D8C44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0EB-BC4E-4BB1-9D86-C6965AA8B2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0E14-9AE8-420C-93BA-5B98F608FB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E8D-ADBD-4A2C-8AEB-531E758905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561-7A9C-4A08-A09D-3FD2387270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8CE0-829C-4E84-81B8-860163A16C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%20TENGO%20EDAD-MELODICO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ShowLetter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1530360" y="479664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LOS DIEZ MANDA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1476360" y="5228640"/>
            <a:ext cx="61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SV" sz="2800" spc="-1" strike="noStrike">
                <a:solidFill>
                  <a:srgbClr val="ffff00"/>
                </a:solidFill>
                <a:latin typeface="Comic Sans MS"/>
                <a:ea typeface="ＭＳ Ｐゴシック"/>
              </a:rPr>
              <a:t>PARA SABER ENVEJ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NO%20TENGO%20EDAD-MELODIC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-266760"/>
            <a:ext cx="9180360" cy="69357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108000" y="4426200"/>
            <a:ext cx="889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. - Mantendrás vivas y cordiales las relaciones huma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de luego, las que se anudan en el hogar, integrándote a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embros de tu famil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í tienes la oportunidad de convivir con niños, jóvenes y adultos,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perfecto muestrario de l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vive, pero sin inmiscuirte en los problemas de los demás, a m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 expresamente te pidan un consejo, recuerda: "Ver, oír y callar."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Lo que estás en rojo es muy importante tomarlo en cuen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1196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179280" y="235620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. - No pensarás que "todo el tiempo pasado fue mejo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ja de estar condenando tu mundo y maldiciendo tu momento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digas a cada palabra: "las cosas andan mal, allá en mi tiempo...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recuerdo que antes ..." No vivas de recuerdos, mira hacia el futuro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grí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nte nuevas metas, haz planes, sueña ...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sitivo siempre, negativo ja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 persona debiera ser como la Luna: destinada a dar luz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como el Sol siempre dando cal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025640" y="2989440"/>
            <a:ext cx="63817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dades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rcRect l="0" t="0" r="0" b="2100"/>
          <a:stretch/>
        </p:blipFill>
        <p:spPr>
          <a:xfrm>
            <a:off x="0" y="-15840"/>
            <a:ext cx="9396360" cy="69008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0"/>
          <p:cNvSpPr/>
          <p:nvPr/>
        </p:nvSpPr>
        <p:spPr>
          <a:xfrm>
            <a:off x="108000" y="43920"/>
            <a:ext cx="9793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-</a:t>
            </a: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Cuidarás tu presentación día a día. Arréglate como si fueras a una fie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¡Qué más fiesta que la vida! El baño diario, el peinado, la ropa, todo atractiv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liendo a limpio, a buen gusto. El buen gusto es gratuito, no cuesta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 al verte se alegren tu espejo y los ojos de los de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Imagen" descr="1243982876000_f.jpg"/>
          <p:cNvPicPr/>
          <p:nvPr/>
        </p:nvPicPr>
        <p:blipFill>
          <a:blip r:embed="rId1"/>
          <a:stretch/>
        </p:blipFill>
        <p:spPr>
          <a:xfrm>
            <a:off x="0" y="-19080"/>
            <a:ext cx="9180360" cy="690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7" name="Rectangle 4"/>
          <p:cNvSpPr/>
          <p:nvPr/>
        </p:nvSpPr>
        <p:spPr>
          <a:xfrm>
            <a:off x="179280" y="535680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 - No te encerrarás en tu casa ni en tu habit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da de jugar al enclaustrado o al preso volun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ldrás a la calle y al campo de pas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El agua estancada se pudre y la máquina inmóvil se enmohec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Imagen" descr="1241986666771_f.jpg"/>
          <p:cNvPicPr/>
          <p:nvPr/>
        </p:nvPicPr>
        <p:blipFill>
          <a:blip r:embed="rId1"/>
          <a:stretch/>
        </p:blipFill>
        <p:spPr>
          <a:xfrm>
            <a:off x="0" y="19080"/>
            <a:ext cx="9252000" cy="693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9" name="Rectangle 5"/>
          <p:cNvSpPr/>
          <p:nvPr/>
        </p:nvSpPr>
        <p:spPr>
          <a:xfrm>
            <a:off x="49320" y="4891680"/>
            <a:ext cx="913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- Amarás el ejercicio físico como a ti 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 rato de gimnasia, una caminata razonable dentro o fuera de casa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 lo menos abrir la puerta, regar las rosas, contestar el teléfono, ba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nque estés solo, haz cualquier movimiento que te despegue de la c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del sill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Contra pereza, diligencia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179280" y="1875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 - Evitarás actitudes y gestos de viejo derrumbado, la cabeza gac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espalda encorvada, los pies arrastrándo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¡No! Que la gente diga un piropo cuando pas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¡Qué rectito el señor!, ¡qué guapa la señora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uerda: las canas... ¡se tiñen! y las arrugas ... se disimulan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plia sonris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o el arrastrar de pies ... eso sí es signo de veje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rcRect l="0" t="34819" r="0" b="0"/>
          <a:stretch/>
        </p:blipFill>
        <p:spPr>
          <a:xfrm>
            <a:off x="971640" y="1731960"/>
            <a:ext cx="8208720" cy="5151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108000" y="187920"/>
            <a:ext cx="90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. - No hablarás de tu edad ni te quejarás de tus achaques, reales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aginarios ... Acabarás por creerte más viejo y más enfermo de l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 realidad estás y te harán el vací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la gente no le gusta oír historias de hospital. Cuando te pregu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¿Cómo estás?, contestarás que: ¡Muy bien! ¡divinamen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7308" t="8963" r="6778" b="10156"/>
          <a:stretch/>
        </p:blipFill>
        <p:spPr>
          <a:xfrm>
            <a:off x="-3240" y="-27000"/>
            <a:ext cx="9145800" cy="63644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92160" y="4434120"/>
            <a:ext cx="9051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6. - Cultivarás el optimismo sobre todas las c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 mal tiempo, buena cara. Sé positivo en los juicios, de buen humor 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s  palabras, alegre de rostro, amable en los adem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seas un viejo amarg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 tiene la  edad que se ejerce. La vejez no es cuestión de años sino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ado  de á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El corazón no envejece" (el cuero es el que se arrug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108000" y="1340280"/>
            <a:ext cx="90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. - Tratarás de ser útil a ti mismo y a los dem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eres un parásito ni una rama desgajada del árbol de l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ástate a ti mismo hasta donde sea po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ayuda, ayuda con una sonrisa, un consejo, un serv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 abrirte a los demás, dejarás de estar pensando en un "yo" angusti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olit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olo cuando se abre la nuez, aparece la almendra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84360" y="4784760"/>
            <a:ext cx="75945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-36360" y="-17640"/>
            <a:ext cx="9361440" cy="69757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5"/>
          <p:cNvSpPr/>
          <p:nvPr/>
        </p:nvSpPr>
        <p:spPr>
          <a:xfrm>
            <a:off x="34920" y="1835280"/>
            <a:ext cx="91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. - Trabajarás con tus manos y con tu 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 trabajo es la terapia infalible. Cualquier actitud laboral, intelectu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tística. Haz algo, lo que sea y lo que pue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a ocupación artesanal, un rato de lectura, un trozo amable de TV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mú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 bendición del trabajo es medicina para todos los m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i ya estás jubilado, ocúpate en actividades de servic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 hospitales, asilos, iglesias, etc. siempre necesitan manos que ayu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1:16:20Z</dcterms:created>
  <dc:creator>OH</dc:creator>
  <dc:description/>
  <dc:language>en-US</dc:language>
  <cp:lastModifiedBy>Carmen Salazar</cp:lastModifiedBy>
  <dcterms:modified xsi:type="dcterms:W3CDTF">2010-05-20T20:31:26Z</dcterms:modified>
  <cp:revision>126</cp:revision>
  <dc:subject/>
  <dc:title> Mandamientos para saber envejecer</dc:title>
</cp:coreProperties>
</file>