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NO%20TENGO%20EDAD-MELODICO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E1E-F262-44A1-B8CE-96AA9478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55C-526B-4408-986C-7031B24E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5B27D-3CA1-45B2-A311-A8897634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817F7-3F79-4400-974F-1ABB0F6A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5B550-A27A-4DFB-8624-7945E066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6BDDC-CEEE-4040-9BD3-D08AA8D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7A1C9-6FBD-4679-B5AE-8E90929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C86AE-B237-4DB9-B930-AC193D87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7BC1-86D0-4527-ADDE-01C20687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2A72C-EBD2-4058-BB1E-95BE15C8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5E709-F326-40C7-AA01-48136CD2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FC8CE-F401-40D8-922F-513906D1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4A7-EBAA-4CE2-9636-83813F32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2D244-0324-4843-BBA1-96AC1A84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4CB24-0036-4145-9C02-22C75EF8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D7912-6C0F-401D-BC1A-AE566A67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50A4C-F816-4563-B657-B7ED9441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4A83F-2AEB-4FC7-9F74-27F97EEF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D4409-EC0C-409C-AE3D-FA22F07E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6D9A6-19CD-45D6-8F1A-74BAFED1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ECFCE-83CB-4129-9A7D-D1A2113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86EDB-F05A-4E6F-97E3-5E37F05A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CD028-C762-4388-8CB1-F4272410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FF0-E23E-4D32-A2BA-95F8EEF0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81A4D-DF5D-4E1D-87D5-4D1318DB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3E661-5605-4FE2-B0FA-5781C5B1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21B91-57D8-4738-A144-E9B779E7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7BCE4-EB28-49E8-B60E-09B40A02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17CD4-4A9D-4928-AE96-DAF82E1F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5E16A-DAFA-40B7-954A-73C19842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8223D-8068-42FF-AE81-A2479FC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7DDFF-0A9A-4FBB-AE5D-55EEEE6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ACB72-D6C5-412C-A8A4-6848861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18968-EEAD-498D-840A-0A99535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DC3-593D-439D-9816-D4F8A886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FBD23-57F0-4E2A-A8FB-BC0638BF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EBDFA-AD28-4B86-BAAA-AF1AFF08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5AB97-AA9B-4DB8-9EDD-E6BAD7C9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E247-7982-4CBD-8F17-CAE23213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582-E2A8-46B6-A565-EDEAE3FA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BA26-CDAD-45FE-B258-3434D33D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4BCA-325C-4BF9-8035-76A879C6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0DA2-F74F-406D-957E-C9918DC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7C25-2E5C-44D5-82AA-B728911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686-1073-4B60-87B0-7AF225D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0EE5-A268-4FCA-8988-A553D39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9337-57AF-4F04-81B2-61B9048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5D09-4557-4B9B-8AB2-5A3FF21E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46B2-A518-471E-B1F8-E1FEF456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C0A5-EE36-4F56-B9DA-172A8E77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6947-A1D2-4471-9941-1492FDB7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A011-E6CB-4DCF-9987-66091D42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6503-32A7-4F6C-BEAB-7F7968AA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B817-2FBF-47B9-9349-0F258B1B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0D88-70F6-498D-8635-92B17EFD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AA1-FDB1-4497-9767-3CF2E4A1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3965A-4AEA-4304-9079-31988429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507A-1B72-4B6F-82A1-97E0F2C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4659-20A4-4B6F-AA62-2916FC85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54CE-95B0-4E26-97F9-8094D75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221A-4931-4995-BEF7-08B5899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5260-CAA6-4D71-A840-06133D1F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BAB9-BCB6-4276-A7F9-06EFD48E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DEC1-7644-46AF-A7F1-B563FC67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76660-633C-43CA-9271-9D00144D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4B9E8-694E-4242-BBBC-3D24D118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574-70BA-46C8-8A8E-6ADDE2AF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4468-3CA7-4A78-B24D-0471870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29A5-051F-49A8-BD25-C4FB294F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6334D-CC49-491B-881F-A9947DBC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DB2C-BD9C-4BCB-B76B-278D0C7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0561B-7FB5-42F3-9611-1476D5A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C612-5CBC-4450-8DB8-B207321F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9AFDE-94F8-40DB-85A7-B17EAA33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E814-9A32-4AB2-8A79-BE05889A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0B2F-520B-48AA-9E25-2AED7711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9D152-3903-45F3-A188-9F42A3B7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245-4E11-413D-9221-2C0BF323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D413-C3EA-4DD2-8B97-FED46BCC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0226-5C18-411B-8CAE-298EF663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850A-BDC0-4FF7-8123-A0B88D6D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93F2A-64C9-4523-9CBB-B18FC240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C25A1-408A-49E9-BC39-C944646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3743-6C9E-451E-875C-3FC4D24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EA95-92B3-4600-946E-FE21E838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D518F-887A-461D-8D1C-83476D2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51AD-2090-44A3-9D73-11E64156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C481-C104-40E1-A8DC-9854BD34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5AC-4614-47CB-9A9B-58579694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C22BA-C95E-4555-B26C-29C8787E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F9A5-398A-491A-989F-F1C00B25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1A720-B93F-4B43-A5E4-165E546A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977C8-35CF-44F2-A612-E467EB68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A4C2-17A0-4626-B8F2-6C023AF4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AE7F2-A9F9-4CF8-ADAC-969A1B46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6711-4270-4EE6-BB9E-5A76F29C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C0E9C-2EB9-4B83-AA94-51B8D355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AB266-7299-4745-9732-83D1EB26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E42EF-2F7D-418B-8FD1-131624F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F83-8D87-4C3A-9AEA-3908D68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0375F-85D3-4510-8397-A26C44B1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4132D-8473-4E7E-B502-EDEF23B5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3262B-197B-4525-BC24-BE64689E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C1FD6-CD15-46BB-A1B8-E477B591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EF3A5-A403-4375-9957-AFA364D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BDB1B-36C0-4B5D-BAA4-4D4D0B1E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81F28-8D3D-48BA-992D-B7828149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05C15-AF57-46A1-86E5-7C4ECC1A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63C91-F1A8-4AD2-A9FD-CC2220FA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B3B94-AA45-4E78-8D83-348579D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316-B89A-472B-8302-CB7D3D3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EF25D-5ACC-4934-87E0-F17EC94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8B5D-564C-49C8-A3B7-579867F6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15A4E-1C88-4682-88E1-E0B5461A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2A00-061C-4813-A019-8D363B1B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7863-B1EA-4F5B-8B39-8E219F18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B56B0-856E-4529-91F4-06AA96BA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BA34D-3FD3-4E68-BBEB-A7191D17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B7071-1078-4E07-88EF-F2FD5920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0620E-93BA-4692-9A49-C3186020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6898E-C8E4-48B7-921D-E5EA321F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B62-9A0F-4C4D-A9A7-472898B8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0AF70-139C-438F-97D3-75EF8390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B1F3E-3DA0-47EB-8716-F50F913C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04F94-F360-4011-8234-F0E0963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424B-ADE4-4132-99A0-BA714FB9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035A-BB46-4152-879F-441891E6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F7ECA-6C05-4658-976E-C37A7FEA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EDBCC-F6F8-43EA-9B91-9529BFDF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35450-81C2-4784-BF17-D6C76D0B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C3F3D-4039-47BD-AF53-56D7935A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B60CF-0245-4287-92B3-7F5C8958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5E69-DDB8-422B-99EC-A8E6462F38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4FE5-1F89-45D3-9B83-7D01C7E10D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8CD1-6F3F-4722-9469-24E8ABE4AF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F9C6-114E-4F0C-94C5-62DAB591BB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0E9D-E3A3-4557-93D6-E5AC2172DF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834E-6B57-4CF1-83B5-3855450EED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D4EF-ED90-4ED0-B7CB-E34A5049A0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E96E-98B2-4D11-9F9C-36AB669C14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A520-2C9A-4A27-96F5-803D3ED949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08C8-7DCD-4188-8EC9-5B577B87F5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06F7-6A86-43E4-8341-F7D15B7679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NO%20TENGO%20EDAD-MELODICO.wav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ShowLetter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"/>
          <p:cNvSpPr/>
          <p:nvPr/>
        </p:nvSpPr>
        <p:spPr>
          <a:xfrm>
            <a:off x="1530360" y="4796640"/>
            <a:ext cx="61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8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LOS DIEZ MANDA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1476360" y="5228640"/>
            <a:ext cx="61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8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PARA SABER ENVEJ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NO%20TENGO%20EDAD-MELODIC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-266760"/>
            <a:ext cx="9180360" cy="69357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108000" y="4426200"/>
            <a:ext cx="88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. - Mantendrás vivas y cordiales las relaciones huma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de luego, las que se anudan en el hogar, integrándote a todos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embros de tu famil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hí tienes la oportunidad de convivir con niños, jóvenes y adultos,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 perfecto muestrario de l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vive, pero sin inmiscuirte en los problemas de los demás, a m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e expresamente te pidan un consejo, recuerda: "Ver, oír y callar."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Lo que estás en rojo es muy importante tomarlo en cuen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1196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"/>
          <p:cNvSpPr/>
          <p:nvPr/>
        </p:nvSpPr>
        <p:spPr>
          <a:xfrm>
            <a:off x="179280" y="2356200"/>
            <a:ext cx="89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. - No pensarás que "todo el tiempo pasado fue mejo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ja de estar condenando tu mundo y maldiciendo tu momento.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digas a cada palabra: "las cosas andan mal, allá en mi tiempo...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recuerdo que antes ..." No vivas de recuerdos, mira hacia el futuro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egrí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nte nuevas metas, haz planes, sueña ...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sitivo siempre, negativo jamá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 persona debiera ser como la Luna: destinada a dar luz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como el Sol siempre dando cal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025640" y="2989440"/>
            <a:ext cx="638172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licidades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rcRect l="0" t="0" r="0" b="2100"/>
          <a:stretch/>
        </p:blipFill>
        <p:spPr>
          <a:xfrm>
            <a:off x="0" y="-15840"/>
            <a:ext cx="9396360" cy="69008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0"/>
          <p:cNvSpPr/>
          <p:nvPr/>
        </p:nvSpPr>
        <p:spPr>
          <a:xfrm>
            <a:off x="108000" y="43920"/>
            <a:ext cx="9793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-</a:t>
            </a:r>
            <a:r>
              <a:rPr b="1" lang="es-SV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Cuidarás tu presentación día a día. Arréglate como si fueras a una fie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¡Qué más fiesta que la vida! El baño diario, el peinado, la ropa, todo atractiv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liendo a limpio, a buen gusto. El buen gusto es gratuito, no cuesta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e al verte se alegren tu espejo y los ojos de los de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Imagen" descr="1243982876000_f.jpg"/>
          <p:cNvPicPr/>
          <p:nvPr/>
        </p:nvPicPr>
        <p:blipFill>
          <a:blip r:embed="rId1"/>
          <a:stretch/>
        </p:blipFill>
        <p:spPr>
          <a:xfrm>
            <a:off x="0" y="-19080"/>
            <a:ext cx="9180360" cy="690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57" name="Rectangle 4"/>
          <p:cNvSpPr/>
          <p:nvPr/>
        </p:nvSpPr>
        <p:spPr>
          <a:xfrm>
            <a:off x="179280" y="535680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 - No te encerrarás en tu casa ni en tu habit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da de jugar al enclaustrado o al preso volun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ldrás a la calle y al campo de pas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El agua estancada se pudre y la máquina inmóvil se enmohece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1 Imagen" descr="1241986666771_f.jpg"/>
          <p:cNvPicPr/>
          <p:nvPr/>
        </p:nvPicPr>
        <p:blipFill>
          <a:blip r:embed="rId1"/>
          <a:stretch/>
        </p:blipFill>
        <p:spPr>
          <a:xfrm>
            <a:off x="0" y="19080"/>
            <a:ext cx="9252000" cy="693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59" name="Rectangle 5"/>
          <p:cNvSpPr/>
          <p:nvPr/>
        </p:nvSpPr>
        <p:spPr>
          <a:xfrm>
            <a:off x="49320" y="4891680"/>
            <a:ext cx="913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- Amarás el ejercicio físico como a ti mis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rato de gimnasia, una caminata razonable dentro o fuera de casa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r lo menos abrir la puerta, regar las rosas, contestar el teléfono, ba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nque estés solo, haz cualquier movimiento que te despegue de la c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del sill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Contra pereza, diligencia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6"/>
          <p:cNvSpPr/>
          <p:nvPr/>
        </p:nvSpPr>
        <p:spPr>
          <a:xfrm>
            <a:off x="179280" y="1875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 - Evitarás actitudes y gestos de viejo derrumbado, la cabeza gach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espalda encorvada, los pies arrastrándo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¡No! Que la gente diga un piropo cuando pas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¡Qué rectito el señor!, ¡qué guapa la señora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uerda: las canas... ¡se tiñen! y las arrugas ... se disimulan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a sonris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o el arrastrar de pies ... eso sí es signo de vejez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rcRect l="0" t="34819" r="0" b="0"/>
          <a:stretch/>
        </p:blipFill>
        <p:spPr>
          <a:xfrm>
            <a:off x="971640" y="1731960"/>
            <a:ext cx="8208720" cy="5151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5"/>
          <p:cNvSpPr/>
          <p:nvPr/>
        </p:nvSpPr>
        <p:spPr>
          <a:xfrm>
            <a:off x="108000" y="187920"/>
            <a:ext cx="90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. - No hablarás de tu edad ni te quejarás de tus achaques, reales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aginarios ... Acabarás por creerte más viejo y más enfermo de l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 realidad estás y te harán el vací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la gente no le gusta oír historias de hospital. Cuando te pregun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¿Cómo estás?, contestarás que: ¡Muy bien! ¡divinamen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rcRect l="7308" t="8963" r="6778" b="10156"/>
          <a:stretch/>
        </p:blipFill>
        <p:spPr>
          <a:xfrm>
            <a:off x="-3240" y="-27000"/>
            <a:ext cx="9145800" cy="636444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92160" y="4434120"/>
            <a:ext cx="9051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6. - Cultivarás el optimismo sobre todas las cos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 mal tiempo, buena cara. Sé positivo en los juicios, de buen humor e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s  palabras, alegre de rostro, amable en los adem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seas un viejo amarg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 tiene la  edad que se ejerce. La vejez no es cuestión de años sino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ado  de á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El corazón no envejece" (el cuero es el que se arrug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5"/>
          <p:cNvSpPr/>
          <p:nvPr/>
        </p:nvSpPr>
        <p:spPr>
          <a:xfrm>
            <a:off x="108000" y="1340280"/>
            <a:ext cx="90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. - Tratarás de ser útil a ti mismo y a los demá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eres un parásito ni una rama desgajada del árbol de l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ástate a ti mismo hasta donde sea pos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ayuda, ayuda con una sonrisa, un consejo, un serv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 abrirte a los demás, dejarás de estar pensando en un "yo" angusti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soli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Solo cuando se abre la nuez, aparece la almendra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684360" y="4784760"/>
            <a:ext cx="75945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-36360" y="-17640"/>
            <a:ext cx="9361440" cy="69757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5"/>
          <p:cNvSpPr/>
          <p:nvPr/>
        </p:nvSpPr>
        <p:spPr>
          <a:xfrm>
            <a:off x="34920" y="1835280"/>
            <a:ext cx="91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. - Trabajarás con tus manos y con tu 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 trabajo es la terapia infalible. Cualquier actitud laboral, intelectu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tística. Haz algo, lo que sea y lo que pue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a ocupación artesanal, un rato de lectura, un trozo amable de TV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mú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bendición del trabajo es medicina para todos los ma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si ya estás jubilado, ocúpate en actividades de servic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s hospitales, asilos, iglesias, etc. siempre necesitan manos que ayu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1:16:20Z</dcterms:created>
  <dc:creator>OH</dc:creator>
  <dc:description/>
  <dc:language>en-US</dc:language>
  <cp:lastModifiedBy>Carmen Salazar</cp:lastModifiedBy>
  <dcterms:modified xsi:type="dcterms:W3CDTF">2010-05-20T20:31:26Z</dcterms:modified>
  <cp:revision>126</cp:revision>
  <dc:subject/>
  <dc:title> Mandamientos para saber envejecer</dc:title>
</cp:coreProperties>
</file>