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VangelisLaConquistadelParaiso.wav" ContentType="audio/x-wav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782-71DC-480F-98A3-4AA077F1E3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6F1-1CC2-46E5-B1B5-B84E35FFAD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B51-CF9A-4A32-ACD6-20D0527E069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306-D02A-40A3-824C-7DB2B93A51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EC4-A842-4D87-A503-AA61C2953C9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DD1-FB97-4841-9650-03FAB920096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6FF-67B6-49CC-8219-1C3B11DC478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4A1-DA3B-462D-8ED9-5642AAD908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867-3389-4FF9-83E9-A285BDAE3E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panorama que nos ofrece el señor Cerolo y compañía, al pretender la legalización de las UNIONES GAYS, que NO MATRIMONIOS. ¡POBRES CRIATURAS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1708-EA2A-4642-A32B-70271EA56C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9D3-673A-44B8-90F6-E60ECA8E798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58A-3FD5-44DE-A215-EBFAA263EF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EA4A-7094-4DA8-A6AE-1D1A28C7BD4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5E6D-90DE-4935-BB81-79FD4FACFC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B7AB-16F7-4ABE-A372-58B9AAD5BC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7FE-B330-4D99-A435-86420CDD433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A38-FC4E-4942-93EC-3CEBDC200C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04A6-DA36-4994-A649-6E4DA9173D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629-8A56-47DF-B1C7-CD8264EB2CE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B104-F22A-4AFB-8F23-4D9D05BC42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829C-DC28-4A75-8C5E-0B68D8A3AC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D49-FB37-44C2-B7F9-44612BE8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508-F05D-44A5-B7F2-DB20F01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1AF-949D-4E95-9E93-4119DA9F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BE9-29AB-44D2-90AC-2272163D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5248-F746-4334-BCA7-9A5CB40D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A8A-6626-4979-B60F-54BB193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6EC-285D-4F06-AA03-70BCBAA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A9B4-2200-4035-AC45-D4F2242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FCD3-A3DF-4E36-B03B-62C3A1C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490C-AA93-4D4F-8B3D-9603B64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34A0-8D92-4EFD-8B8F-7E37603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B39-3ADB-4BA4-A093-41C263A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4C7-D131-4206-884F-A20C65D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FB8-A42E-42DF-B45F-5816351F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91CE-F4AD-42A6-B28C-1ED7082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2A99-F846-4C3B-A696-EF295899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BAB2-7A47-4CD5-9C64-0163EF32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9BF-B9A0-4282-9650-168CF43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8A6-E65C-46E2-93B9-97B7FF7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C29-20EB-4193-AF06-8A0902F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FF8-275B-40F7-9220-66041C2C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DF3-FC1A-4D16-B2C2-4DD93CD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8D9-E9DB-4332-B12E-B8D4EDB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CAD-A2E8-46C8-BDCC-81E16E6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73A7-28B5-4E25-89E8-0AA45D76DC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3" descr="bebe"/>
          <p:cNvPicPr/>
          <p:nvPr/>
        </p:nvPicPr>
        <p:blipFill>
          <a:blip r:embed="rId3"/>
          <a:stretch/>
        </p:blipFill>
        <p:spPr>
          <a:xfrm>
            <a:off x="0" y="0"/>
            <a:ext cx="96372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68FA-BA9B-4D7B-B154-B90AEB8570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VangelisLaConquistadelParais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859280" y="1700280"/>
            <a:ext cx="40384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y Alejandr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go un año y med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soy huérf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¡Esto va a pasar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32000" y="1484280"/>
            <a:ext cx="35305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92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 niñer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la cuidadora"/>
          <p:cNvPicPr/>
          <p:nvPr/>
        </p:nvPicPr>
        <p:blipFill>
          <a:blip r:embed="rId2"/>
          <a:stretch/>
        </p:blipFill>
        <p:spPr>
          <a:xfrm>
            <a:off x="4572000" y="333360"/>
            <a:ext cx="2971800" cy="604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3840" y="3000240"/>
            <a:ext cx="403884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á juega con las muñecas, y a veces me deja jugar con ell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papá con muñecas"/>
          <p:cNvPicPr/>
          <p:nvPr/>
        </p:nvPicPr>
        <p:blipFill>
          <a:blip r:embed="rId2"/>
          <a:stretch/>
        </p:blipFill>
        <p:spPr>
          <a:xfrm>
            <a:off x="4500720" y="260280"/>
            <a:ext cx="3914640" cy="585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veces, mis papás salen a fiestas y conocen a nuevas personas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En la carroza"/>
          <p:cNvPicPr/>
          <p:nvPr/>
        </p:nvPicPr>
        <p:blipFill>
          <a:blip r:embed="rId2"/>
          <a:stretch/>
        </p:blipFill>
        <p:spPr>
          <a:xfrm>
            <a:off x="6588000" y="1557360"/>
            <a:ext cx="323532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apá liga"/>
          <p:cNvPicPr/>
          <p:nvPr/>
        </p:nvPicPr>
        <p:blipFill>
          <a:blip r:embed="rId3"/>
          <a:stretch/>
        </p:blipFill>
        <p:spPr>
          <a:xfrm>
            <a:off x="3995640" y="1341360"/>
            <a:ext cx="2752920" cy="258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papá pavoreal"/>
          <p:cNvPicPr/>
          <p:nvPr/>
        </p:nvPicPr>
        <p:blipFill>
          <a:blip r:embed="rId4"/>
          <a:stretch/>
        </p:blipFill>
        <p:spPr>
          <a:xfrm>
            <a:off x="5580000" y="2997360"/>
            <a:ext cx="4465800" cy="3071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2781360"/>
            <a:ext cx="2495520" cy="380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apá conoció a otro chico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Papá y papá"/>
          <p:cNvPicPr/>
          <p:nvPr/>
        </p:nvPicPr>
        <p:blipFill>
          <a:blip r:embed="rId2"/>
          <a:stretch/>
        </p:blipFill>
        <p:spPr>
          <a:xfrm>
            <a:off x="1187280" y="1557360"/>
            <a:ext cx="7086600" cy="467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49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el otro tambié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Papá y su novio"/>
          <p:cNvPicPr/>
          <p:nvPr/>
        </p:nvPicPr>
        <p:blipFill>
          <a:blip r:embed="rId2"/>
          <a:stretch/>
        </p:blipFill>
        <p:spPr>
          <a:xfrm>
            <a:off x="4716360" y="404640"/>
            <a:ext cx="3484800" cy="620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 papá me dice que seré un ángel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8000" y="458100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nque yo no sé qué es lo que él entiende por un ánge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papá me lleva al parque"/>
          <p:cNvPicPr/>
          <p:nvPr/>
        </p:nvPicPr>
        <p:blipFill>
          <a:blip r:embed="rId2"/>
          <a:stretch/>
        </p:blipFill>
        <p:spPr>
          <a:xfrm>
            <a:off x="1333440" y="1268280"/>
            <a:ext cx="3348000" cy="4753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familia"/>
          <p:cNvPicPr/>
          <p:nvPr/>
        </p:nvPicPr>
        <p:blipFill>
          <a:blip r:embed="rId2"/>
          <a:stretch/>
        </p:blipFill>
        <p:spPr>
          <a:xfrm>
            <a:off x="3773520" y="1844640"/>
            <a:ext cx="4562280" cy="4621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 pregunto muchas veces ¿por qué mis amigos de la escuela son tan diferentes? 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714240" y="0"/>
            <a:ext cx="8429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ien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te es el panorama que nos ofrecen  a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alizar las UNIONES GAYS, que NO SON MATRIMONIOS, sin tomar en cuenta el sentir de la población, (como lo quieren hacer con el aborto), al abrirle las puertas a las parejas homosexuales para adoptar niños/juguetes. ¡POBRES CRIATURAS INDEFENSAS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¿Estarás de acuerdo en que un niño, hijo adoptivo de una pareja homosexual, trate de conquistar a tu hijo en la escuela, dado que es lo que él verá como normal por el ejemplo en su ca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144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A ti te hubiera gustado que te adoptara una pareja de homosexua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Si tú fallecieras, te gustaría que tus hijos fueran dados en adopción a parejas homosexua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Esto que ya es realidad en otros países, te gustaría que pasara en Argentin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 grandeza de un pueblo se refleja en la capacidad que tiene para proteger a los más débile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FLEXIO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rial"/>
              </a:rPr>
              <a:t>¿Quién crees que es más débil: un niño huérfano o una pareja homosexua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987640" y="189000"/>
            <a:ext cx="5580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papá y mi mamá murieron en un accidente de tráfico cuando volvían    de un viaj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6408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85840" y="1599840"/>
            <a:ext cx="857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ecesari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respetar a los homosexuales como sere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ndispensable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respetar y defender a la familia heterosexual tal como fue cr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mperdonable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no velar por el bienestar integral de los ni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¡DIOS, LA PATRIA Y NUESTROS HIJOS NOS LO DEMANDEN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6408720" cy="429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24480" y="-36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ezaba a echar mucho de menos a papá y a mamá, pero en el sitio donde me cuidaban me dijeron que no me preocupase, porque había una familia que iba a quererme y cuidar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53120" y="333360"/>
            <a:ext cx="2990880" cy="341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131640" y="2898720"/>
            <a:ext cx="40388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estos días, unos diputados, muy buenos y justos del partido gobernante, pensando solo en mi bienestar, vieron claro que yo merecía tener una familia perfecta para poder desarrollarme y crecer feliz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58920" y="0"/>
            <a:ext cx="2987640" cy="2867040"/>
            <a:chOff x="1258920" y="0"/>
            <a:chExt cx="2987640" cy="286704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1258920" y="0"/>
              <a:ext cx="2987640" cy="28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1438200" y="2303280"/>
              <a:ext cx="2736720" cy="368280"/>
              <a:chOff x="1438200" y="2303280"/>
              <a:chExt cx="2736720" cy="36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1438200" y="2374560"/>
                <a:ext cx="2592360" cy="28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200" y="2303280"/>
                <a:ext cx="27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Estella Maris Córdob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89080" y="4005360"/>
            <a:ext cx="2987640" cy="2591640"/>
            <a:chOff x="289080" y="4005360"/>
            <a:chExt cx="2987640" cy="2591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9080" y="4005360"/>
              <a:ext cx="2987640" cy="256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468360" y="6184440"/>
              <a:ext cx="2736720" cy="412560"/>
              <a:chOff x="468360" y="6184440"/>
              <a:chExt cx="2736720" cy="412560"/>
            </a:xfrm>
          </p:grpSpPr>
          <p:sp>
            <p:nvSpPr>
              <p:cNvPr id="123" name=""/>
              <p:cNvSpPr/>
              <p:nvPr/>
            </p:nvSpPr>
            <p:spPr>
              <a:xfrm>
                <a:off x="468360" y="6265800"/>
                <a:ext cx="2592360" cy="331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8360" y="6184440"/>
                <a:ext cx="27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Jerónimo Vargas Aignas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pá y mamá"/>
          <p:cNvPicPr/>
          <p:nvPr/>
        </p:nvPicPr>
        <p:blipFill>
          <a:blip r:embed="rId2"/>
          <a:stretch/>
        </p:blipFill>
        <p:spPr>
          <a:xfrm>
            <a:off x="1187280" y="1730520"/>
            <a:ext cx="6409080" cy="485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bebe"/>
          <p:cNvPicPr/>
          <p:nvPr/>
        </p:nvPicPr>
        <p:blipFill>
          <a:blip r:embed="rId3"/>
          <a:stretch/>
        </p:blipFill>
        <p:spPr>
          <a:xfrm>
            <a:off x="0" y="0"/>
            <a:ext cx="1014480" cy="14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143080" y="571680"/>
            <a:ext cx="4038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 me encontrarían una bonita famili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2327040"/>
            <a:ext cx="295776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hora esta es mi Mamá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1" descr="¿mamá"/>
          <p:cNvPicPr/>
          <p:nvPr/>
        </p:nvPicPr>
        <p:blipFill>
          <a:blip r:embed="rId2"/>
          <a:stretch/>
        </p:blipFill>
        <p:spPr>
          <a:xfrm>
            <a:off x="4284720" y="333360"/>
            <a:ext cx="3260520" cy="6237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8"/>
          <p:cNvSpPr/>
          <p:nvPr/>
        </p:nvSpPr>
        <p:spPr>
          <a:xfrm>
            <a:off x="0" y="0"/>
            <a:ext cx="9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2" descr="bebe"/>
          <p:cNvPicPr/>
          <p:nvPr/>
        </p:nvPicPr>
        <p:blipFill>
          <a:blip r:embed="rId3"/>
          <a:stretch/>
        </p:blipFill>
        <p:spPr>
          <a:xfrm>
            <a:off x="0" y="0"/>
            <a:ext cx="858960" cy="11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papito"/>
          <p:cNvPicPr/>
          <p:nvPr/>
        </p:nvPicPr>
        <p:blipFill>
          <a:blip r:embed="rId2"/>
          <a:stretch/>
        </p:blipFill>
        <p:spPr>
          <a:xfrm>
            <a:off x="4643280" y="260280"/>
            <a:ext cx="3459240" cy="640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263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mi pap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324324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mbién está el abuel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el abuelo"/>
          <p:cNvPicPr/>
          <p:nvPr/>
        </p:nvPicPr>
        <p:blipFill>
          <a:blip r:embed="rId2"/>
          <a:stretch/>
        </p:blipFill>
        <p:spPr>
          <a:xfrm>
            <a:off x="4356000" y="134136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2852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la abuel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la abuela"/>
          <p:cNvPicPr/>
          <p:nvPr/>
        </p:nvPicPr>
        <p:blipFill>
          <a:blip r:embed="rId2"/>
          <a:stretch/>
        </p:blipFill>
        <p:spPr>
          <a:xfrm>
            <a:off x="3132000" y="907920"/>
            <a:ext cx="5727960" cy="5224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7:08:31Z</dcterms:created>
  <dc:creator>Alfredo González</dc:creator>
  <dc:description/>
  <dc:language>en-US</dc:language>
  <cp:lastModifiedBy>Pablo</cp:lastModifiedBy>
  <dcterms:modified xsi:type="dcterms:W3CDTF">2010-04-27T21:36:12Z</dcterms:modified>
  <cp:revision>34</cp:revision>
  <dc:subject/>
  <dc:title>Diapositiva 1</dc:title>
</cp:coreProperties>
</file>