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VangelisLaConquistadelParaiso.wav" ContentType="audio/x-wav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C08-D065-4EB6-842A-78275179CE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FC7-20BA-4DE1-8491-51EC5ABA09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CD26-9900-4312-88FA-471DFDA1C0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FCB8-E737-42F2-83E1-6022046EE4A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B7FD-4C22-416F-900D-0CD02ECF2C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72D6-A0DA-4F29-A51B-1BADB56202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F315-0947-4CAE-81C4-76744ECB8F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13C-1CEC-41EC-A142-DDB2DC4CBD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37E0-275C-42ED-8AA3-1C073B4588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panorama que nos ofrece el señor Cerolo y compañía, al pretender la legalización de las UNIONES GAYS, que NO MATRIMONIOS. ¡POBRES CRIATURAS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423D-FA04-4746-8821-BE34ED09221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7D35-4206-4925-9AA7-491108D5D3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4FE-322F-464B-852A-A394EBAF7E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A01-20B8-4FFC-9843-B1F599D92FB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8BA-EE7E-4CB3-B3B1-41F087DD223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BF3-D18A-4D51-A33F-62377884959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BC73-5FEF-4C72-942F-95BE33CBB42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9873-F545-4925-A04A-BBAE4765660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71D-B750-4C1D-9A8B-2B264F8B329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70B-F80C-4F71-B36B-4175BC54C8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D93B-8D8D-4C5A-B3DF-3F55440B0B7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A30-0A17-4D65-A668-E6CD35AF5BB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0D3-F3BB-4916-85F6-89C2DEF4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1DD-1DC4-46CE-9D6D-FDF3CFE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6B7-E4A1-4D3E-A000-71D518C1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B40-B68F-4F62-8669-4037C45C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B151-E218-4284-92F2-1705A61A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1BE8-D15B-4D91-B65C-A91D2EB3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6146-8568-4861-B25E-56AA2459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BBD-BC2B-41B8-A66B-79C543DA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4FC7-6582-4C08-BCF1-8288261E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E408-ACD9-4E73-995E-F98CCDDA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A6F0-08F0-43BD-BA54-FDF5841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DF7-CCEE-43C3-9132-86842D88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228-AE99-47B0-8999-5CCBB9A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72E6-0123-466D-992D-1CD13DE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AE7F-3DB4-4C01-9A78-1115D05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5488-2971-439C-A1F4-09079EE1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18A-1FF7-4667-A3B4-8B9676B9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65C-37FE-4E82-AC02-F2CD0B94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EE3-A6ED-4263-8FA8-03D561B0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A82-3BFD-47DA-BEF8-781CC20E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9D4-A9F4-409F-B2ED-707B7BEE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AD2-065C-4F0E-BA8C-76B548C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6FC-8D85-41DA-AE39-7931760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0A7-4D50-464E-A516-2B24AA6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8D3C-4FA7-4252-9F7F-C28162AF1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3" descr="bebe"/>
          <p:cNvPicPr/>
          <p:nvPr/>
        </p:nvPicPr>
        <p:blipFill>
          <a:blip r:embed="rId3"/>
          <a:stretch/>
        </p:blipFill>
        <p:spPr>
          <a:xfrm>
            <a:off x="0" y="0"/>
            <a:ext cx="96372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F9C-2720-42C1-BB88-1CC5EBD811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VangelisLaConquistadelParais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859280" y="1700280"/>
            <a:ext cx="40384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y Alejandr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ngo un año y medi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soy huérf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¡Esto va a pasar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32000" y="1484280"/>
            <a:ext cx="35305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92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 niñer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la cuidadora"/>
          <p:cNvPicPr/>
          <p:nvPr/>
        </p:nvPicPr>
        <p:blipFill>
          <a:blip r:embed="rId2"/>
          <a:stretch/>
        </p:blipFill>
        <p:spPr>
          <a:xfrm>
            <a:off x="4572000" y="333360"/>
            <a:ext cx="2971800" cy="604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3840" y="3000240"/>
            <a:ext cx="403884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á juega con las muñecas, y a veces me deja jugar con ell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papá con muñecas"/>
          <p:cNvPicPr/>
          <p:nvPr/>
        </p:nvPicPr>
        <p:blipFill>
          <a:blip r:embed="rId2"/>
          <a:stretch/>
        </p:blipFill>
        <p:spPr>
          <a:xfrm>
            <a:off x="4500720" y="260280"/>
            <a:ext cx="3914640" cy="5850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veces, mis papás salen a fiestas y conocen a nuevas personas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En la carroza"/>
          <p:cNvPicPr/>
          <p:nvPr/>
        </p:nvPicPr>
        <p:blipFill>
          <a:blip r:embed="rId2"/>
          <a:stretch/>
        </p:blipFill>
        <p:spPr>
          <a:xfrm>
            <a:off x="6588000" y="1557360"/>
            <a:ext cx="323532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apá liga"/>
          <p:cNvPicPr/>
          <p:nvPr/>
        </p:nvPicPr>
        <p:blipFill>
          <a:blip r:embed="rId3"/>
          <a:stretch/>
        </p:blipFill>
        <p:spPr>
          <a:xfrm>
            <a:off x="3995640" y="1341360"/>
            <a:ext cx="2752920" cy="258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papá pavoreal"/>
          <p:cNvPicPr/>
          <p:nvPr/>
        </p:nvPicPr>
        <p:blipFill>
          <a:blip r:embed="rId4"/>
          <a:stretch/>
        </p:blipFill>
        <p:spPr>
          <a:xfrm>
            <a:off x="5580000" y="2997360"/>
            <a:ext cx="4465800" cy="3071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2781360"/>
            <a:ext cx="2495520" cy="380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apá conoció a otro chico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Papá y papá"/>
          <p:cNvPicPr/>
          <p:nvPr/>
        </p:nvPicPr>
        <p:blipFill>
          <a:blip r:embed="rId2"/>
          <a:stretch/>
        </p:blipFill>
        <p:spPr>
          <a:xfrm>
            <a:off x="1187280" y="1557360"/>
            <a:ext cx="7086600" cy="467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49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el otro tambié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Papá y su novio"/>
          <p:cNvPicPr/>
          <p:nvPr/>
        </p:nvPicPr>
        <p:blipFill>
          <a:blip r:embed="rId2"/>
          <a:stretch/>
        </p:blipFill>
        <p:spPr>
          <a:xfrm>
            <a:off x="4716360" y="404640"/>
            <a:ext cx="3484800" cy="6205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 papá me dice que seré un ángel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88000" y="458100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nque yo no sé qué es lo que él entiende por un ánge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papá me lleva al parque"/>
          <p:cNvPicPr/>
          <p:nvPr/>
        </p:nvPicPr>
        <p:blipFill>
          <a:blip r:embed="rId2"/>
          <a:stretch/>
        </p:blipFill>
        <p:spPr>
          <a:xfrm>
            <a:off x="1333440" y="1268280"/>
            <a:ext cx="3348000" cy="4753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familia"/>
          <p:cNvPicPr/>
          <p:nvPr/>
        </p:nvPicPr>
        <p:blipFill>
          <a:blip r:embed="rId2"/>
          <a:stretch/>
        </p:blipFill>
        <p:spPr>
          <a:xfrm>
            <a:off x="3773520" y="1844640"/>
            <a:ext cx="4562280" cy="4621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 pregunto muchas veces ¿por qué mis amigos de la escuela son tan diferentes? 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714240" y="0"/>
            <a:ext cx="8429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ien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te es el panorama que nos ofrecen  a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alizar las UNIONES GAYS, que NO SON MATRIMONIOS, sin tomar en cuenta el sentir de la población, (como lo quieren hacer con el aborto), al abrirle las puertas a las parejas homosexuales para adoptar niños/juguetes. ¡POBRES CRIATURAS INDEFENSAS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¿Estarás de acuerdo en que un niño, hijo adoptivo de una pareja homosexual, trate de conquistar a tu hijo en la escuela, dado que es lo que él verá como normal por el ejemplo en su ca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144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A ti te hubiera gustado que te adoptara una pareja de homosexua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Si tú fallecieras, te gustaría que tus hijos fueran dados en adopción a parejas homosexua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¿Esto que ya es realidad en otros países, te gustaría que pasara en Argentin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 grandeza de un pueblo se refleja en la capacidad que tiene para proteger a los más débile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FLEXIO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rial"/>
              </a:rPr>
              <a:t>¿Quién crees que es más débil: un niño huérfano o una pareja homosexual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987640" y="189000"/>
            <a:ext cx="5580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papá y mi mamá murieron en un accidente de tráfico cuando volvían    de un viaje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6408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285840" y="1599840"/>
            <a:ext cx="857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necesario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respetar a los homosexuales como sere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ndispensable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respetar y defender a la familia heterosexual tal como fue cr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imperdonable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no velar por el bienestar integral de los ni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¡DIOS, LA PATRIA Y NUESTROS HIJOS NOS LO DEMANDEN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6408720" cy="429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24480" y="-36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ezaba a echar mucho de menos a papá y a mamá, pero en el sitio donde me cuidaban me dijeron que no me preocupase, porque había una familia que iba a quererme y cuidar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53120" y="333360"/>
            <a:ext cx="2990880" cy="341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131640" y="2898720"/>
            <a:ext cx="40388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estos días, unos diputados, muy buenos y justos del partido gobernante, pensando solo en mi bienestar, vieron claro que yo merecía tener una familia perfecta para poder desarrollarme y crecer feliz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58920" y="0"/>
            <a:ext cx="2987640" cy="2867040"/>
            <a:chOff x="1258920" y="0"/>
            <a:chExt cx="2987640" cy="286704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1258920" y="0"/>
              <a:ext cx="2987640" cy="286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1438200" y="2303280"/>
              <a:ext cx="2736720" cy="368280"/>
              <a:chOff x="1438200" y="2303280"/>
              <a:chExt cx="2736720" cy="36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1438200" y="2374560"/>
                <a:ext cx="2592360" cy="28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200" y="2303280"/>
                <a:ext cx="27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Estella Maris Córdob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89080" y="4005360"/>
            <a:ext cx="2987640" cy="2591640"/>
            <a:chOff x="289080" y="4005360"/>
            <a:chExt cx="2987640" cy="2591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9080" y="4005360"/>
              <a:ext cx="2987640" cy="256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468360" y="6184440"/>
              <a:ext cx="2736720" cy="412560"/>
              <a:chOff x="468360" y="6184440"/>
              <a:chExt cx="2736720" cy="412560"/>
            </a:xfrm>
          </p:grpSpPr>
          <p:sp>
            <p:nvSpPr>
              <p:cNvPr id="123" name=""/>
              <p:cNvSpPr/>
              <p:nvPr/>
            </p:nvSpPr>
            <p:spPr>
              <a:xfrm>
                <a:off x="468360" y="6265800"/>
                <a:ext cx="2592360" cy="331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8360" y="6184440"/>
                <a:ext cx="2736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Arial"/>
                  </a:rPr>
                  <a:t>Jerónimo Vargas Aignas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pá y mamá"/>
          <p:cNvPicPr/>
          <p:nvPr/>
        </p:nvPicPr>
        <p:blipFill>
          <a:blip r:embed="rId2"/>
          <a:stretch/>
        </p:blipFill>
        <p:spPr>
          <a:xfrm>
            <a:off x="1187280" y="1730520"/>
            <a:ext cx="6409080" cy="485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bebe"/>
          <p:cNvPicPr/>
          <p:nvPr/>
        </p:nvPicPr>
        <p:blipFill>
          <a:blip r:embed="rId3"/>
          <a:stretch/>
        </p:blipFill>
        <p:spPr>
          <a:xfrm>
            <a:off x="0" y="0"/>
            <a:ext cx="1014480" cy="141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143080" y="571680"/>
            <a:ext cx="4038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 me encontrarían una bonita famili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2327040"/>
            <a:ext cx="295776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hora esta es mi Mamá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1" descr="¿mamá"/>
          <p:cNvPicPr/>
          <p:nvPr/>
        </p:nvPicPr>
        <p:blipFill>
          <a:blip r:embed="rId2"/>
          <a:stretch/>
        </p:blipFill>
        <p:spPr>
          <a:xfrm>
            <a:off x="4284720" y="333360"/>
            <a:ext cx="3260520" cy="6237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8"/>
          <p:cNvSpPr/>
          <p:nvPr/>
        </p:nvSpPr>
        <p:spPr>
          <a:xfrm>
            <a:off x="0" y="0"/>
            <a:ext cx="9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2" descr="bebe"/>
          <p:cNvPicPr/>
          <p:nvPr/>
        </p:nvPicPr>
        <p:blipFill>
          <a:blip r:embed="rId3"/>
          <a:stretch/>
        </p:blipFill>
        <p:spPr>
          <a:xfrm>
            <a:off x="0" y="0"/>
            <a:ext cx="858960" cy="11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papito"/>
          <p:cNvPicPr/>
          <p:nvPr/>
        </p:nvPicPr>
        <p:blipFill>
          <a:blip r:embed="rId2"/>
          <a:stretch/>
        </p:blipFill>
        <p:spPr>
          <a:xfrm>
            <a:off x="4643280" y="260280"/>
            <a:ext cx="3459240" cy="6408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263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mi pap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324324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mbién está el abuel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el abuelo"/>
          <p:cNvPicPr/>
          <p:nvPr/>
        </p:nvPicPr>
        <p:blipFill>
          <a:blip r:embed="rId2"/>
          <a:stretch/>
        </p:blipFill>
        <p:spPr>
          <a:xfrm>
            <a:off x="4356000" y="134136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2852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la abuela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la abuela"/>
          <p:cNvPicPr/>
          <p:nvPr/>
        </p:nvPicPr>
        <p:blipFill>
          <a:blip r:embed="rId2"/>
          <a:stretch/>
        </p:blipFill>
        <p:spPr>
          <a:xfrm>
            <a:off x="3132000" y="907920"/>
            <a:ext cx="5727960" cy="5224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636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7:08:31Z</dcterms:created>
  <dc:creator>Alfredo González</dc:creator>
  <dc:description/>
  <dc:language>en-US</dc:language>
  <cp:lastModifiedBy>Pablo</cp:lastModifiedBy>
  <dcterms:modified xsi:type="dcterms:W3CDTF">2010-04-27T21:36:12Z</dcterms:modified>
  <cp:revision>34</cp:revision>
  <dc:subject/>
  <dc:title>Diapositiva 1</dc:title>
</cp:coreProperties>
</file>