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Piano%20by%20candlelight%2010%20-%20Chopin%20-%20Nocturne%20in%20D%20Flat%20major.wav" ContentType="audio/x-wav"/>
  <Override PartName="/ppt/media/image6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42.jpeg" ContentType="image/jpeg"/>
  <Override PartName="/ppt/media/image59.jpeg" ContentType="image/jpeg"/>
  <Override PartName="/ppt/media/image26.jpeg" ContentType="image/jpeg"/>
  <Override PartName="/ppt/media/image5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D917-9793-4E2E-852E-966733EA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B90-965F-4830-8F34-DE6E045D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F71-CEDE-4F3B-BBF0-6D4D2FF9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61D-B86C-4466-A32F-F6F6B01D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FAE-08F2-4F43-8394-12BC2CB8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1EE-2911-4A59-9BD4-5804F9F6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8AE-4456-48A5-99D5-091BF707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66E-657C-4FE2-906D-1E0ACB0F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F2D1-1917-4DFA-A566-86A29924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C77-EFD8-4324-BD5E-404C2B8D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C8B-4AE4-4A95-9B6A-C5E611AD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5D1-40CA-4236-AAF2-DD446C19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E3EC-12A3-4126-81E5-DCD80F9FD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audio" Target="../media/Piano%20by%20candlelight%2010%20-%20Chopin%20-%20Nocturne%20in%20D%20Flat%20major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0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95808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2492280"/>
            <a:ext cx="4753080" cy="1441440"/>
          </a:xfrm>
          <a:prstGeom prst="rect">
            <a:avLst/>
          </a:prstGeom>
          <a:solidFill>
            <a:srgbClr val="be7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2205000"/>
            <a:ext cx="6626160" cy="1739880"/>
          </a:xfrm>
          <a:prstGeom prst="rect">
            <a:avLst/>
          </a:prstGeom>
          <a:solidFill>
            <a:srgbClr val="be7100"/>
          </a:solidFill>
          <a:ln w="9360">
            <a:solidFill>
              <a:srgbClr val="be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edicado a los que aún siguen pensando que fotografiar sólo consiste en apretar un bot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5734080"/>
            <a:ext cx="9144000" cy="79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66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5640" y="157320"/>
            <a:ext cx="7632720" cy="6700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a66f00"/>
          </a:solidFill>
          <a:ln w="9360">
            <a:solidFill>
              <a:srgbClr val="a6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453360"/>
            <a:ext cx="7632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719280"/>
            <a:ext cx="9144000" cy="5641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181080" y="6093000"/>
            <a:ext cx="9649080" cy="50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6237360"/>
            <a:ext cx="9433080" cy="966600"/>
          </a:xfrm>
          <a:prstGeom prst="rect">
            <a:avLst/>
          </a:prstGeom>
          <a:solidFill>
            <a:srgbClr val="000000"/>
          </a:solidFill>
          <a:ln w="9360">
            <a:solidFill>
              <a:srgbClr val="c9f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46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5734080"/>
            <a:ext cx="9144000" cy="133992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3336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7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5877000"/>
            <a:ext cx="9144000" cy="1736640"/>
          </a:xfrm>
          <a:prstGeom prst="rect">
            <a:avLst/>
          </a:prstGeom>
          <a:solidFill>
            <a:srgbClr val="966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32508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19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956720" y="6165720"/>
            <a:ext cx="1187280" cy="35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457200" y="5877000"/>
            <a:ext cx="9601200" cy="120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805360"/>
            <a:ext cx="9252000" cy="12956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981080" y="1434960"/>
            <a:ext cx="4896000" cy="12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Renoi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84360" y="2957400"/>
            <a:ext cx="353232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ierre-Augus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1841-19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92360" y="4560840"/>
            <a:ext cx="547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 Dream Of Harmon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97080" y="6000840"/>
            <a:ext cx="446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ps made by Tslila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5157720"/>
            <a:ext cx="33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cc"/>
                </a:solidFill>
                <a:latin typeface="Times New Roman"/>
                <a:ea typeface="Times New Roman"/>
              </a:rPr>
              <a:t>Music: chopin-nocturn in d flat ma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7101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0" y="189000"/>
            <a:ext cx="9144000" cy="631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165720"/>
            <a:ext cx="9144000" cy="935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950080"/>
            <a:ext cx="25092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893080" y="6093000"/>
            <a:ext cx="25092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4f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591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5877000"/>
            <a:ext cx="9144000" cy="12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252360" y="5589720"/>
            <a:ext cx="964872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46360" y="1600200"/>
            <a:ext cx="1458720" cy="218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937120" y="1600200"/>
            <a:ext cx="1459080" cy="218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746360" y="3938760"/>
            <a:ext cx="1460520" cy="2187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0"/>
            <a:ext cx="2340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195640" y="0"/>
            <a:ext cx="4565520" cy="6840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2195640" y="0"/>
            <a:ext cx="457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6" presetSubtype="26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680000" cy="7029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0"/>
            <a:ext cx="2268360" cy="71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c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34513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300720" y="0"/>
            <a:ext cx="3274920" cy="6858000"/>
          </a:xfrm>
          <a:prstGeom prst="rect">
            <a:avLst/>
          </a:prstGeom>
          <a:solidFill>
            <a:srgbClr val="007c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85080" cy="6902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101080" y="0"/>
            <a:ext cx="1224000" cy="695808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588000" y="6453360"/>
            <a:ext cx="255600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08b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667640" y="6093000"/>
            <a:ext cx="147636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3048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2195640" cy="6858000"/>
          </a:xfrm>
          <a:prstGeom prst="rect">
            <a:avLst/>
          </a:prstGeom>
          <a:solidFill>
            <a:srgbClr val="c87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46360" y="1600200"/>
            <a:ext cx="1460520" cy="2185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937120" y="1600200"/>
            <a:ext cx="1460520" cy="2185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746360" y="3938760"/>
            <a:ext cx="1460520" cy="2187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3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2195640" y="0"/>
            <a:ext cx="457812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2195640" y="0"/>
            <a:ext cx="457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108000" y="1994040"/>
            <a:ext cx="9360000" cy="2868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4581360"/>
            <a:ext cx="914400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181080" y="4581360"/>
            <a:ext cx="9649080" cy="227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252000" cy="1989000"/>
          </a:xfrm>
          <a:prstGeom prst="rect">
            <a:avLst/>
          </a:prstGeom>
          <a:solidFill>
            <a:srgbClr val="c28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83876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0"/>
            <a:ext cx="971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172360" y="0"/>
            <a:ext cx="971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13440" cy="6913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496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0"/>
            <a:ext cx="2340000" cy="6858000"/>
          </a:xfrm>
          <a:prstGeom prst="rect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571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4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13440" cy="6886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1116000" cy="695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654200" y="27000"/>
            <a:ext cx="7489800" cy="6831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187280" y="6524640"/>
            <a:ext cx="810108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-2681640" y="2681640"/>
            <a:ext cx="7056360" cy="16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973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6920" y="6497640"/>
            <a:ext cx="763272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d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30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6021360"/>
            <a:ext cx="9144000" cy="576360"/>
          </a:xfrm>
          <a:prstGeom prst="rect">
            <a:avLst/>
          </a:prstGeom>
          <a:solidFill>
            <a:srgbClr val="005dba"/>
          </a:solidFill>
          <a:ln w="9360">
            <a:solidFill>
              <a:srgbClr val="005d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107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613728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10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6308640"/>
            <a:ext cx="9144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232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6237360"/>
            <a:ext cx="9144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33360"/>
            <a:ext cx="914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528920" y="1600200"/>
            <a:ext cx="1893600" cy="2185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719680" y="1600200"/>
            <a:ext cx="1893960" cy="2185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528920" y="3938760"/>
            <a:ext cx="1895400" cy="2187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476360" y="0"/>
            <a:ext cx="6120000" cy="70293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55640" y="6713640"/>
            <a:ext cx="7272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4360" y="6497640"/>
            <a:ext cx="93636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51640" y="6497640"/>
            <a:ext cx="936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272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6381720"/>
            <a:ext cx="9144000" cy="8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-468360" y="-25560"/>
            <a:ext cx="10153800" cy="66405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0" y="5949360"/>
            <a:ext cx="946800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27092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3b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622840" cy="7029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-1260360" y="0"/>
            <a:ext cx="3024000" cy="71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461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541440" y="-316080"/>
            <a:ext cx="10406160" cy="7399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948360" y="6620040"/>
            <a:ext cx="2521080" cy="475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6308640"/>
            <a:ext cx="9144000" cy="7509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323280" cy="70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959800" cy="70293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0"/>
            <a:ext cx="69840" cy="6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541440" y="0"/>
            <a:ext cx="2087640" cy="7101000"/>
          </a:xfrm>
          <a:prstGeom prst="rect">
            <a:avLst/>
          </a:prstGeom>
          <a:solidFill>
            <a:srgbClr val="2a805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70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619280" y="-316080"/>
            <a:ext cx="5915160" cy="7632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0"/>
            <a:ext cx="1547640" cy="7029360"/>
          </a:xfrm>
          <a:prstGeom prst="rect">
            <a:avLst/>
          </a:prstGeom>
          <a:solidFill>
            <a:srgbClr val="dc9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1640" y="0"/>
            <a:ext cx="1692360" cy="7029360"/>
          </a:xfrm>
          <a:prstGeom prst="rect">
            <a:avLst/>
          </a:prstGeom>
          <a:solidFill>
            <a:srgbClr val="dc9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036000" cy="60231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6093000"/>
            <a:ext cx="125892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-181080" y="6093000"/>
            <a:ext cx="950616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-181080" y="6308640"/>
            <a:ext cx="95061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8172360" cy="7029360"/>
          </a:xfrm>
          <a:prstGeom prst="rect">
            <a:avLst/>
          </a:prstGeom>
          <a:solidFill>
            <a:srgbClr val="9966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343640" cy="63928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50920" y="6524640"/>
            <a:ext cx="7777080" cy="333360"/>
          </a:xfrm>
          <a:prstGeom prst="rect">
            <a:avLst/>
          </a:prstGeom>
          <a:solidFill>
            <a:srgbClr val="996600"/>
          </a:solidFill>
          <a:ln w="9360">
            <a:solidFill>
              <a:srgbClr val="9a6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9d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24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815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6165720"/>
            <a:ext cx="9144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20360" cy="6777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740720" y="6453360"/>
            <a:ext cx="172728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10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V="1">
            <a:off x="0" y="6308640"/>
            <a:ext cx="9144000" cy="865440"/>
          </a:xfrm>
          <a:prstGeom prst="rect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0" y="6308640"/>
            <a:ext cx="9144000" cy="865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695808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24000" y="2492280"/>
            <a:ext cx="4753080" cy="1441440"/>
          </a:xfrm>
          <a:prstGeom prst="rect">
            <a:avLst/>
          </a:prstGeom>
          <a:solidFill>
            <a:srgbClr val="be7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58920" y="2492280"/>
            <a:ext cx="6626160" cy="1477080"/>
          </a:xfrm>
          <a:prstGeom prst="rect">
            <a:avLst/>
          </a:prstGeom>
          <a:solidFill>
            <a:srgbClr val="be7100"/>
          </a:solidFill>
          <a:ln w="9360">
            <a:solidFill>
              <a:srgbClr val="be7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mpresionante, ¿verd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¡Que tengáis un buen dí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52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734080"/>
            <a:ext cx="889308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00:35:10Z</dcterms:created>
  <dc:creator>vince-jane</dc:creator>
  <dc:description/>
  <dc:language>en-US</dc:language>
  <cp:lastModifiedBy>LMS</cp:lastModifiedBy>
  <dcterms:modified xsi:type="dcterms:W3CDTF">2010-06-18T07:35:27Z</dcterms:modified>
  <cp:revision>9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41000000000001024120</vt:lpwstr>
  </property>
</Properties>
</file>