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Vangelis%20-%20Conquest%20of%20paradise(long%20version).wav" ContentType="audio/x-wav"/>
  <Override PartName="/ppt/media/image25.jpeg" ContentType="image/jpeg"/>
  <Override PartName="/ppt/media/image3.gif" ContentType="image/gif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0FC8-ED8E-4000-B3AD-9F505EC715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DBA6-7423-4C31-B547-DFA255B818C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2AB-442C-4C81-AD2E-AA5A59D4DB3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72D-F300-45FF-A0E2-B4B6C075F75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6FE7-BD3E-4139-96B3-8313DD2C021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7D9C-F8DE-4706-8285-767F9CAFA24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DE2-7BBF-44A2-A139-BAC05785883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FA7-9A2D-48A5-8859-98DF028A49E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160-C418-417C-B606-22591727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F00-B88F-4981-8695-EE5872B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FA1-B33F-4E8B-8B44-F079DECF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3FE-EA96-4208-B5B4-3B74506A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D8E-0AB5-4C86-B8F7-351390CC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C8A-E37B-41E9-A84D-3F1FE950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4A2-20EF-4EA8-85F8-EB6ABC0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F34-F515-4891-891D-C42E349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63E-EBAE-479D-979D-D7C77EC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BF4-092C-4FAD-BE4B-D153B6B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FA5-415F-4B74-8D5B-22C5E6D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3B4-A3AD-40E1-ACF3-DB3BF1B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C35-BE73-4A9B-A01D-99E4626FDD1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Vangelis%20-%20Conquest%20of%20paradise(long%20version)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STOP  !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NO PINCHES MÁS!</a:t>
            </a:r>
            <a:br>
              <a:rPr sz="8000"/>
            </a:b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7429680"/>
            <a:ext cx="8229600" cy="7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ali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ali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al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214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La  lectura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de  esta   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DIAPORAMA 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es</a:t>
            </a: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AUTOMATIca</a:t>
            </a: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2960" y="7643520"/>
            <a:ext cx="8229600" cy="214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ali2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ali6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ali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ali4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929040"/>
            <a:ext cx="86868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GENIo</a:t>
            </a: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7358040"/>
            <a:ext cx="8229600" cy="4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al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714240" y="-429120"/>
            <a:ext cx="10429920" cy="72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ENTONCES…    dali</a:t>
            </a:r>
            <a:br>
              <a:rPr sz="8000"/>
            </a:br>
            <a:br>
              <a:rPr sz="8000"/>
            </a:br>
            <a:r>
              <a:rPr b="0" i="1" lang="fr-FR" sz="8000" spc="-1" strike="noStrike">
                <a:solidFill>
                  <a:srgbClr val="ffff00"/>
                </a:solidFill>
                <a:latin typeface="comic"/>
              </a:rPr>
              <a:t>geniO   Ó   LOCO   ?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7214760"/>
            <a:ext cx="8229600" cy="14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al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3 Cubo"/>
          <p:cNvSpPr/>
          <p:nvPr/>
        </p:nvSpPr>
        <p:spPr>
          <a:xfrm>
            <a:off x="8143920" y="6072120"/>
            <a:ext cx="857160" cy="571680"/>
          </a:xfrm>
          <a:prstGeom prst="cube">
            <a:avLst>
              <a:gd name="adj" fmla="val 2500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ó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DALI</a:t>
            </a:r>
            <a:br>
              <a:rPr sz="9600"/>
            </a:br>
            <a:br>
              <a:rPr sz="9600"/>
            </a:br>
            <a:r>
              <a:rPr b="0" i="1" lang="fr-FR" sz="9600" spc="-1" strike="noStrike">
                <a:solidFill>
                  <a:srgbClr val="ff0000"/>
                </a:solidFill>
                <a:latin typeface="comic"/>
              </a:rPr>
              <a:t>loco</a:t>
            </a:r>
            <a:endParaRPr b="0" lang="en-US" sz="9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7143840"/>
            <a:ext cx="8229600" cy="285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574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PARA   saBER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Y teNER   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unA  opiniÓn</a:t>
            </a:r>
            <a:br>
              <a:rPr sz="6000"/>
            </a:b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solo tú!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Escucha !</a:t>
            </a:r>
            <a:br>
              <a:rPr sz="6000"/>
            </a:br>
            <a:r>
              <a:rPr b="0" i="1" lang="fr-FR" sz="6000" spc="-1" strike="noStrike">
                <a:solidFill>
                  <a:srgbClr val="ffff00"/>
                </a:solidFill>
                <a:latin typeface="comic"/>
              </a:rPr>
              <a:t>y   mira !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7857720"/>
            <a:ext cx="8229600" cy="214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1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:\Mijn Documenten\Bijlagen\GIF archief\Music 115.gif"/>
          <p:cNvPicPr/>
          <p:nvPr/>
        </p:nvPicPr>
        <p:blipFill>
          <a:blip r:embed="rId2"/>
          <a:stretch/>
        </p:blipFill>
        <p:spPr>
          <a:xfrm>
            <a:off x="2286000" y="6340320"/>
            <a:ext cx="4572000" cy="365400"/>
          </a:xfrm>
          <a:prstGeom prst="rect">
            <a:avLst/>
          </a:prstGeom>
          <a:ln w="0">
            <a:noFill/>
          </a:ln>
        </p:spPr>
      </p:pic>
      <p:sp>
        <p:nvSpPr>
          <p:cNvPr id="62" name="4 Rectángulo"/>
          <p:cNvSpPr/>
          <p:nvPr/>
        </p:nvSpPr>
        <p:spPr>
          <a:xfrm>
            <a:off x="285840" y="5715000"/>
            <a:ext cx="3714840" cy="50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locura es a veces esplend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3" name="Vangelis%20-%20Conquest%20of%20paradise(long%20version)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ali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9:46:11Z</dcterms:created>
  <dc:creator/>
  <dc:description/>
  <dc:language>en-US</dc:language>
  <cp:lastModifiedBy>josetxo</cp:lastModifiedBy>
  <dcterms:modified xsi:type="dcterms:W3CDTF">2009-12-20T19:49:30Z</dcterms:modified>
  <cp:revision>14</cp:revision>
  <dc:subject/>
  <dc:title>Salvatore Dali</dc:title>
</cp:coreProperties>
</file>