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Lago%20de%20los%20Cisnes.wav" ContentType="audio/x-wav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1F4-A1DA-450C-AA1B-DFA2F7C7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59D-EF67-439C-8474-B1C8DE52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3FF-D112-4E70-A8F0-E1FA4EA8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075-978C-4448-A2AE-91BEFAB6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0BD-E914-4811-86AD-4D535057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B75-CE0B-4D08-ABEF-2D102548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ECE-936D-4736-9DEF-B8549CD9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C4A-7985-4D2C-92CF-FEF9307E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636-67C7-4D17-B969-DA22D2D9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363-BA28-4DBA-BB97-1D29887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F5F-3491-41CB-BA0E-E8127AD6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922-3AAB-4760-9978-DA48F0F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43CA-AC74-435D-98F1-F66319B8F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Lago%20de%20los%20Cisn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487600" y="277920"/>
            <a:ext cx="4175280" cy="642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Verdana"/>
              </a:rPr>
              <a:t>ESTOY CON EL 7%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99072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Escrito por Regina Brett, 90 años, de "The Plain Dealer", Cleveland, Ohio </a:t>
            </a:r>
            <a:br>
              <a:rPr sz="2400"/>
            </a:br>
            <a:r>
              <a:rPr b="1" i="1" lang="es-MX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3068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Para celebrar la llegada a mi edad avanzada escribí unas lecciones que me </a:t>
            </a:r>
            <a:br>
              <a:rPr sz="2400"/>
            </a:b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 ha enseñado la vida     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lide0014_image08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79280" y="304920"/>
            <a:ext cx="8064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*       Si una relación tiene que ser secreta, mejor no tenerla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14"/>
          <p:cNvPicPr/>
          <p:nvPr/>
        </p:nvPicPr>
        <p:blipFill>
          <a:blip r:embed="rId1"/>
          <a:stretch/>
        </p:blipFill>
        <p:spPr>
          <a:xfrm>
            <a:off x="985680" y="1038240"/>
            <a:ext cx="7172640" cy="4781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7"/>
          <p:cNvSpPr/>
          <p:nvPr/>
        </p:nvSpPr>
        <p:spPr>
          <a:xfrm>
            <a:off x="324000" y="3729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Respira profundamente.. Eso calma la mente.      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304920" y="56386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limina todo lo que no sea útil, hermoso o alegr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lide0011_image06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0" y="144360"/>
            <a:ext cx="96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Lo que no te mata, en realidad te hace más fuerte.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lide0015_image08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Nunca es demasiado tarde para tener una niñez feliz. Pero la      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 segunda sólo depende de ti.  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-181080" y="5478480"/>
            <a:ext cx="93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Cuando se trata de perseguir aquello que amas en la vida, no      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aceptes un "no" por respuesta.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28600" y="2286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nciende las velas, utiliza las sábanas bonitas, ponte la        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lencería cara. No la guardes para una ocasión especial. Hoy es especial.  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lide0018_image05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 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Sé excéntrico ahora. No esperes a ser viejo para serlo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79280" y="220680"/>
            <a:ext cx="8964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l órgano sexual más importante es el cerebro.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457200" y="304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Nadie es responsable de tu felicidad, tan sólo tú.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Image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79280" y="228600"/>
            <a:ext cx="8569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nmarca todo supuesto "desastre" con estas palabras: "En cinco    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años, ¿esto importará?"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5084640"/>
            <a:ext cx="856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 Perdónale todo a todo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0009_image048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-181080" y="5283360"/>
            <a:ext cx="9325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o que las otras personas piensen de ti, no te incumb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026"/>
          <p:cNvSpPr txBox="1"/>
          <p:nvPr/>
        </p:nvSpPr>
        <p:spPr>
          <a:xfrm>
            <a:off x="1047600" y="4343400"/>
            <a:ext cx="7667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l Lago de los Cis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5" name="Text Box 1029"/>
          <p:cNvSpPr/>
          <p:nvPr/>
        </p:nvSpPr>
        <p:spPr>
          <a:xfrm>
            <a:off x="162720" y="6095880"/>
            <a:ext cx="66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 Rounded MT Bold"/>
              </a:rPr>
              <a:t>La  genial y dramática música de Peter Tchaikovsky en..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030" descr="slide0176_image003"/>
          <p:cNvPicPr/>
          <p:nvPr/>
        </p:nvPicPr>
        <p:blipFill>
          <a:blip r:embed="rId2"/>
          <a:stretch/>
        </p:blipFill>
        <p:spPr>
          <a:xfrm>
            <a:off x="7848720" y="5867280"/>
            <a:ext cx="1066680" cy="711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1"/>
          <p:cNvSpPr/>
          <p:nvPr/>
        </p:nvSpPr>
        <p:spPr>
          <a:xfrm>
            <a:off x="2887920" y="3062160"/>
            <a:ext cx="336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Vean, escuchen y admiren..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1032"/>
          <p:cNvSpPr/>
          <p:nvPr/>
        </p:nvSpPr>
        <p:spPr>
          <a:xfrm>
            <a:off x="6341400" y="426708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eorgia"/>
              </a:rPr>
              <a:t>¡Disfrútenla!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  <p:sndAc>
      <p:stSnd>
        <p:snd r:embed="rId3" name="Lago%20de%20los%20Cisn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slide0020_image083"/>
          <p:cNvPicPr/>
          <p:nvPr/>
        </p:nvPicPr>
        <p:blipFill>
          <a:blip r:embed="rId1"/>
          <a:stretch/>
        </p:blipFill>
        <p:spPr>
          <a:xfrm>
            <a:off x="-18108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El tiempo sana casi todo. Dale tiempo al tiempo.         </a:t>
            </a:r>
            <a:r>
              <a:rPr b="1" lang="es-MX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58920" y="49784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Por más buena o mala que sea una situación, algún día cambiará.  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8"/>
          <p:cNvPicPr/>
          <p:nvPr/>
        </p:nvPicPr>
        <p:blipFill>
          <a:blip r:embed="rId1"/>
          <a:stretch/>
        </p:blipFill>
        <p:spPr>
          <a:xfrm>
            <a:off x="33480" y="457200"/>
            <a:ext cx="90756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28600" y="15732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No te tomes tan en serio. Nadie más lo hace.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8600" y="524196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No cuestiones la vida. Sólo vívela y aprovéchala al máximo hoy.  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                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28600" y="304920"/>
            <a:ext cx="8610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legar a viejo es mejor que la alternativa.....morir joven.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4360" y="3645000"/>
            <a:ext cx="8151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Lo único que importa es que al final hayas amado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lide0007_image0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0"/>
            <a:ext cx="8532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    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 Sal todos los días. Los milagros están esperando en todas partes.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66760" y="1628640"/>
            <a:ext cx="70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Si juntáramos nuestros problemas y viéramos los montones de los demás, querríamos los nuestros.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6b"/>
          <p:cNvPicPr/>
          <p:nvPr/>
        </p:nvPicPr>
        <p:blipFill>
          <a:blip r:embed="rId1"/>
          <a:stretch/>
        </p:blipFill>
        <p:spPr>
          <a:xfrm>
            <a:off x="0" y="0"/>
            <a:ext cx="8889840" cy="63752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324000" y="228600"/>
            <a:ext cx="8351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La envidia es una pérdida de tiempo. Tú ya tienes todo lo que    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 necesitas.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075600" cy="7010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762120" y="1371600"/>
            <a:ext cx="7619760" cy="8254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No importa cómo te sientas... arréglate y preséntate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09480" y="304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o mejor está aún por llegar.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03640" y="23493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   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¡Cede!    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404640"/>
            <a:ext cx="8893080" cy="1556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*       La vida no está envuelta con un lazo pero sigue siendo un        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regalo. 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1b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24000" y="888840"/>
            <a:ext cx="8288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 estima que el 93% de las personas no reenviarán esto            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3886200" y="304920"/>
            <a:ext cx="2000160" cy="35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F i n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50920" y="547560"/>
            <a:ext cx="7950240" cy="39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Si eres uno del 7% que lo hará, reenvíalo con el título 7%             </a:t>
            </a:r>
            <a:br>
              <a:rPr sz="2400"/>
            </a:b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Yo estoy en el  </a:t>
            </a:r>
            <a:r>
              <a:rPr b="1" i="1" lang="es-ES_tradnl" sz="4000" spc="-1" strike="noStrike">
                <a:solidFill>
                  <a:srgbClr val="ffff00"/>
                </a:solidFill>
                <a:latin typeface="Verdana"/>
              </a:rPr>
              <a:t>7%</a:t>
            </a: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                                                         </a:t>
            </a:r>
            <a:br>
              <a:rPr sz="2400"/>
            </a:b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                                                                           </a:t>
            </a:r>
            <a:br>
              <a:rPr sz="2400"/>
            </a:b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 </a:t>
            </a:r>
            <a:r>
              <a:rPr b="1" i="1" lang="es-ES_tradnl" sz="3600" spc="-1" strike="noStrike">
                <a:solidFill>
                  <a:srgbClr val="ffff00"/>
                </a:solidFill>
                <a:latin typeface="Verdana"/>
              </a:rPr>
              <a:t>Los Amigos son la Familia que nosotros mismos escogemos                  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081160" y="5969160"/>
            <a:ext cx="497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El Lago de los Cisnes aquí mostrad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se encuentra en Salt Lake City, Utah (USA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53320" y="233280"/>
            <a:ext cx="6235560" cy="763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eorgia"/>
              </a:rPr>
              <a:t>Peter Ilich Tchaikovsky, músico ruso (1840-1893)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eorgia"/>
              </a:rPr>
              <a:t>La música que se presenta aquí es una de las partes más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eorgia"/>
              </a:rPr>
              <a:t>dramáticas del ballet y corresponde a la escena del encantamiento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aster03_image00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818640" y="279360"/>
            <a:ext cx="7508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a vida no es justa, pero aún así es buena.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2438280"/>
            <a:ext cx="8305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La vida es demasiado corta para perder el tiempo odiando a        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alguien.            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lide0006_image04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360" y="533520"/>
            <a:ext cx="8153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ccff"/>
                </a:solidFill>
                <a:latin typeface="Verdana"/>
              </a:rPr>
              <a:t>*   </a:t>
            </a:r>
            <a:r>
              <a:rPr b="1" i="1" lang="es-ES_tradnl" sz="2400" spc="-1" strike="noStrike">
                <a:solidFill>
                  <a:srgbClr val="00ffff"/>
                </a:solidFill>
                <a:latin typeface="Verdana"/>
              </a:rPr>
              <a:t>    Tu trabajo no te cuidará cuando estés enfermo. Tus amigos y tu     </a:t>
            </a:r>
            <a:br>
              <a:rPr sz="2400"/>
            </a:br>
            <a:r>
              <a:rPr b="1" i="1" lang="es-ES_tradnl" sz="2400" spc="-1" strike="noStrike">
                <a:solidFill>
                  <a:srgbClr val="00ffff"/>
                </a:solidFill>
                <a:latin typeface="Verdana"/>
              </a:rPr>
              <a:t>familia sí. Mantente en contacto.      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slide0016_image07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228600" y="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*       No tienes que ganar cada discusión. Debes estar de acuerdo en no estar de acuerdo. 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                                                   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27" descr="1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Verdana"/>
              </a:rPr>
              <a:t>*       Llora con alguien. Alivia más que llorar solo.      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30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Cuando se trata de chocolate, la resistencia  es inútil.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71520" y="270000"/>
            <a:ext cx="8772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Haz las paces con tu pasado para que no arruine el presente.    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"/>
          <p:cNvPicPr/>
          <p:nvPr/>
        </p:nvPicPr>
        <p:blipFill>
          <a:blip r:embed="rId1"/>
          <a:stretch/>
        </p:blipFill>
        <p:spPr>
          <a:xfrm>
            <a:off x="33480" y="0"/>
            <a:ext cx="9075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2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28600" y="228600"/>
            <a:ext cx="2895480" cy="2288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*       No compares tu vida con la de otros. No tienes ni idea de cómo es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 su travesía.  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8:52:15Z</dcterms:created>
  <dc:creator>jb</dc:creator>
  <dc:description/>
  <dc:language>en-US</dc:language>
  <cp:lastModifiedBy>APARICIO</cp:lastModifiedBy>
  <dcterms:modified xsi:type="dcterms:W3CDTF">2010-03-28T22:46:45Z</dcterms:modified>
  <cp:revision>52</cp:revision>
  <dc:subject/>
  <dc:title>Présentation PowerPoint</dc:title>
</cp:coreProperties>
</file>