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5.jpeg" ContentType="image/jpeg"/>
  <Override PartName="/ppt/media/image26.jpeg" ContentType="image/jpeg"/>
  <Override PartName="/ppt/media/Chinese%20Classical%20Music-%20Erhr.wav" ContentType="audio/x-wav"/>
  <Override PartName="/ppt/media/image18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BB9C-8116-4E53-85CC-33F378560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96E9-B7AC-474B-9B11-B77CB16DF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A402-8351-4E29-8F77-AAC7E3388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FAD2-26E6-429A-BAB2-141CA28B6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3C24-E66B-47E5-9C13-7CA2FC8AA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D763-6954-4E81-AB97-B9A7C4DAB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493A-656C-441F-8978-90B35EB7B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4ABF-410E-4962-A749-56B497A86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5FF1-9C57-4743-960D-49325CE67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A679-62A5-456F-9A90-ECFD710B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1385-EBAD-4962-A9ED-94582CD0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838D-E449-4175-9963-B4867B07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9E379-449A-4756-B4F0-3672BD77DC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nese%20Classical%20Music-%20Erhr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Celjm@uol.com.br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400"/>
            </a:gs>
            <a:gs pos="50000">
              <a:srgbClr val="ffd685"/>
            </a:gs>
            <a:gs pos="100000">
              <a:srgbClr val="005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Stone Dragon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825480"/>
            <a:ext cx="9540720" cy="9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ARTE DE IMAGEN, ARTE DE MÚSICA Y ARTE DEL PENSAMIENTO</a:t>
            </a:r>
            <a:r>
              <a:rPr b="1" lang="en-US" sz="2100" spc="-1" strike="noStrike">
                <a:solidFill>
                  <a:srgbClr val="ffffff"/>
                </a:solidFill>
                <a:latin typeface="Arial Black"/>
              </a:rPr>
              <a:t>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 Black"/>
              </a:rPr>
              <a:t>                                         </a:t>
            </a:r>
            <a:r>
              <a:rPr b="1" lang="en-US" sz="25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2500" spc="-1" strike="noStrike">
                <a:solidFill>
                  <a:srgbClr val="ffff00"/>
                </a:solidFill>
                <a:latin typeface="Arial Black"/>
              </a:rPr>
              <a:t>MEDITACIÓ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708280"/>
            <a:ext cx="91440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ff00"/>
                </a:solidFill>
                <a:latin typeface="comic"/>
              </a:rPr>
              <a:t>CHINA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050920" y="5734080"/>
            <a:ext cx="64803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fffff"/>
                </a:solidFill>
                <a:latin typeface="Arial"/>
              </a:rPr>
              <a:t>TEXTOS</a:t>
            </a:r>
            <a:r>
              <a:rPr b="1" lang="pt-BR" sz="29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pt-BR" sz="2500" spc="-1" strike="noStrike">
                <a:solidFill>
                  <a:srgbClr val="ffffff"/>
                </a:solidFill>
                <a:latin typeface="Arial"/>
              </a:rPr>
              <a:t>Confúcio Y Lao-Ts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4653000"/>
            <a:ext cx="7200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fffff"/>
                </a:solidFill>
                <a:latin typeface="Arial"/>
              </a:rPr>
              <a:t>MÚSICA: Chinese Classical Music.w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700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400"/>
            </a:gs>
            <a:gs pos="50000">
              <a:srgbClr val="19ff19"/>
            </a:gs>
            <a:gs pos="100000">
              <a:srgbClr val="005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Endless rice fields"/>
          <p:cNvPicPr/>
          <p:nvPr/>
        </p:nvPicPr>
        <p:blipFill>
          <a:blip r:embed="rId1"/>
          <a:stretch/>
        </p:blipFill>
        <p:spPr>
          <a:xfrm>
            <a:off x="395280" y="836640"/>
            <a:ext cx="8244000" cy="54054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44600" y="222120"/>
            <a:ext cx="8604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Es mejor encender una vela que maldecir la oscuridad. (</a:t>
            </a:r>
            <a:r>
              <a:rPr b="1" i="1" lang="pt-BR" sz="1900" spc="-1" strike="noStrike">
                <a:solidFill>
                  <a:srgbClr val="ffffff"/>
                </a:solidFill>
                <a:latin typeface="Arial"/>
              </a:rPr>
              <a:t>Confúcio</a:t>
            </a: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009e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www.ydy.com"/>
          <p:cNvPicPr/>
          <p:nvPr/>
        </p:nvPicPr>
        <p:blipFill>
          <a:blip r:embed="rId1"/>
          <a:stretch/>
        </p:blipFill>
        <p:spPr>
          <a:xfrm>
            <a:off x="395280" y="836640"/>
            <a:ext cx="8280360" cy="568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50920" y="95400"/>
            <a:ext cx="889308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Al examinarnos los errores de un hombre, conocemos su carácter.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pt-BR" sz="1900" spc="-1" strike="noStrike">
                <a:solidFill>
                  <a:srgbClr val="ffffff"/>
                </a:solidFill>
                <a:latin typeface="Arial"/>
              </a:rPr>
              <a:t>Confúcio</a:t>
            </a: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400"/>
            </a:gs>
            <a:gs pos="50000">
              <a:srgbClr val="ccff33"/>
            </a:gs>
            <a:gs pos="100000">
              <a:srgbClr val="005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92000" y="0"/>
            <a:ext cx="83534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El hombre realmente culto no se averguenza de hacer preguntas también a los menos instruídos. </a:t>
            </a:r>
            <a:r>
              <a:rPr b="1" i="1" lang="pt-BR" sz="1900" spc="-1" strike="noStrike">
                <a:solidFill>
                  <a:srgbClr val="ffffff"/>
                </a:solidFill>
                <a:latin typeface="Arial"/>
              </a:rPr>
              <a:t>(Lao-Tsé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www.ydy.com"/>
          <p:cNvPicPr/>
          <p:nvPr/>
        </p:nvPicPr>
        <p:blipFill>
          <a:blip r:embed="rId1"/>
          <a:stretch/>
        </p:blipFill>
        <p:spPr>
          <a:xfrm>
            <a:off x="468360" y="836640"/>
            <a:ext cx="8209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400"/>
            </a:gs>
            <a:gs pos="50000">
              <a:srgbClr val="dddddd"/>
            </a:gs>
            <a:gs pos="100000">
              <a:srgbClr val="005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19280" y="125280"/>
            <a:ext cx="8424720" cy="15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Quien conoce a los otros es sabio; quien se conoce a si mismo es iluminado. </a:t>
            </a:r>
            <a:r>
              <a:rPr b="1" i="1" lang="pt-BR" sz="1900" spc="-1" strike="noStrike">
                <a:solidFill>
                  <a:srgbClr val="ffffff"/>
                </a:solidFill>
                <a:latin typeface="Arial"/>
              </a:rPr>
              <a:t>(Lao-Tsé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www.ydy.com"/>
          <p:cNvPicPr/>
          <p:nvPr/>
        </p:nvPicPr>
        <p:blipFill>
          <a:blip r:embed="rId1"/>
          <a:stretch/>
        </p:blipFill>
        <p:spPr>
          <a:xfrm>
            <a:off x="826920" y="907920"/>
            <a:ext cx="7667640" cy="575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ac3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8064360" cy="5491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20720" y="93600"/>
            <a:ext cx="828036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Quien conoce su ignorancia revela la más profunda sapiencia. Quien ignora su ignorância vive en la más profunda ilusión. </a:t>
            </a:r>
            <a:r>
              <a:rPr b="1" i="1" lang="pt-BR" sz="1900" spc="-1" strike="noStrike">
                <a:solidFill>
                  <a:srgbClr val="ffffff"/>
                </a:solidFill>
                <a:latin typeface="Arial"/>
              </a:rPr>
              <a:t>(Lao-Tsé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00"/>
            </a:gs>
            <a:gs pos="50000">
              <a:srgbClr val="dddddd"/>
            </a:gs>
            <a:gs pos="100000">
              <a:srgbClr val="005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Gone Fishin'"/>
          <p:cNvPicPr/>
          <p:nvPr/>
        </p:nvPicPr>
        <p:blipFill>
          <a:blip r:embed="rId1"/>
          <a:stretch/>
        </p:blipFill>
        <p:spPr>
          <a:xfrm>
            <a:off x="611280" y="836640"/>
            <a:ext cx="8028000" cy="54687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19280" y="0"/>
            <a:ext cx="842472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Pagar el mal con el bien, porque el amor es victorioso en el ataque e invulnerable en la defensa. </a:t>
            </a:r>
            <a:r>
              <a:rPr b="1" i="1" lang="pt-BR" sz="1900" spc="-1" strike="noStrike">
                <a:solidFill>
                  <a:srgbClr val="ffffff"/>
                </a:solidFill>
                <a:latin typeface="Arial"/>
              </a:rPr>
              <a:t>(Lao-Tsé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ddddd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55640" y="765000"/>
            <a:ext cx="7740720" cy="58057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68360" y="260280"/>
            <a:ext cx="84963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El alma no tiene secreto que el comportamiento no revele. </a:t>
            </a:r>
            <a:r>
              <a:rPr b="1" i="1" lang="pt-BR" sz="1900" spc="-1" strike="noStrike">
                <a:solidFill>
                  <a:srgbClr val="ffffff"/>
                </a:solidFill>
                <a:latin typeface="Arial"/>
              </a:rPr>
              <a:t>(Lao-Tsé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ac3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8064360" cy="56530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60520" y="79200"/>
            <a:ext cx="849600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El sabio no se exhibe y vean como es notado. Renuncia a si mismo y jamás será olvidado. </a:t>
            </a:r>
            <a:r>
              <a:rPr b="1" i="1" lang="pt-BR" sz="1900" spc="-1" strike="noStrike">
                <a:solidFill>
                  <a:srgbClr val="ffffff"/>
                </a:solidFill>
                <a:latin typeface="Arial"/>
              </a:rPr>
              <a:t>(Lao-Tsé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2300"/>
            </a:gs>
            <a:gs pos="50000">
              <a:srgbClr val="eac0d5"/>
            </a:gs>
            <a:gs pos="100000">
              <a:srgbClr val="462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7920000" cy="59403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68360" y="189000"/>
            <a:ext cx="828036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Quien quiere humillar a alguien debe primero engrandecerlo. </a:t>
            </a:r>
            <a:r>
              <a:rPr b="1" i="1" lang="pt-BR" sz="1900" spc="-1" strike="noStrike">
                <a:solidFill>
                  <a:srgbClr val="ffffff"/>
                </a:solidFill>
                <a:latin typeface="Arial"/>
              </a:rPr>
              <a:t>(Lao-Tsé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85a96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55640" y="765000"/>
            <a:ext cx="7702560" cy="57769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09480" y="60480"/>
            <a:ext cx="83534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Para ganar conocimiento, adicione cosas todos  los días. Para ganar sabiduría, elimine cosas todos los dias. (Lao-Tsé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11280" y="2924280"/>
            <a:ext cx="53290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0000cc"/>
                </a:solidFill>
                <a:latin typeface="Arial Black"/>
              </a:rPr>
              <a:t>Posición relativa de la Chin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ddddd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7993080" cy="5327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879480" y="127080"/>
            <a:ext cx="828036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Grandes realizaciones son posibles cuando se dá importancia a los pequeños comienzos. </a:t>
            </a:r>
            <a:r>
              <a:rPr b="1" i="1" lang="pt-BR" sz="1900" spc="-1" strike="noStrike">
                <a:solidFill>
                  <a:srgbClr val="ffffff"/>
                </a:solidFill>
                <a:latin typeface="Arial"/>
              </a:rPr>
              <a:t>(Lao-Tsé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ddddd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84360" y="998640"/>
            <a:ext cx="7848360" cy="5616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755640" y="177840"/>
            <a:ext cx="7777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Cuando vea un hombre bueno, intenta imitarlo; cuando vea un hombre malo, examínate a tí mismo. (Confúcio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bbe0e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11280" y="1025640"/>
            <a:ext cx="8066160" cy="55720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68360" y="85680"/>
            <a:ext cx="8207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El corazón del hombre puede estar deprimido o excitado. En cualquiera de los dos casos el resultado será fatal. (Lao-Tsé)_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00"/>
            </a:gs>
            <a:gs pos="50000">
              <a:srgbClr val="dddddd"/>
            </a:gs>
            <a:gs pos="100000">
              <a:srgbClr val="005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7848720" cy="5602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74560" y="189000"/>
            <a:ext cx="85694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No son las malas hierbas que sofocan el grano, es la negligencia del cultivador. </a:t>
            </a:r>
            <a:r>
              <a:rPr b="1" i="1" lang="pt-BR" sz="1900" spc="-1" strike="noStrike">
                <a:solidFill>
                  <a:srgbClr val="ffffff"/>
                </a:solidFill>
                <a:latin typeface="Arial"/>
              </a:rPr>
              <a:t>(Confúcio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ddddd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San Ta # 2"/>
          <p:cNvPicPr/>
          <p:nvPr/>
        </p:nvPicPr>
        <p:blipFill>
          <a:blip r:embed="rId1"/>
          <a:stretch/>
        </p:blipFill>
        <p:spPr>
          <a:xfrm>
            <a:off x="684360" y="1052640"/>
            <a:ext cx="7848360" cy="5229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39640" y="177840"/>
            <a:ext cx="8209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La música genera un tipo de placer sin el cual la naturaleza humana no puede pasar. (Confúcio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ddddd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95280" y="944640"/>
            <a:ext cx="8174160" cy="5580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84360" y="177840"/>
            <a:ext cx="7920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Reacciona inteligentemente incluso a un tratamiento no inteligente. (</a:t>
            </a:r>
            <a:r>
              <a:rPr b="1" i="1" lang="pt-BR" sz="1900" spc="-1" strike="noStrike">
                <a:solidFill>
                  <a:srgbClr val="ffffff"/>
                </a:solidFill>
                <a:latin typeface="Arial"/>
              </a:rPr>
              <a:t>Lao-Tsé</a:t>
            </a: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 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ddddd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55640" y="1160640"/>
            <a:ext cx="7920000" cy="5364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896760" y="250920"/>
            <a:ext cx="8064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Todo deseo incómodo e inquieto se disuelve en el amor de la verdadera filosofía. (</a:t>
            </a:r>
            <a:r>
              <a:rPr b="1" i="1" lang="pt-BR" sz="1900" spc="-1" strike="noStrike">
                <a:solidFill>
                  <a:srgbClr val="ffffff"/>
                </a:solidFill>
                <a:latin typeface="Arial"/>
              </a:rPr>
              <a:t>Lao-Tsé</a:t>
            </a: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 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ddddd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00000" y="836640"/>
            <a:ext cx="7740720" cy="58053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400040" y="177840"/>
            <a:ext cx="74883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La liberación del deseo conduce a la paz interior. (</a:t>
            </a:r>
            <a:r>
              <a:rPr b="1" i="1" lang="pt-BR" sz="1900" spc="-1" strike="noStrike">
                <a:solidFill>
                  <a:srgbClr val="ffffff"/>
                </a:solidFill>
                <a:latin typeface="Arial"/>
              </a:rPr>
              <a:t>Lao-Tsé)</a:t>
            </a: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ddddd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8209080" cy="55450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84360" y="250920"/>
            <a:ext cx="7920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Cuando me despojo de lo que soy, me vuelvo en lo que podría ser. (</a:t>
            </a:r>
            <a:r>
              <a:rPr b="1" i="1" lang="pt-BR" sz="1900" spc="-1" strike="noStrike">
                <a:solidFill>
                  <a:srgbClr val="ffffff"/>
                </a:solidFill>
                <a:latin typeface="Arial"/>
              </a:rPr>
              <a:t>Lao-Tsé)</a:t>
            </a: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ddddd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372440" cy="55292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960480" y="127080"/>
            <a:ext cx="7632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Yo no busco saber las respuestas, busco comprender las preguntas. (Confúcio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2400"/>
            </a:gs>
            <a:gs pos="50000">
              <a:srgbClr val="cc9900"/>
            </a:gs>
            <a:gs pos="100000">
              <a:srgbClr val="4824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4360" y="0"/>
            <a:ext cx="8135640" cy="57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Vamos conocer algunos detalles de las bellezas naturales y de la cultura de ese sorprendente pueblo, una de las más antiguas civilizaciones del mundo, con sus sabios filósofos, su poder creativo y perfeccionista en todas sus manifestaciones culturales. Una Nación que, a través de los siglos, dió demostraciones de su poder creativo;  inventó el papel, la impresión y la pólvora. Es fácil imaginar la dificultad de gobernar ese País de tal porte y sabiduría, sabiéndose que 2/3 de su territorio es montañoso y abriga la mayor población del mundo con más de 2 billones y 300 millones de habitantes.  De ahí las manifestaciones contradictorias de sabiduría y de fuerza que la China tiene presentado al mundo – a las  bellezas culturales y de saber, se oponen las manifestación de fuerza y violencia – Tibet y Masacre de la Plaza de la Paz Celestial. Pero, no hay como negar el vigor y sabiduría de esa civilización, tan directamente influenciada por la religión predominante – el Budismo. La China celebró la más bella Olimpíada de todos los tiempos y está en camino para convertirse en  la primera potencia económica del Universo.</a:t>
            </a: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5877000"/>
            <a:ext cx="813780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00"/>
                </a:solidFill>
                <a:latin typeface="Arial"/>
              </a:rPr>
              <a:t>Admiremos algunos aspectos de las bellezas naturales y culturales de la China y meditemos sobre la sabiduría de dos de sus mayores filósofos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0c0c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7848360" cy="58658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084720" y="6370560"/>
            <a:ext cx="21592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bbe0e3"/>
                </a:solidFill>
                <a:latin typeface="Arial"/>
              </a:rPr>
              <a:t>Olimpíada 200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177840"/>
            <a:ext cx="8136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El ser humano tiene la perversa tendencia de transformar lo que le es prohibido en tentación. (Confúcio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ff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8137800" cy="54244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084720" y="5661000"/>
            <a:ext cx="21592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bbe0e3"/>
                </a:solidFill>
                <a:latin typeface="Arial"/>
              </a:rPr>
              <a:t>Olimpíada 200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1280" y="250920"/>
            <a:ext cx="80643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Es fácil borrar las huellas: Pero, difícil es caminar sin pisar el suelo. (Lao-Tsé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2a00"/>
            </a:gs>
            <a:gs pos="50000">
              <a:srgbClr val="ffffff"/>
            </a:gs>
            <a:gs pos="100000">
              <a:srgbClr val="b02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042920" y="981000"/>
            <a:ext cx="7345440" cy="55450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084720" y="5661000"/>
            <a:ext cx="21592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d393"/>
                </a:solidFill>
                <a:latin typeface="Arial"/>
              </a:rPr>
              <a:t>Olimpíada</a:t>
            </a:r>
            <a:r>
              <a:rPr b="0" lang="en-US" sz="1700" spc="-1" strike="noStrike">
                <a:solidFill>
                  <a:srgbClr val="b02a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ffd393"/>
                </a:solidFill>
                <a:latin typeface="Arial"/>
              </a:rPr>
              <a:t>200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26920" y="0"/>
            <a:ext cx="81378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Interferencias delicadas, cuando claras, vencen rígidas resistencias. (Lao-Tsé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Stone Dragon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0920" y="765000"/>
            <a:ext cx="8713800" cy="45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900" spc="-1" strike="noStrike">
                <a:solidFill>
                  <a:srgbClr val="ffffff"/>
                </a:solidFill>
                <a:latin typeface="Arial"/>
              </a:rPr>
              <a:t>IMAGENES Y MÚSICA: recibidas de mi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pt-BR" sz="2900" spc="-1" strike="noStrike">
                <a:solidFill>
                  <a:srgbClr val="ffffff"/>
                </a:solidFill>
                <a:latin typeface="Arial"/>
              </a:rPr>
              <a:t>contactos en interne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pt-BR" sz="2900" spc="-1" strike="noStrike">
                <a:solidFill>
                  <a:srgbClr val="ffffff"/>
                </a:solidFill>
                <a:latin typeface="Arial"/>
              </a:rPr>
              <a:t>TEXTOS: Confúcio y Lao-Tsé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pt-BR" sz="2100" spc="-1" strike="noStrike">
                <a:solidFill>
                  <a:srgbClr val="ffffff"/>
                </a:solidFill>
                <a:latin typeface="Arial"/>
              </a:rPr>
              <a:t>FORMATEO: J. Meirelles </a:t>
            </a:r>
            <a:r>
              <a:rPr b="0" lang="pt-BR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eljm@uol.com.b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www.jmeirelles.wordpress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1b00"/>
            </a:gs>
            <a:gs pos="50000">
              <a:srgbClr val="ff9933"/>
            </a:gs>
            <a:gs pos="100000">
              <a:srgbClr val="361b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Timeless"/>
          <p:cNvPicPr/>
          <p:nvPr/>
        </p:nvPicPr>
        <p:blipFill>
          <a:blip r:embed="rId1"/>
          <a:stretch/>
        </p:blipFill>
        <p:spPr>
          <a:xfrm>
            <a:off x="539640" y="855720"/>
            <a:ext cx="7920000" cy="5668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11280" y="7452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El sabio teme el cielo sereno; en compensación, cuando viene la tempestad él camina sobre las ondas y desafía el viento. (Confúc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1d00"/>
            </a:gs>
            <a:gs pos="50000">
              <a:srgbClr val="ffd685"/>
            </a:gs>
            <a:gs pos="100000">
              <a:srgbClr val="3a1d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www.ydy.com"/>
          <p:cNvPicPr/>
          <p:nvPr/>
        </p:nvPicPr>
        <p:blipFill>
          <a:blip r:embed="rId1"/>
          <a:stretch/>
        </p:blipFill>
        <p:spPr>
          <a:xfrm>
            <a:off x="611280" y="907920"/>
            <a:ext cx="8064360" cy="5545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84360" y="85680"/>
            <a:ext cx="813744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El hombre de bien exige todo de si mismo; el hombre mediocre espera todo de los otros. (Confúcio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04e00"/>
            </a:gs>
            <a:gs pos="50000">
              <a:srgbClr val="ffffff"/>
            </a:gs>
            <a:gs pos="100000">
              <a:srgbClr val="504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Yak by the stream"/>
          <p:cNvPicPr/>
          <p:nvPr/>
        </p:nvPicPr>
        <p:blipFill>
          <a:blip r:embed="rId1"/>
          <a:stretch/>
        </p:blipFill>
        <p:spPr>
          <a:xfrm>
            <a:off x="395280" y="1052640"/>
            <a:ext cx="8101080" cy="5379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95280" y="189000"/>
            <a:ext cx="8137440" cy="11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Escoja un trabajo que ama y no tendrá que trabajar un solo día en su vida.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(Confúcio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bbe0e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7453440" cy="5589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826920" y="0"/>
            <a:ext cx="79203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Lo que oigo, olvido. Lo que veo, recuerdo. Lo que hago, aprendo. (</a:t>
            </a: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Confúcio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99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136000" cy="5600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24000" y="189000"/>
            <a:ext cx="8496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aber lo que es correcto y no hacerlo es la peor cobardía. </a:t>
            </a: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pt-BR" sz="1900" spc="-1" strike="noStrike">
                <a:solidFill>
                  <a:srgbClr val="ffffff"/>
                </a:solidFill>
                <a:latin typeface="Arial"/>
              </a:rPr>
              <a:t>Confúcio</a:t>
            </a: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bbe0e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55640" y="0"/>
            <a:ext cx="8209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La naturaleza de los hombres es la misma, son sus hábitos los que los mantienen separados. (</a:t>
            </a:r>
            <a:r>
              <a:rPr b="1" i="1" lang="pt-BR" sz="1900" spc="-1" strike="noStrike">
                <a:solidFill>
                  <a:srgbClr val="ffffff"/>
                </a:solidFill>
                <a:latin typeface="Arial"/>
              </a:rPr>
              <a:t>Confúcio</a:t>
            </a: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55640" y="765000"/>
            <a:ext cx="7740720" cy="58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9T20:55:09Z</dcterms:created>
  <dc:creator>José Meirelles</dc:creator>
  <dc:description/>
  <dc:language>en-US</dc:language>
  <cp:lastModifiedBy>Fabricio Quintero Zelaya</cp:lastModifiedBy>
  <dcterms:modified xsi:type="dcterms:W3CDTF">2008-10-17T22:27:18Z</dcterms:modified>
  <cp:revision>32</cp:revision>
  <dc:subject/>
  <dc:title>Slide 1</dc:title>
</cp:coreProperties>
</file>