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Chinese%20Classical%20Music-%20Erhr.wav" ContentType="audio/x-wav"/>
  <Override PartName="/ppt/media/image1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99A-7F80-42EC-AB25-F7003B0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4AF-75D9-4FB2-A760-594DC32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C7F-7E29-48A4-9ADD-0F1D2C28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621-93BF-491E-9F9C-2E107DF2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1CC-1C3C-44D2-8A04-7785DB3D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EF1-39BC-489A-ADBC-56FBFDFF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8E2-8DB1-41D6-AFE9-AE88723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34F-9B59-429A-8D3A-0FCE9EBD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3D5-D313-45C8-AFEF-9744B49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F4D-33B4-4FBF-B078-B24497A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899-3E03-4F12-BDA6-18A5FE46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6D8-7E5C-48BF-BCEC-28CE520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C70-DC2F-4A0E-ADDF-25C5ED8A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nese%20Classical%20Music-%20Erh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eljm@uol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ffd685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tone Dr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25480"/>
            <a:ext cx="95407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RTE DE IMAGEN, ARTE DE MÚSICA Y ARTE DEL PENSAMIENTO</a:t>
            </a:r>
            <a:r>
              <a:rPr b="1" lang="en-US" sz="21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 Black"/>
              </a:rPr>
              <a:t>           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500" spc="-1" strike="noStrike">
                <a:solidFill>
                  <a:srgbClr val="ffff00"/>
                </a:solidFill>
                <a:latin typeface="Arial Black"/>
              </a:rPr>
              <a:t>MEDI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0828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comic"/>
              </a:rPr>
              <a:t>CHI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5734080"/>
            <a:ext cx="6480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TEXTOS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Confúcio Y Lao-Ts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4653000"/>
            <a:ext cx="72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MÚSICA: Chinese Classical Music.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19ff19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Endless rice fields"/>
          <p:cNvPicPr/>
          <p:nvPr/>
        </p:nvPicPr>
        <p:blipFill>
          <a:blip r:embed="rId1"/>
          <a:stretch/>
        </p:blipFill>
        <p:spPr>
          <a:xfrm>
            <a:off x="395280" y="836640"/>
            <a:ext cx="8244000" cy="5405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4600" y="222120"/>
            <a:ext cx="860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s mejor encender una vela que maldecir la oscuridad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e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www.ydy.com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68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95400"/>
            <a:ext cx="889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Al examinarnos los errores de un hombre, conocemos su carácter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ccff33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92000" y="0"/>
            <a:ext cx="835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hombre realmente culto no se averguenza de hacer preguntas también a los menos instruídos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www.ydy.com"/>
          <p:cNvPicPr/>
          <p:nvPr/>
        </p:nvPicPr>
        <p:blipFill>
          <a:blip r:embed="rId1"/>
          <a:stretch/>
        </p:blipFill>
        <p:spPr>
          <a:xfrm>
            <a:off x="468360" y="836640"/>
            <a:ext cx="820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dddddd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19280" y="125280"/>
            <a:ext cx="8424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conoce a los otros es sabio; quien se conoce a si mismo es iluminad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ww.ydy.com"/>
          <p:cNvPicPr/>
          <p:nvPr/>
        </p:nvPicPr>
        <p:blipFill>
          <a:blip r:embed="rId1"/>
          <a:stretch/>
        </p:blipFill>
        <p:spPr>
          <a:xfrm>
            <a:off x="826920" y="90792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a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49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20720" y="9360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conoce su ignorancia revela la más profunda sapiencia. Quien ignora su ignorância vive en la más profunda ilusión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00"/>
            </a:gs>
            <a:gs pos="50000">
              <a:srgbClr val="dddddd"/>
            </a:gs>
            <a:gs pos="100000">
              <a:srgbClr val="00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Gone Fishin'"/>
          <p:cNvPicPr/>
          <p:nvPr/>
        </p:nvPicPr>
        <p:blipFill>
          <a:blip r:embed="rId1"/>
          <a:stretch/>
        </p:blipFill>
        <p:spPr>
          <a:xfrm>
            <a:off x="611280" y="836640"/>
            <a:ext cx="8028000" cy="546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9280" y="0"/>
            <a:ext cx="84247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agar el mal con el bien, porque el amor es victorioso en el ataque e invulnerable en la defensa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40720" cy="580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260280"/>
            <a:ext cx="8496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alma no tiene secreto que el comportamiento no revele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a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565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0520" y="79200"/>
            <a:ext cx="8496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sabio no se exhibe y vean como es notado. Renuncia a si mismo y jamás será olvidad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300"/>
            </a:gs>
            <a:gs pos="50000">
              <a:srgbClr val="eac0d5"/>
            </a:gs>
            <a:gs pos="100000">
              <a:srgbClr val="462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8900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quiere humillar a alguien debe primero engrandecerl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85a96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02560" cy="5776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0480"/>
            <a:ext cx="835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ara ganar conocimiento, adicione cosas todos  los días. Para ganar sabiduría, elimine cosas todos los dias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2924280"/>
            <a:ext cx="532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 Black"/>
              </a:rPr>
              <a:t>Posición relativa de la Chin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79480" y="12708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Grandes realizaciones son posibles cuando se dá importancia a los pequeños comienzos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998640"/>
            <a:ext cx="7848360" cy="56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177840"/>
            <a:ext cx="777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Cuando vea un hombre bueno, intenta imitarlo; cuando vea un hombre malo, examínate a tí mismo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025640"/>
            <a:ext cx="8066160" cy="557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85680"/>
            <a:ext cx="8207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corazón del hombre puede estar deprimido o excitado. En cualquiera de los dos casos el resultado será fatal. (Lao-Tsé)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00"/>
            </a:gs>
            <a:gs pos="50000">
              <a:srgbClr val="dddddd"/>
            </a:gs>
            <a:gs pos="100000">
              <a:srgbClr val="00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8720" cy="560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4560" y="189000"/>
            <a:ext cx="856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No son las malas hierbas que sofocan el grano, es la negligencia del cultivador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n Ta # 2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522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77840"/>
            <a:ext cx="820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música genera un tipo de placer sin el cual la naturaleza humana no puede pasar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944640"/>
            <a:ext cx="8174160" cy="558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77840"/>
            <a:ext cx="79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Reacciona inteligentemente incluso a un tratamiento no inteligente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60640"/>
            <a:ext cx="7920000" cy="536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96760" y="250920"/>
            <a:ext cx="80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Todo deseo incómodo e inquieto se disuelve en el amor de la verdadera filosofía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0040" y="177840"/>
            <a:ext cx="748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liberación del deseo conduce a la paz interior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)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250920"/>
            <a:ext cx="79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Cuando me despojo de lo que soy, me vuelvo en lo que podría ser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)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372440" cy="5529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60480" y="127080"/>
            <a:ext cx="76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Yo no busco saber las respuestas, busco comprender las preguntas. 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2400"/>
            </a:gs>
            <a:gs pos="50000">
              <a:srgbClr val="cc9900"/>
            </a:gs>
            <a:gs pos="100000">
              <a:srgbClr val="4824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0"/>
            <a:ext cx="813564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amos conocer algunos detalles de las bellezas naturales y de la cultura de ese sorprendente pueblo, una de las más antiguas civilizaciones del mundo, con sus sabios filósofos, su poder creativo y perfeccionista en todas sus manifestaciones culturales. Una Nación que, a través de los siglos, dió demostraciones de su poder creativo;  inventó el papel, la impresión y la pólvora. Es fácil imaginar la dificultad de gobernar ese País de tal porte y sabiduría, sabiéndose que 2/3 de su territorio es montañoso y abriga la mayor población del mundo con más de 2 billones y 300 millones de habitantes.  De ahí las manifestaciones contradictorias de sabiduría y de fuerza que la China tiene presentado al mundo – a las  bellezas culturales y de saber, se oponen las manifestación de fuerza y violencia – Tibet y Masacre de la Plaza de la Paz Celestial. Pero, no hay como negar el vigor y sabiduría de esa civilización, tan directamente influenciada por la religión predominante – el Budismo. La China celebró la más bella Olimpíada de todos los tiempos y está en camino para convertirse en  la primera potencia económica del Universo.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877000"/>
            <a:ext cx="8137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00"/>
                </a:solidFill>
                <a:latin typeface="Arial"/>
              </a:rPr>
              <a:t>Admiremos algunos aspectos de las bellezas naturales y culturales de la China y meditemos sobre la sabiduría de dos de sus mayores filósof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0c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65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84720" y="637056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bbe0e3"/>
                </a:solidFill>
                <a:latin typeface="Arial"/>
              </a:rPr>
              <a:t>Olimpíada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77840"/>
            <a:ext cx="813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ser humano tiene la perversa tendencia de transformar lo que le es prohibido en tentación. 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7800" cy="542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566100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be0e3"/>
                </a:solidFill>
                <a:latin typeface="Arial"/>
              </a:rPr>
              <a:t>Olimpíada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50920"/>
            <a:ext cx="806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s fácil borrar las huellas: Pero, difícil es caminar sin pisar el suelo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2a00"/>
            </a:gs>
            <a:gs pos="50000">
              <a:srgbClr val="ffffff"/>
            </a:gs>
            <a:gs pos="100000">
              <a:srgbClr val="b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345440" cy="554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84720" y="566100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d393"/>
                </a:solidFill>
                <a:latin typeface="Arial"/>
              </a:rPr>
              <a:t>Olimpíada</a:t>
            </a:r>
            <a:r>
              <a:rPr b="0" lang="en-US" sz="1700" spc="-1" strike="noStrike">
                <a:solidFill>
                  <a:srgbClr val="b02a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d393"/>
                </a:solidFill>
                <a:latin typeface="Arial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0"/>
            <a:ext cx="8137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Interferencias delicadas, cuando claras, vencen rígidas resistencias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tone Dragon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765000"/>
            <a:ext cx="87138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IMAGENES Y MÚSICA: recibidas de m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contactos en int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TEXTOS: Confúcio y Lao-Ts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FORMATEO: J. Meirelles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ljm@uol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ww.jmeirelles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1b00"/>
            </a:gs>
            <a:gs pos="50000">
              <a:srgbClr val="ff9933"/>
            </a:gs>
            <a:gs pos="100000">
              <a:srgbClr val="361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Timeless"/>
          <p:cNvPicPr/>
          <p:nvPr/>
        </p:nvPicPr>
        <p:blipFill>
          <a:blip r:embed="rId1"/>
          <a:stretch/>
        </p:blipFill>
        <p:spPr>
          <a:xfrm>
            <a:off x="539640" y="855720"/>
            <a:ext cx="7920000" cy="566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74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l sabio teme el cielo sereno; en compensación, cuando viene la tempestad él camina sobre las ondas y desafía el viento. (Confú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d00"/>
            </a:gs>
            <a:gs pos="50000">
              <a:srgbClr val="ffd685"/>
            </a:gs>
            <a:gs pos="100000">
              <a:srgbClr val="3a1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www.ydy.com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554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85680"/>
            <a:ext cx="813744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hombre de bien exige todo de si mismo; el hombre mediocre espera todo de los otros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4e00"/>
            </a:gs>
            <a:gs pos="50000">
              <a:srgbClr val="ffffff"/>
            </a:gs>
            <a:gs pos="100000">
              <a:srgbClr val="504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Yak by the stream"/>
          <p:cNvPicPr/>
          <p:nvPr/>
        </p:nvPicPr>
        <p:blipFill>
          <a:blip r:embed="rId1"/>
          <a:stretch/>
        </p:blipFill>
        <p:spPr>
          <a:xfrm>
            <a:off x="395280" y="1052640"/>
            <a:ext cx="8101080" cy="537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89000"/>
            <a:ext cx="81374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coja un trabajo que ama y no tendrá que trabajar un solo día en su vida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(Confúc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53440" cy="558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0"/>
            <a:ext cx="792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o que oigo, olvido. Lo que veo, recuerdo. Lo que hago, aprendo. (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6000" cy="560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189000"/>
            <a:ext cx="849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aber lo que es correcto y no hacerlo es la peor cobardía.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0"/>
            <a:ext cx="820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naturaleza de los hombres es la misma, son sus hábitos los que los mantienen separados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55:09Z</dcterms:created>
  <dc:creator>José Meirelles</dc:creator>
  <dc:description/>
  <dc:language>en-US</dc:language>
  <cp:lastModifiedBy>Fabricio Quintero Zelaya</cp:lastModifiedBy>
  <dcterms:modified xsi:type="dcterms:W3CDTF">2008-10-17T22:27:18Z</dcterms:modified>
  <cp:revision>32</cp:revision>
  <dc:subject/>
  <dc:title>Slide 1</dc:title>
</cp:coreProperties>
</file>