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El%20cisne%2066%20Kb%2005.wav" ContentType="audio/x-wav"/>
  <Override PartName="/ppt/media/image22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Banda-sonora-%20Monastery-of-La-Rabida.wav" ContentType="audio/x-wav"/>
  <Override PartName="/ppt/media/image24.jpeg" ContentType="image/jpeg"/>
  <Override PartName="/ppt/media/image3.jpeg" ContentType="image/jpeg"/>
  <Override PartName="/ppt/media/image37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8.jpeg" ContentType="image/jpeg"/>
  <Override PartName="/ppt/media/image51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729-16AA-4148-9853-1BFBB3F7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D0B-8080-4F01-BFE5-5E06602B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14B-F37A-4588-8BA3-0CDDF0FA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E5BD-67D6-4E38-9C41-674A1F2A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8B1-30FE-4300-B88D-7A343568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2FA-7F60-413B-82FE-04016A46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B2C-361E-4327-B6A8-62A393EC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A28-6C71-4CF4-B0DB-E1A4BAC9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A04-8654-424E-8AA8-109B969B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EEC-20C0-43AE-8EE0-5CEF7FE1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136-AB89-44D8-8841-08633012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EA2-62DD-41B1-81F5-05F60B82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8828-7A0A-480B-8CC9-1AE0FD1B4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l%20cisne%2066%20Kb%2005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Banda-sonora-%20Monastery-of-La-Rabida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ff"/>
                </a:solidFill>
                <a:latin typeface="Arial"/>
              </a:rPr>
              <a:t>Ang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ff"/>
                </a:solidFill>
                <a:latin typeface="Arial"/>
              </a:rPr>
              <a:t>En La Ti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  <p:sndAc>
      <p:stSnd>
        <p:snd r:embed="rId1" name="El%20cisne%2066%20Kb%2005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2000" y="4327560"/>
            <a:ext cx="898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Pudo percatarse que la magnificencia divina del amor se había perdido, pues continuaba la desolació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280" y="0"/>
            <a:ext cx="85694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ffffff"/>
                </a:solidFill>
                <a:latin typeface="Arial"/>
              </a:rPr>
              <a:t>Dios vio a tantos humanos aún en guerra, ricos y pobres apartados, sanos y enfermos distantes, libres y esclavos separados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grayscl/>
          </a:blip>
          <a:srcRect l="0" t="0" r="7253" b="0"/>
          <a:stretch/>
        </p:blipFill>
        <p:spPr>
          <a:xfrm>
            <a:off x="324000" y="2205000"/>
            <a:ext cx="5543280" cy="418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940360" y="2205000"/>
            <a:ext cx="2935440" cy="4175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435640" y="2168640"/>
            <a:ext cx="3114720" cy="4286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26920" y="2214720"/>
            <a:ext cx="4029120" cy="4292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9640" y="476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Esposos y esposas que no complementaban su espíritu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grayscl/>
          </a:blip>
          <a:srcRect l="2230" t="1291" r="0" b="20992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404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60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Por lo que en ese momento, reunió a un ejercito de ángeles y les dijo: </a:t>
            </a: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¿pueden ver a los seres humanos?,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necesitan ayuda!, tendrán que bajar a la tierr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grayscl/>
          </a:blip>
          <a:srcRect l="2874" t="17787" r="0" b="117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1280" y="620640"/>
            <a:ext cx="7921440" cy="60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-¿Nosotros?,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preguntaron los ángeles ilusionados y asustados; llenos de fe.</a:t>
            </a:r>
            <a:r>
              <a:rPr b="0" lang="es-MX" sz="36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es-MX" sz="3200" spc="-1" strike="noStrike">
                <a:solidFill>
                  <a:srgbClr val="ffffff"/>
                </a:solidFill>
                <a:latin typeface="Arial"/>
              </a:rPr>
              <a:t>¡Sí ustedes son los indicados, nadie más podría cumplir esta tarea !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>
            <a:grayscl/>
          </a:blip>
          <a:srcRect l="1319" t="1181" r="0" b="0"/>
          <a:stretch/>
        </p:blipFill>
        <p:spPr>
          <a:xfrm>
            <a:off x="2268360" y="-7920"/>
            <a:ext cx="6875640" cy="6865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404640"/>
            <a:ext cx="8424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Hice al hombre a imagen y semejanza mía, pero con talentos especiales cada un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Permití diferencias entre ellos para que juntos formasen el rein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grayscl/>
          </a:blip>
          <a:srcRect l="1319" t="1181" r="0" b="0"/>
          <a:stretch/>
        </p:blipFill>
        <p:spPr>
          <a:xfrm>
            <a:off x="2268360" y="-7920"/>
            <a:ext cx="6875640" cy="686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404640"/>
            <a:ext cx="8424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Unos alcanzarían riquezas para compartir con los pobres. Otros gozarían de buena salud para cuidar a los enfermo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grayscl/>
          </a:blip>
          <a:srcRect l="1319" t="1181" r="0" b="0"/>
          <a:stretch/>
        </p:blipFill>
        <p:spPr>
          <a:xfrm>
            <a:off x="2268360" y="-7920"/>
            <a:ext cx="6875640" cy="6865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4046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Arial"/>
              </a:rPr>
              <a:t>Unos serían sabios y otros, muy simples, para procurar entre ellos sentimientos de amor, admiración y respeto. Los buenos tendrían que rezar por los que actuaran como si fueran malos, el paciente toleraría al neurótico; en fí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grayscl/>
          </a:blip>
          <a:srcRect l="1983" t="9063" r="0" b="137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4365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ff"/>
                </a:solidFill>
                <a:latin typeface="Arial"/>
              </a:rPr>
              <a:t>¿De que se trata? – </a:t>
            </a: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preguntaron inquietos los angel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grayscl/>
          </a:blip>
          <a:srcRect l="2528" t="2756" r="0" b="0"/>
          <a:stretch/>
        </p:blipFill>
        <p:spPr>
          <a:xfrm>
            <a:off x="0" y="-20520"/>
            <a:ext cx="6913440" cy="6878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189000"/>
            <a:ext cx="8713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ff"/>
                </a:solidFill>
                <a:latin typeface="Arial"/>
              </a:rPr>
              <a:t>Como los hombres se han olvidado que los hice distintos para que se complementasen unos a otros y así formaran el cuerpo de mi hijo am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ff"/>
                </a:solidFill>
                <a:latin typeface="Arial"/>
              </a:rPr>
              <a:t>Bajaran ustedes en  </a:t>
            </a:r>
            <a:r>
              <a:rPr b="1" i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forma masiva</a:t>
            </a:r>
            <a:r>
              <a:rPr b="1" i="1" lang="es-MX" sz="2800" spc="-1" strike="noStrike">
                <a:solidFill>
                  <a:srgbClr val="ffffff"/>
                </a:solidFill>
                <a:latin typeface="Arial"/>
              </a:rPr>
              <a:t> con francas distinciones y tareas especial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12144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333360"/>
            <a:ext cx="74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Era el año de 1945. La Segunda Guerra Mundial había finaliza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72720" y="6786720"/>
            <a:ext cx="71280" cy="71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3" name="Banda-sonora-%20Monastery-of-La-Rabida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16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2556000" y="1844640"/>
            <a:ext cx="3014640" cy="417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556000" y="1773360"/>
            <a:ext cx="3031920" cy="4608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333360"/>
            <a:ext cx="82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ú .., tendrás memoria y concentración de excelencia….</a:t>
            </a:r>
            <a:r>
              <a:rPr b="1" i="1" lang="es-MX" sz="3600" spc="-1" strike="noStrike">
                <a:solidFill>
                  <a:srgbClr val="ffffff"/>
                </a:solidFill>
                <a:latin typeface="Bradley Hand ITC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07000" y="2259000"/>
            <a:ext cx="31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Serás cieg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92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4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2556000" y="1844640"/>
            <a:ext cx="3014640" cy="4175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333360"/>
            <a:ext cx="82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ú .., serás elocuente con tú cuerpo y muy creativo para expresarte…</a:t>
            </a:r>
            <a:r>
              <a:rPr b="1" i="1" lang="es-MX" sz="3600" spc="-1" strike="noStrike">
                <a:solidFill>
                  <a:srgbClr val="ffffff"/>
                </a:solidFill>
                <a:latin typeface="Bradley Hand ITC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276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Serás sordomu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68360" y="1844640"/>
            <a:ext cx="5194080" cy="422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32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92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2556000" y="1844640"/>
            <a:ext cx="3014640" cy="4175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24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ú ..,  tendrás pensamientos profundos, escribirás libros, serás poeta.</a:t>
            </a:r>
            <a:r>
              <a:rPr b="1" i="1" lang="es-MX" sz="3600" spc="-1" strike="noStrike">
                <a:solidFill>
                  <a:srgbClr val="ffffff"/>
                </a:solidFill>
                <a:latin typeface="Bradley Hand ITC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2276640"/>
            <a:ext cx="27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endrás parálisis cereb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>
            <a:grayscl/>
          </a:blip>
          <a:srcRect l="16076" t="0" r="10459" b="0"/>
          <a:stretch/>
        </p:blipFill>
        <p:spPr>
          <a:xfrm>
            <a:off x="1042920" y="1773360"/>
            <a:ext cx="4608720" cy="4181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2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2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2867040" y="2852640"/>
            <a:ext cx="2703600" cy="3743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333360"/>
            <a:ext cx="9144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000" spc="-1" strike="noStrike">
                <a:solidFill>
                  <a:srgbClr val="ffffff"/>
                </a:solidFill>
                <a:latin typeface="Arial"/>
              </a:rPr>
              <a:t>A ti .., te daré el don del amor y serás su persona, habrá muchos otros como tú en toda la tierra, y no habrá distinción de raza, por que tendrás la cara, los ojos, las manos y el cuerpo, como sí fueran hermanos de sangre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342900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endrás Síndrome de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>
            <a:grayscl/>
          </a:blip>
          <a:srcRect l="20760" t="0" r="21099" b="0"/>
          <a:stretch/>
        </p:blipFill>
        <p:spPr>
          <a:xfrm>
            <a:off x="2627280" y="2708280"/>
            <a:ext cx="3024360" cy="3917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120"/>
                            </p:stCondLst>
                            <p:childTnLst>
                              <p:par>
                                <p:cTn id="297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2627280" y="2276640"/>
            <a:ext cx="3014640" cy="4174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76280" y="189000"/>
            <a:ext cx="82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ú .., serás muy bajito de estatura, y tú simpatía y sentido del humor, llegarán hasta el cielo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24360" y="2276640"/>
            <a:ext cx="34196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Será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Gente pequeñ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692440" y="1989000"/>
            <a:ext cx="2982960" cy="48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0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92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2627280" y="2276640"/>
            <a:ext cx="3014640" cy="4174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333360"/>
            <a:ext cx="82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Arial"/>
              </a:rPr>
              <a:t>Tú .., vivirás en la tierra, pero tú mente se mantendrá en el cielo, preferirás escuchar mi voz a la de los hombr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342900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endrás Aut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>
            <a:grayscl/>
          </a:blip>
          <a:srcRect l="12535" t="0" r="10819" b="0"/>
          <a:stretch/>
        </p:blipFill>
        <p:spPr>
          <a:xfrm>
            <a:off x="539640" y="2276640"/>
            <a:ext cx="5184720" cy="4255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80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4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5724360" y="1989000"/>
            <a:ext cx="3015000" cy="4175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8360" y="333360"/>
            <a:ext cx="525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Arial"/>
              </a:rPr>
              <a:t>A ti ..,  tus huesos serán muy frágiles, y aunque te fracturaras constantemente, tu inteligencia y alegría será como la de ningún otr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2000" y="4221000"/>
            <a:ext cx="3375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endrás Osteog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imperfec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3024360" cy="612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52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72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5940360" y="1916280"/>
            <a:ext cx="3014640" cy="4174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68360" y="333360"/>
            <a:ext cx="52560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400" spc="-1" strike="noStrike">
                <a:solidFill>
                  <a:srgbClr val="ffffff"/>
                </a:solidFill>
                <a:latin typeface="Arial"/>
              </a:rPr>
              <a:t>Tú ..,  nacerás con dismorfismos en tú interior y exterior, pero serás una persona muy positiva y jovial 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3860640"/>
            <a:ext cx="416736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Tendrás S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ndrome de Morqu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(ausencia de una enz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>
            <a:grayscl/>
          </a:blip>
          <a:srcRect l="55735" t="0" r="0" b="0"/>
          <a:stretch/>
        </p:blipFill>
        <p:spPr>
          <a:xfrm>
            <a:off x="5918040" y="0"/>
            <a:ext cx="32259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52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36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grayscl/>
          </a:blip>
          <a:srcRect l="9735" t="10622" r="26781" b="0"/>
          <a:stretch/>
        </p:blipFill>
        <p:spPr>
          <a:xfrm>
            <a:off x="2771640" y="2276640"/>
            <a:ext cx="3014640" cy="4174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233280"/>
            <a:ext cx="9144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ffffff"/>
                </a:solidFill>
                <a:latin typeface="Arial"/>
              </a:rPr>
              <a:t>Al último angelito le dijo</a:t>
            </a:r>
            <a:r>
              <a:rPr b="1" i="1" lang="es-MX" sz="3400" spc="-1" strike="noStrike">
                <a:solidFill>
                  <a:srgbClr val="ffffff"/>
                </a:solidFill>
                <a:latin typeface="Arial"/>
              </a:rPr>
              <a:t>: Serás hábil como ninguno, te faltaran los brazos, y harás todo con las piernas y la boca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801880" y="2205000"/>
            <a:ext cx="3087720" cy="4653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88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4000" y="404640"/>
            <a:ext cx="8424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Los ángeles se sintieron felices con la distinción del Señor, aunque le causaba enorme pena tener que apartarse del cielo para cumplir su mis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4292640"/>
            <a:ext cx="813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Arial"/>
              </a:rPr>
              <a:t>-¿Cuánto tiempo viviremos sin verte?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Arial"/>
              </a:rPr>
              <a:t>-¿Cuánto tiempo lejos de 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92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404640"/>
            <a:ext cx="78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Cientos de ciudades se encontraban destruid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>
            <a:grayscl/>
          </a:blip>
          <a:srcRect l="1283" t="23756" r="0" b="0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371628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No se preocupen!, estaré con ustedes todo los dí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Además esto durará unos cuantos año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39640" y="549360"/>
            <a:ext cx="860436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Esta bien Padre!. Será sólo un instante en el reloj eterno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Y bajaron a la tierra emocion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7524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543640" y="213372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Cada uno llegó al vientre de una madre, ahí se formaron durante 6,7,8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 9 meses...</a:t>
            </a:r>
            <a:r>
              <a:rPr b="1" i="1" lang="es-MX" sz="36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102120" y="0"/>
            <a:ext cx="604188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33200" y="1179360"/>
            <a:ext cx="295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l nacer fueron recibidos con profundo dolor, causaron miedo y angust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757520"/>
            <a:ext cx="6337440" cy="5100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76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Algunos padres rehusaron la tare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4360" y="4724280"/>
            <a:ext cx="7559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Otros la asumieron enojados..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Otros se echaron culpas hasta disolver su matrimonio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598920" y="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50920" y="620640"/>
            <a:ext cx="345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y otros más lloraron con amor, y aceptaron el DEBE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>
            <a:grayscl/>
          </a:blip>
          <a:srcRect l="0" t="0" r="24583" b="0"/>
          <a:stretch/>
        </p:blipFill>
        <p:spPr>
          <a:xfrm>
            <a:off x="468360" y="404640"/>
            <a:ext cx="3382920" cy="3059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95640" y="333360"/>
            <a:ext cx="4743720" cy="3081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68360" y="3716280"/>
            <a:ext cx="3816360" cy="2784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4572000" y="3753000"/>
            <a:ext cx="4287960" cy="2755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87280" y="260280"/>
            <a:ext cx="73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El DEBER de alimentarlo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59500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l DEBER de educarlo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2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71640" y="324000"/>
            <a:ext cx="587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El DEBER de guiarlos por la vid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3103" t="9595" r="4281" b="102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24000" y="465300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Y el hombre se encuentra aprendiendo la lección con esta dura prueba que Dios nos ha envi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692280"/>
            <a:ext cx="324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Otras más habían desaparecido de la faz de la tierr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3280" y="692280"/>
            <a:ext cx="4172040" cy="570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289400" cy="643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856040" y="260280"/>
            <a:ext cx="4137120" cy="6337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5683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7387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744720" cy="301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3995640" cy="2989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9322" t="0" r="0" b="0"/>
          <a:stretch/>
        </p:blipFill>
        <p:spPr>
          <a:xfrm>
            <a:off x="324000" y="3978360"/>
            <a:ext cx="3960720" cy="2619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932360" y="3835440"/>
            <a:ext cx="3456000" cy="277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16360" y="476280"/>
            <a:ext cx="41767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ffffff"/>
                </a:solidFill>
                <a:latin typeface="Arial"/>
              </a:rPr>
              <a:t>Seguirán bajando ángeles a la tierra, con ESPIRITUS SUPERIORES en cuerpos … y seguirán llegando, mientras demostremos  humanidad en el planeta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352760" cy="5832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22696" t="0" r="34476" b="0"/>
          <a:stretch/>
        </p:blipFill>
        <p:spPr>
          <a:xfrm>
            <a:off x="5119560" y="189000"/>
            <a:ext cx="3700440" cy="6480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95280" y="184464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mientras sigamos demostrando, que vamos a acabar con las confrontaciones y las guerr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32360" y="458640"/>
            <a:ext cx="331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Mientras demostremos, que, por fin, los valores de la familia están por encima del rencor, el  odio y la envid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16345" t="0" r="0" b="4051"/>
          <a:stretch/>
        </p:blipFill>
        <p:spPr>
          <a:xfrm>
            <a:off x="324000" y="333360"/>
            <a:ext cx="5289480" cy="6120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620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1125360"/>
            <a:ext cx="468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Como los angelitos saben que su misión encomendada es la unión. La fe, la esperanza y la caridad, gobernadas por el amo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595840" y="476280"/>
            <a:ext cx="2903760" cy="5832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62064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111560" cy="6264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932360" y="765000"/>
            <a:ext cx="388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..ellos han sabido perdonar, y con gran paciencia pasaran la vida iluminando a todo aquel….que los ha sabido am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76280"/>
            <a:ext cx="83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50 millones de seres humanos habían muer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24880" cy="4057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es gusto la lección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lo compartelo para poder seg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ransmitiendo este mens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cuérdenlo bien amigos y Dios los bend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5994360"/>
            <a:ext cx="825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Script MT Bold"/>
              </a:rPr>
              <a:t>Que tengas un agradable día…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750"/>
                            </p:stCondLst>
                            <p:childTnLst>
                              <p:par>
                                <p:cTn id="5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1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1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grayscl/>
          </a:blip>
          <a:srcRect l="0" t="0" r="0" b="182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5640" y="54936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Dios se encontraba en el cielo mirando como actuaban los hombres en la tierra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4360" y="62064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Y Observó que reinaba la desolació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270" t="505" r="1270" b="2390"/>
          <a:stretch/>
        </p:blipFill>
        <p:spPr>
          <a:xfrm>
            <a:off x="-181080" y="0"/>
            <a:ext cx="9325080" cy="689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836640"/>
            <a:ext cx="8137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Observó también la reconstrucción de las ciudades, la cual ascendía exponencialmente al igual que los seres humanos, pues para 1965 ya éramos 3 mil millones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465300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Y cuando en el año 2000 alcanzamos los 6 mil millones de</a:t>
            </a: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seres human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27480" y="6491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otype Corsiva"/>
              </a:rPr>
              <a:t>Al Mend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00:17:02Z</dcterms:created>
  <dc:creator>Ing Alberto Mendoza</dc:creator>
  <dc:description/>
  <dc:language>en-US</dc:language>
  <cp:lastModifiedBy>Ing Alberto Mendoza</cp:lastModifiedBy>
  <dcterms:modified xsi:type="dcterms:W3CDTF">2007-11-19T22:46:15Z</dcterms:modified>
  <cp:revision>9</cp:revision>
  <dc:subject>Una Lección </dc:subject>
  <dc:title>Angeles en la tierra</dc:title>
</cp:coreProperties>
</file>