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El%20cisne%2066%20Kb%2005.wav" ContentType="audio/x-wav"/>
  <Override PartName="/ppt/media/image22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Banda-sonora-%20Monastery-of-La-Rabida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6AD-7221-431E-B84E-A6351D1E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C2B-5E94-4589-A6B1-8E9B228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656-2D96-4D42-912F-242CF134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707-7E0A-4144-8222-A504B576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8CE-36C7-4DE5-AEAE-58B435A1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489-EFBB-4B5C-81F4-2CE347E7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347-D5FF-4621-9CC9-E6980BC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203-8135-49C6-9774-2FB5827A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C98-72AC-4057-98C0-EA4D6BC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1B4-5C0E-44C3-A44B-2C816A4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794-395D-47A7-AA25-A1B64E6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AF2-1FB6-40D1-A80D-C21021D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163-7236-4808-9C37-A4E626ECF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l%20cisne%2066%20Kb%2005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anda-sonora-%20Monastery-of-La-Rabid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A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En La Ti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El%20cisne%2066%20Kb%200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2000" y="4327560"/>
            <a:ext cx="898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udo percatarse que la magnificencia divina del amor se había perdido, pues continuaba la desol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280" y="0"/>
            <a:ext cx="8569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ffffff"/>
                </a:solidFill>
                <a:latin typeface="Arial"/>
              </a:rPr>
              <a:t>Dios vio a tantos humanos aún en guerra, ricos y pobres apartados, sanos y enfermos distantes, libres y esclavos separados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grayscl/>
          </a:blip>
          <a:srcRect l="0" t="0" r="7253" b="0"/>
          <a:stretch/>
        </p:blipFill>
        <p:spPr>
          <a:xfrm>
            <a:off x="324000" y="2205000"/>
            <a:ext cx="5543280" cy="418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940360" y="2205000"/>
            <a:ext cx="2935440" cy="4175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435640" y="2168640"/>
            <a:ext cx="3114720" cy="428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26920" y="2214720"/>
            <a:ext cx="4029120" cy="42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476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Esposos y esposas que no complementaban su espírit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grayscl/>
          </a:blip>
          <a:srcRect l="2230" t="1291" r="0" b="20992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40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6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or lo que en ese momento, reunió a un ejercito de ángeles y les dijo: 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¿pueden ver a los seres humanos?,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necesitan ayuda!, tendrán que bajar a la tierr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grayscl/>
          </a:blip>
          <a:srcRect l="2874" t="17787" r="0" b="11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20640"/>
            <a:ext cx="792144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-¿Nosotros?,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preguntaron los ángeles ilusionados y asustados; llenos de fe.</a:t>
            </a:r>
            <a:r>
              <a:rPr b="0" lang="es-MX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¡Sí ustedes son los indicados, nadie más podría cumplir esta tarea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404640"/>
            <a:ext cx="8424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Hice al hombre a imagen y semejanza mía, pero con talentos especiales cada u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Permití diferencias entre ellos para que juntos formasen el rein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0464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Unos alcanzarían riquezas para compartir con los pobres. Otros gozarían de buena salud para cuidar a los enferm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4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Unos serían sabios y otros, muy simples, para procurar entre ellos sentimientos de amor, admiración y respeto. Los buenos tendrían que rezar por los que actuaran como si fueran malos, el paciente toleraría al neurótico; en fí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grayscl/>
          </a:blip>
          <a:srcRect l="1983" t="9063" r="0" b="13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365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ff"/>
                </a:solidFill>
                <a:latin typeface="Arial"/>
              </a:rPr>
              <a:t>¿De que se trata? – 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preguntaron inquietos los angel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grayscl/>
          </a:blip>
          <a:srcRect l="2528" t="2756" r="0" b="0"/>
          <a:stretch/>
        </p:blipFill>
        <p:spPr>
          <a:xfrm>
            <a:off x="0" y="-20520"/>
            <a:ext cx="6913440" cy="687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89000"/>
            <a:ext cx="8713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Como los hombres se han olvidado que los hice distintos para que se complementasen unos a otros y así formaran el cuerpo de mi hijo 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Bajaran ustedes en  </a:t>
            </a: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forma masiva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 con francas distinciones y tareas especia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1214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33336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ra el año de 1945. La Segunda Guerra Mundial había finaliza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72720" y="678672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Banda-sonora-%20Monastery-of-La-Rabid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6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56000" y="1773360"/>
            <a:ext cx="3031920" cy="460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tendrás memoria y concentración de excelencia…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7000" y="2259000"/>
            <a:ext cx="31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cieg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92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4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serás elocuente con tú cuerpo y muy creativo para expresarte…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276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sordomu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844640"/>
            <a:ext cx="5194080" cy="422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3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92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24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 tendrás pensamientos profundos, escribirás libros, serás poeta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27664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parálisis cereb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>
            <a:grayscl/>
          </a:blip>
          <a:srcRect l="16076" t="0" r="10459" b="0"/>
          <a:stretch/>
        </p:blipFill>
        <p:spPr>
          <a:xfrm>
            <a:off x="1042920" y="1773360"/>
            <a:ext cx="4608720" cy="418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2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867040" y="2852640"/>
            <a:ext cx="2703600" cy="374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33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000" spc="-1" strike="noStrike">
                <a:solidFill>
                  <a:srgbClr val="ffffff"/>
                </a:solidFill>
                <a:latin typeface="Arial"/>
              </a:rPr>
              <a:t>A ti .., te daré el don del amor y serás su persona, habrá muchos otros como tú en toda la tierra, y no habrá distinción de raza, por que tendrás la cara, los ojos, las manos y el cuerpo, como sí fueran hermanos de sangre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42900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Síndrome 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grayscl/>
          </a:blip>
          <a:srcRect l="20760" t="0" r="21099" b="0"/>
          <a:stretch/>
        </p:blipFill>
        <p:spPr>
          <a:xfrm>
            <a:off x="2627280" y="2708280"/>
            <a:ext cx="3024360" cy="3917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12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62728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6280" y="18900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serás muy bajito de estatura, y tú simpatía y sentido del humor, llegarán hasta el cielo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2276640"/>
            <a:ext cx="3419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Gente peque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92440" y="1989000"/>
            <a:ext cx="2982960" cy="48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0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92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62728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33336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Tú .., vivirás en la tierra, pero tú mente se mantendrá en el cielo, preferirás escuchar mi voz a la de los hombr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9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Au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grayscl/>
          </a:blip>
          <a:srcRect l="12535" t="0" r="10819" b="0"/>
          <a:stretch/>
        </p:blipFill>
        <p:spPr>
          <a:xfrm>
            <a:off x="539640" y="2276640"/>
            <a:ext cx="5184720" cy="42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8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4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5724360" y="1989000"/>
            <a:ext cx="3015000" cy="4175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33360"/>
            <a:ext cx="52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A ti ..,  tus huesos serán muy frágiles, y aunque te fracturaras constantemente, tu inteligencia y alegría será como la de ningún ot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000" y="4221000"/>
            <a:ext cx="337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Osteog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imperf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3024360" cy="612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2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72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5940360" y="191628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333360"/>
            <a:ext cx="525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ffffff"/>
                </a:solidFill>
                <a:latin typeface="Arial"/>
              </a:rPr>
              <a:t>Tú ..,  nacerás con dismorfismos en tú interior y exterior, pero serás una persona muy positiva y jovial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860640"/>
            <a:ext cx="416736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drome de Morqu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(ausencia de una enz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>
            <a:grayscl/>
          </a:blip>
          <a:srcRect l="55735" t="0" r="0" b="0"/>
          <a:stretch/>
        </p:blipFill>
        <p:spPr>
          <a:xfrm>
            <a:off x="5918040" y="0"/>
            <a:ext cx="32259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2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36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77164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23328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ffffff"/>
                </a:solidFill>
                <a:latin typeface="Arial"/>
              </a:rPr>
              <a:t>Al último angelito le dijo</a:t>
            </a:r>
            <a:r>
              <a:rPr b="1" i="1" lang="es-MX" sz="3400" spc="-1" strike="noStrike">
                <a:solidFill>
                  <a:srgbClr val="ffffff"/>
                </a:solidFill>
                <a:latin typeface="Arial"/>
              </a:rPr>
              <a:t>: Serás hábil como ninguno, te faltaran los brazos, y harás todo con las piernas y la boca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801880" y="2205000"/>
            <a:ext cx="3087720" cy="465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88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404640"/>
            <a:ext cx="842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Los ángeles se sintieron felices con la distinción del Señor, aunque le causaba enorme pena tener que apartarse del cielo para cumplir su mis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292640"/>
            <a:ext cx="81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-¿Cuánto tiempo viviremos sin verte?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-¿Cuánto tiempo lejos de 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92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0464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ientos de ciudades se encontraban destruid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grayscl/>
          </a:blip>
          <a:srcRect l="1283" t="23756" r="0" b="0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37162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o se preocupen!, estaré con ustedes todo los dí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Además esto durará unos cuantos añ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49360"/>
            <a:ext cx="86043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Esta bien Padre!. Será sólo un instante en el reloj eterno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bajaron a la tierra emocion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524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43640" y="213372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Cada uno llegó al vientre de una madre, ahí se formaron durante 6,7,8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 9 meses..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02120" y="0"/>
            <a:ext cx="60418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3200" y="1179360"/>
            <a:ext cx="29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l nacer fueron recibidos con profundo dolor, causaron miedo y angus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757520"/>
            <a:ext cx="6337440" cy="5100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Algunos padres rehusaron la tare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4724280"/>
            <a:ext cx="755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Otros la asumieron enojados..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Otros se echaron culpas hasta disolver su matrimoni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0920" y="620640"/>
            <a:ext cx="345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otros más lloraron con amor, y aceptaron el DEB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grayscl/>
          </a:blip>
          <a:srcRect l="0" t="0" r="24583" b="0"/>
          <a:stretch/>
        </p:blipFill>
        <p:spPr>
          <a:xfrm>
            <a:off x="468360" y="404640"/>
            <a:ext cx="3382920" cy="3059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95640" y="333360"/>
            <a:ext cx="4743720" cy="308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68360" y="3716280"/>
            <a:ext cx="3816360" cy="2784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4572000" y="3753000"/>
            <a:ext cx="4287960" cy="275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260280"/>
            <a:ext cx="73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l DEBER de alimentarl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950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 DEBER de educarlo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2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71640" y="324000"/>
            <a:ext cx="58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l DEBER de guiarlos por la vi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103" t="9595" r="4281" b="102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4000" y="4653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el hombre se encuentra aprendiendo la lección con esta dura prueba que Dios nos ha envi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692280"/>
            <a:ext cx="32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Otras más habían desaparecido de la faz de la tier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172040" cy="57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289400" cy="643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6040" y="260280"/>
            <a:ext cx="4137120" cy="6337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683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38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744720" cy="301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995640" cy="2989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9322" t="0" r="0" b="0"/>
          <a:stretch/>
        </p:blipFill>
        <p:spPr>
          <a:xfrm>
            <a:off x="324000" y="3978360"/>
            <a:ext cx="3960720" cy="261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932360" y="3835440"/>
            <a:ext cx="3456000" cy="277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76280"/>
            <a:ext cx="4176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Arial"/>
              </a:rPr>
              <a:t>Seguirán bajando ángeles a la tierra, con ESPIRITUS SUPERIORES en cuerpos … y seguirán llegando, mientras demostremos  humanidad en el planeta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352760" cy="5832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2696" t="0" r="34476" b="0"/>
          <a:stretch/>
        </p:blipFill>
        <p:spPr>
          <a:xfrm>
            <a:off x="5119560" y="189000"/>
            <a:ext cx="3700440" cy="648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5280" y="184464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ientras sigamos demostrando, que vamos a acabar con las confrontaciones y las guerr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2360" y="458640"/>
            <a:ext cx="33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ientras demostremos, que, por fin, los valores de la familia están por encima del rencor, el  odio y la envi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6345" t="0" r="0" b="4051"/>
          <a:stretch/>
        </p:blipFill>
        <p:spPr>
          <a:xfrm>
            <a:off x="324000" y="333360"/>
            <a:ext cx="5289480" cy="6120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620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125360"/>
            <a:ext cx="46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los angelitos saben que su misión encomendada es la unión. La fe, la esperanza y la caridad, gobernadas por el am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95840" y="476280"/>
            <a:ext cx="2903760" cy="5832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11560" cy="6264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932360" y="765000"/>
            <a:ext cx="38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..ellos han sabido perdonar, y con gran paciencia pasaran la vida iluminando a todo aquel….que los ha sabido am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628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50 millones de seres humanos habían muer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24880" cy="405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s gusto la lección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o compartelo para poder seg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ransmitiendo este mens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cuérdenlo bien amigos y Dios los bend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994360"/>
            <a:ext cx="82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Script MT Bold"/>
              </a:rPr>
              <a:t>Que tengas un agradable día…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75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grayscl/>
          </a:blip>
          <a:srcRect l="0" t="0" r="0" b="182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549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Dios se encontraba en el cielo mirando como actuaban los hombres en la tierra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62064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Y Observó que reinaba la desolació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270" t="505" r="1270" b="2390"/>
          <a:stretch/>
        </p:blipFill>
        <p:spPr>
          <a:xfrm>
            <a:off x="-181080" y="0"/>
            <a:ext cx="9325080" cy="689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83664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Observó también la reconstrucción de las ciudades, la cual ascendía exponencialmente al igual que los seres humanos, pues para 1965 ya éramos 3 mil millones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4653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Y cuando en el año 2000 alcanzamos los 6 mil millones de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seres human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0:17:02Z</dcterms:created>
  <dc:creator>Ing Alberto Mendoza</dc:creator>
  <dc:description/>
  <dc:language>en-US</dc:language>
  <cp:lastModifiedBy>Ing Alberto Mendoza</cp:lastModifiedBy>
  <dcterms:modified xsi:type="dcterms:W3CDTF">2007-11-19T22:46:15Z</dcterms:modified>
  <cp:revision>9</cp:revision>
  <dc:subject>Una Lección </dc:subject>
  <dc:title>Angeles en la tierra</dc:title>
</cp:coreProperties>
</file>