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C44-E611-4B84-B6DB-553560B0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7AB-BEFE-4E76-8C1F-84E02448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C67-B3E0-498B-8B1C-92DD5B35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E9B-6AA5-4EF0-8AA1-F4CB9A64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CC8-D49F-4EC8-92EB-3F79CC82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C93-0659-4BDD-93E5-CF84AC68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253-4B76-495C-9A2F-67B07FE6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64C-6B12-496D-B7A9-1B53249A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50F-2384-48CD-8639-663CCE08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8A8-19E0-4C1C-BC58-D561E51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3C0-B6D7-4642-AA22-D52A8A22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A0A-B259-4785-AEAE-837265D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DCC2-FD18-4966-8A09-2F8BFBB746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tecuento.com/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1523880"/>
            <a:ext cx="3962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d9ec8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usca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d9ec8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809880"/>
            <a:ext cx="7315200" cy="270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8bc64"/>
                    </a:gs>
                    <a:gs pos="100000">
                      <a:srgbClr val="d9ec88"/>
                    </a:gs>
                  </a:gsLst>
                  <a:lin ang="5400000"/>
                </a:gradFill>
                <a:latin typeface="Arial Black"/>
              </a:rPr>
              <a:t>Son tantas las imágenes oculta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8bc64"/>
                  </a:gs>
                  <a:gs pos="100000">
                    <a:srgbClr val="d9ec88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8bc64"/>
                    </a:gs>
                    <a:gs pos="100000">
                      <a:srgbClr val="d9ec88"/>
                    </a:gs>
                  </a:gsLst>
                  <a:lin ang="5400000"/>
                </a:gradFill>
                <a:latin typeface="Arial Black"/>
              </a:rPr>
              <a:t>Encuéntrala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8bc64"/>
                  </a:gs>
                  <a:gs pos="100000">
                    <a:srgbClr val="d9ec8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966" t="10633" r="12217" b="3119"/>
          <a:stretch/>
        </p:blipFill>
        <p:spPr>
          <a:xfrm>
            <a:off x="108000" y="115920"/>
            <a:ext cx="826920" cy="67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19920" y="1143000"/>
            <a:ext cx="2590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AY UN ROSTRO OCULTO EN ESTE PAIS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653000"/>
            <a:ext cx="358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¿PUE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CONTRA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8214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76480" y="304920"/>
            <a:ext cx="502596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52480" y="6095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30 animales forman este rost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94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91320" y="1523880"/>
            <a:ext cx="2971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a333f"/>
                </a:solidFill>
                <a:latin typeface="Times New Roman"/>
              </a:rPr>
              <a:t>ENCUEN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a333f"/>
                </a:solidFill>
                <a:latin typeface="Times New Roman"/>
              </a:rPr>
              <a:t>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a333f"/>
                </a:solidFill>
                <a:latin typeface="Times New Roman"/>
              </a:rPr>
              <a:t>ENTRE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a333f"/>
                </a:solidFill>
                <a:latin typeface="Times New Roman"/>
              </a:rPr>
              <a:t>HO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4281480" cy="6019920"/>
          </a:xfrm>
          <a:prstGeom prst="rect">
            <a:avLst/>
          </a:prstGeom>
          <a:ln w="44280">
            <a:solidFill>
              <a:srgbClr val="473d4f"/>
            </a:solidFill>
            <a:miter/>
          </a:ln>
        </p:spPr>
      </p:pic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7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2133720"/>
            <a:ext cx="190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8bc64"/>
                </a:solidFill>
                <a:latin typeface="Times New Roman"/>
              </a:rPr>
              <a:t>¿Puedes encontrar 9 personas en esta imagen?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52680" y="304920"/>
            <a:ext cx="5135760" cy="6311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934320" cy="4921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95280" y="5943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Times New Roman"/>
              </a:rPr>
              <a:t>ENCUENTRA EL BEB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533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12b25"/>
                </a:solidFill>
                <a:latin typeface="Times New Roman"/>
              </a:rPr>
              <a:t>¿Puedes encontrar la mujer acosta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94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715000" y="1981080"/>
            <a:ext cx="2590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Times New Roman"/>
              </a:rPr>
              <a:t>BUS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Times New Roman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Times New Roman"/>
              </a:rPr>
              <a:t>PARE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28616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77496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510552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El espír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está junto a la tum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518148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En la cara de Ei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Se encuentran las tres gra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799080" cy="4556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200" y="1351080"/>
            <a:ext cx="8237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Si te gustó… Que lo disfrutes y lo compartas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760" y="6630840"/>
            <a:ext cx="1390680" cy="14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/>
          </p:cNvPr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7020000" y="6286680"/>
            <a:ext cx="212400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858000" cy="481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295280" y="56386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Times New Roman"/>
              </a:rPr>
              <a:t>Examina esta imagen: ¿Qué puedes encontrar?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6172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Times New Roman"/>
              </a:rPr>
              <a:t>Mira de lejos... Mira de cerc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5120" y="558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¿PUEDES ENCONTRAR EL PER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60280"/>
            <a:ext cx="4991040" cy="5257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64000" y="0"/>
            <a:ext cx="30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DÓNDE ESTÁ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MUJ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Y EL CABALLO?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2895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9933"/>
                </a:solidFill>
                <a:latin typeface="Times New Roman"/>
              </a:rPr>
              <a:t>¿Y EL LEÓN?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267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Y EL VIEJ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5010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Y EL LOB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661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QUÉ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3514680" cy="619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10080" y="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8bc64"/>
                </a:solidFill>
                <a:latin typeface="Times New Roman"/>
              </a:rPr>
              <a:t>¿Y AQUÍ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7650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8bc64"/>
                </a:solidFill>
                <a:latin typeface="Times New Roman"/>
              </a:rPr>
              <a:t>¿CUÁNTAS IMAGENES OCULT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2405160"/>
            <a:ext cx="2590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CABA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LE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ÁGU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LO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C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LA MUJ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¿Y QUÉ MÁ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086000" cy="6039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</p:spTree>
  </p:cSld>
  <p:transition spd="slow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7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462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5715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d3a6"/>
                </a:solidFill>
                <a:latin typeface="Times New Roman"/>
              </a:rPr>
              <a:t>12 ELEFANTES / 6 CABE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86600" cy="5610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84360" y="5950080"/>
            <a:ext cx="64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9ec88"/>
                </a:solidFill>
                <a:latin typeface="Times New Roman"/>
              </a:rPr>
              <a:t>¿Puedes encontrar cuántos caballos en esta imagen?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Son s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371600"/>
            <a:ext cx="24415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¿Puedes encontr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10 car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n este árb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06840" y="0"/>
            <a:ext cx="5537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5:05:36Z</dcterms:created>
  <dc:creator/>
  <dc:description/>
  <dc:language>en-US</dc:language>
  <cp:lastModifiedBy>Diego</cp:lastModifiedBy>
  <dcterms:modified xsi:type="dcterms:W3CDTF">2008-05-12T17:49:25Z</dcterms:modified>
  <cp:revision>21</cp:revision>
  <dc:subject/>
  <dc:title>Diapositiva 1</dc:title>
</cp:coreProperties>
</file>