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B5F-2E44-4A65-B77E-F672B69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80D-EEA4-4112-A1E4-447BE48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858-9B52-4F4B-9356-2D1B3B4B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E40-2045-43E9-A717-DE0978E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86F-8010-4D87-9B51-D3630E13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5679-3104-452C-BE50-92DCBAB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84C-D987-49E4-9939-71A898FD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98F-81AC-4C82-B71E-57FCEAC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498-27EB-4FD5-B7AB-7FC3BD8C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E25-8C29-457E-A6A0-FC4CD3B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437-78F2-4849-872B-A8B42E7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25E-E245-4937-96FF-2F2E1EC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B87-3F7F-4A4B-9077-86CC3BDE37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tecuento.com/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1523880"/>
            <a:ext cx="3962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d9ec8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sca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d9ec8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3809880"/>
            <a:ext cx="7315200" cy="270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8bc64"/>
                    </a:gs>
                    <a:gs pos="100000">
                      <a:srgbClr val="d9ec88"/>
                    </a:gs>
                  </a:gsLst>
                  <a:lin ang="5400000"/>
                </a:gradFill>
                <a:latin typeface="Arial Black"/>
              </a:rPr>
              <a:t>Son tantas las imágenes oculta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8bc64"/>
                  </a:gs>
                  <a:gs pos="100000">
                    <a:srgbClr val="d9ec8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8bc64"/>
                    </a:gs>
                    <a:gs pos="100000">
                      <a:srgbClr val="d9ec88"/>
                    </a:gs>
                  </a:gsLst>
                  <a:lin ang="5400000"/>
                </a:gradFill>
                <a:latin typeface="Arial Black"/>
              </a:rPr>
              <a:t>Encuéntrala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8bc64"/>
                  </a:gs>
                  <a:gs pos="100000">
                    <a:srgbClr val="d9ec8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966" t="10633" r="12217" b="3119"/>
          <a:stretch/>
        </p:blipFill>
        <p:spPr>
          <a:xfrm>
            <a:off x="108000" y="115920"/>
            <a:ext cx="826920" cy="67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19920" y="1143000"/>
            <a:ext cx="259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AY UN ROSTRO OCULTO EN ESTE PAI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6530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¿PUE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CONTRA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8214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76480" y="304920"/>
            <a:ext cx="50259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30 animales forman este rost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94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91320" y="1523880"/>
            <a:ext cx="2971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ENCUEN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ENTRE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a333f"/>
                </a:solidFill>
                <a:latin typeface="Times New Roman"/>
              </a:rPr>
              <a:t>HO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4281480" cy="6019920"/>
          </a:xfrm>
          <a:prstGeom prst="rect">
            <a:avLst/>
          </a:prstGeom>
          <a:ln w="44280">
            <a:solidFill>
              <a:srgbClr val="473d4f"/>
            </a:solidFill>
            <a:miter/>
          </a:ln>
        </p:spPr>
      </p:pic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7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2133720"/>
            <a:ext cx="190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8bc64"/>
                </a:solidFill>
                <a:latin typeface="Times New Roman"/>
              </a:rPr>
              <a:t>¿Puedes encontrar 9 personas en esta imagen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5135760" cy="631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4921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5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ENCUENTRA EL BE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533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12b25"/>
                </a:solidFill>
                <a:latin typeface="Times New Roman"/>
              </a:rPr>
              <a:t>¿Puedes encontrar la mujer acost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94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15000" y="1981080"/>
            <a:ext cx="2590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B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00"/>
                </a:solidFill>
                <a:latin typeface="Times New Roman"/>
              </a:rPr>
              <a:t>PARE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28616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7496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510552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l espír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stá junto a la tum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518148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En la cara de Ei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Se encuentran las tres gra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799080" cy="4556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23" presetSubtype="28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1351080"/>
            <a:ext cx="8237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Si te gustó… Que lo disfrutes y lo compartas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760" y="6630840"/>
            <a:ext cx="1390680" cy="14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/>
          </p:cNvPr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7020000" y="6286680"/>
            <a:ext cx="2124000" cy="57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858000" cy="481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295280" y="5638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Examina esta imagen: ¿Qué puedes encontrar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6172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ccff"/>
                </a:solidFill>
                <a:latin typeface="Times New Roman"/>
              </a:rPr>
              <a:t>Mira de lejos... Mira de cerc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5120" y="558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¿PUEDES ENCONTRAR EL PER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60280"/>
            <a:ext cx="499104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64000" y="0"/>
            <a:ext cx="302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DÓNDE ESTÁ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MUJ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CABALLO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8954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9933"/>
                </a:solidFill>
                <a:latin typeface="Times New Roman"/>
              </a:rPr>
              <a:t>¿Y EL LEÓN?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267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VIEJ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5010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Y EL LOB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661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33"/>
                </a:solidFill>
                <a:latin typeface="Times New Roman"/>
              </a:rPr>
              <a:t>¿QUÉ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3514680" cy="619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a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10080" y="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8bc64"/>
                </a:solidFill>
                <a:latin typeface="Times New Roman"/>
              </a:rPr>
              <a:t>¿Y AQU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7650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8bc64"/>
                </a:solidFill>
                <a:latin typeface="Times New Roman"/>
              </a:rPr>
              <a:t>¿CUÁNTAS IMAGENES OCUL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2405160"/>
            <a:ext cx="2590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CABA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LE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ÁG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LO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EL C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LA MUJ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bc64"/>
                </a:solidFill>
                <a:latin typeface="Times New Roman"/>
              </a:rPr>
              <a:t>¿Y QUÉ MÁ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086000" cy="6039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7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462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71600" y="5715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d3a6"/>
                </a:solidFill>
                <a:latin typeface="Times New Roman"/>
              </a:rPr>
              <a:t>12 ELEFANTES / 6 CABE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6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4360" y="5950080"/>
            <a:ext cx="64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ec88"/>
                </a:solidFill>
                <a:latin typeface="Times New Roman"/>
              </a:rPr>
              <a:t>¿Puedes encontrar cuántos caballos en esta imagen?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Son s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371600"/>
            <a:ext cx="24415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¿Puedes encontr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10 ca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n este árb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06840" y="0"/>
            <a:ext cx="55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5:05:36Z</dcterms:created>
  <dc:creator/>
  <dc:description/>
  <dc:language>en-US</dc:language>
  <cp:lastModifiedBy>Diego</cp:lastModifiedBy>
  <dcterms:modified xsi:type="dcterms:W3CDTF">2008-05-12T17:49:25Z</dcterms:modified>
  <cp:revision>21</cp:revision>
  <dc:subject/>
  <dc:title>Diapositiva 1</dc:title>
</cp:coreProperties>
</file>