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Unchained%20melody.wav" ContentType="audio/x-wav"/>
  <Override PartName="/ppt/media/image6.jpeg" ContentType="image/jpeg"/>
  <Override PartName="/ppt/media/image11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8DC-D41B-46C1-9DC9-CC7D2A63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23A-5CB0-40E9-BCA5-1A996032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E88-6FBD-4855-B56C-380D488C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6FE-B288-4F33-9E38-B3F7332D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775-30F9-403B-8485-3AE0728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42C-473C-4DC8-8818-B77D88FD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846-B0E3-47A6-87C4-88E47F6A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0F6-61D2-421A-A19A-E72245F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D7B-26F8-410F-99C7-F270CE09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252-226B-4E94-8F7C-6642668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93A-1B11-414F-8673-D874C7B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2C0-618E-447C-B6F9-C27F7F7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231-385D-4147-8200-EFB72844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Unchained%20melo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280" y="2286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i mueres antes que yo, pregunta si pu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levar contigo a un ami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" y="1523880"/>
            <a:ext cx="55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i vives cien días, yo quiero vivir 100 menos u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ara no tener que vivir sin 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20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6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os verdaderos amigos son como la salu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nunca conoces su gran valor hasta que la pi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peaker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217440" cy="193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0120" y="4470480"/>
            <a:ext cx="50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Y si sólo lo recibes una vez, no sie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ena de pensar que tienes al men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8440" y="541008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 BUEN AMI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18320" y="6138720"/>
            <a:ext cx="1116000" cy="30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09 AG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840" y="6138720"/>
            <a:ext cx="377640" cy="30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J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91320" y="243828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 verdadero ami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s quien entra c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 resto del mundo s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7160" y="4724280"/>
            <a:ext cx="327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i padre solía decir 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uando uno muere, si t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5 verdaderos amig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ntonces has ten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a vida grandi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i todos mis amigos fuer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altar desde un puente, yo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altaría con ellos, sin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iría abajo a esperarl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548640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cc"/>
                </a:solidFill>
                <a:latin typeface="Arial"/>
              </a:rPr>
              <a:t>Sostén a un buen amigo con ambas man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960" y="30492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stente en mi, yo me sostendré en 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 estaremos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8360" y="579132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amistad en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ente en dos cuer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520" y="457200"/>
            <a:ext cx="369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amines frente a m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 tal vez no te s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camines detras m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 tal vez no te gu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mina a mi lad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é mi am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5040" y="341280"/>
            <a:ext cx="34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odos escuchan lo que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os amigos escuch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odo lo que tu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Los mejores amig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escuchan lo que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no d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419720"/>
            <a:ext cx="37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Un amigo es alguien que con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canción que retumba en 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razón, y puede cantar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uando tu no recuerdas la l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odos tomamos diferentes caminos en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ero no interesa a dónde vayamos, por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iempre llevamos con nosotros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oco de cad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6248520"/>
            <a:ext cx="68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os amigos son la manera en que Dios cuida de nos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8000" y="304920"/>
            <a:ext cx="6395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os extraños son amigos en potenc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perando por suce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os amigos son esas mordidas de jamón delicio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ntro de la ensalada de la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1523880"/>
            <a:ext cx="486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asa esto a tus amigos, y si recibes este e-mail varias veces, de varias personas, sólo significa que tienes muchos ami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9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5:38:23Z</dcterms:created>
  <dc:creator>user</dc:creator>
  <dc:description/>
  <dc:language>en-US</dc:language>
  <cp:lastModifiedBy>Compaq</cp:lastModifiedBy>
  <dcterms:modified xsi:type="dcterms:W3CDTF">2004-09-24T18:09:51Z</dcterms:modified>
  <cp:revision>36</cp:revision>
  <dc:subject/>
  <dc:title>Slide 1</dc:title>
</cp:coreProperties>
</file>