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Unchained%20melody.wav" ContentType="audio/x-wav"/>
  <Override PartName="/ppt/media/image6.jpeg" ContentType="image/jpeg"/>
  <Override PartName="/ppt/media/image11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F01E-5E33-47D2-8C60-7DAD1E17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F7AF-91ED-4048-8394-335B78C1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723D-10CB-4A28-A08B-7D557382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0FE7-A5A9-4140-9E5A-64B50473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DD28-6DC7-4BBB-AC78-0CBBD006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958E-E865-4ACD-AE03-0509FE52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362E-D455-4A7A-854C-95E39828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01BE-E7B4-4DDB-A26B-8B5517CF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28D6-AD80-455C-9A68-995BED19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90D-D32D-4D7B-A340-BCC4F861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7A5-C05F-4B4A-8875-0A40A012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EC73-6DF9-4478-AD68-40F80DBF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CFD5-F214-474A-B30D-3658BAC08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Unchained%20melody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280" y="228600"/>
            <a:ext cx="49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Si mueres antes que yo, pregunta si pu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llevar contigo a un ami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" y="1523880"/>
            <a:ext cx="55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Si vives cien días, yo quiero vivir 100 menos u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para no tener que vivir sin 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320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5867280"/>
            <a:ext cx="56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Los verdaderos amigos son como la salu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nunca conoces su gran valor hasta que la pier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Speaker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217440" cy="193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Unchained%20melod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30120" y="4470480"/>
            <a:ext cx="502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Y si sólo lo recibes una vez, no sient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ena de pensar que tienes al men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18440" y="5410080"/>
            <a:ext cx="36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N BUEN AMIG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18320" y="6138720"/>
            <a:ext cx="1116000" cy="30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09 AG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840" y="6138720"/>
            <a:ext cx="377640" cy="30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J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791320" y="243828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Un verdadero ami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es quien entra c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el resto del mundo s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07160" y="4724280"/>
            <a:ext cx="327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i padre solía decir qu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uando uno muere, si ti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5 verdaderos amig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entonces has teni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una vida grandi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304920"/>
            <a:ext cx="34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cc"/>
                </a:solidFill>
                <a:latin typeface="Arial"/>
              </a:rPr>
              <a:t>Si todos mis amigos fuera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cc"/>
                </a:solidFill>
                <a:latin typeface="Arial"/>
              </a:rPr>
              <a:t>saltar desde un puente, yo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cc"/>
                </a:solidFill>
                <a:latin typeface="Arial"/>
              </a:rPr>
              <a:t>saltaría con ellos, sino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cc"/>
                </a:solidFill>
                <a:latin typeface="Arial"/>
              </a:rPr>
              <a:t>iría abajo a esperarl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5486400"/>
            <a:ext cx="53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cc"/>
                </a:solidFill>
                <a:latin typeface="Arial"/>
              </a:rPr>
              <a:t>Sostén a un buen amigo con ambas man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960" y="304920"/>
            <a:ext cx="43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ostente en mi, yo me sostendré en 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y estaremos 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8360" y="5791320"/>
            <a:ext cx="26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a amistad en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ente en dos cuer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520" y="457200"/>
            <a:ext cx="369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camines frente a m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que tal vez no te si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camines detras m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que tal vez no te gu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mina a mi lado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é mi ami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5040" y="341280"/>
            <a:ext cx="343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Todos escuchan lo que d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Los amigos escuch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todo lo que tu d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Los mejores amig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escuchan lo que 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no d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4419720"/>
            <a:ext cx="374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Un amigo es alguien que cono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a canción que retumba en 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orazón, y puede cantar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uando tu no recuerdas la let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228600"/>
            <a:ext cx="561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Todos tomamos diferentes caminos en la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pero no interesa a dónde vayamos, por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siempre llevamos con nosotros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poco de cada perso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6248520"/>
            <a:ext cx="68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Los amigos son la manera en que Dios cuida de noso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78000" y="304920"/>
            <a:ext cx="6395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os extraños son amigos en potenci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sperando por suce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os amigos son esas mordidas de jamón delicio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ntro de la ensalada de la v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1523880"/>
            <a:ext cx="486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asa esto a tus amigos, y si recibes este e-mail varias veces, de varias personas, sólo significa que tienes muchos amig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9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5:38:23Z</dcterms:created>
  <dc:creator>user</dc:creator>
  <dc:description/>
  <dc:language>en-US</dc:language>
  <cp:lastModifiedBy>Compaq</cp:lastModifiedBy>
  <dcterms:modified xsi:type="dcterms:W3CDTF">2004-09-24T18:09:51Z</dcterms:modified>
  <cp:revision>36</cp:revision>
  <dc:subject/>
  <dc:title>Slide 1</dc:title>
</cp:coreProperties>
</file>