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384-5AC8-4C2E-93A0-9E0C194A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D7F-3CEA-4977-AEDF-76C295C3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DA4-E3EE-4599-928E-C7781D1E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B73-4564-47B7-8DC5-0FDE2B85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B88-A5CD-4AD8-BA81-C726750B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207-B093-4D35-8D4B-4B79DE45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E2F-B050-4CF0-92EE-1464B92C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AFF-8BBE-492A-B497-3673F1D6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A02-174D-4226-9DFA-2BE57E0A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A04-5118-465E-B734-0EDC420B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E34-6AED-430C-A55C-136A3B9D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705-EBD1-4E17-9E6F-CC95FF8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3A3485-D35D-4D6B-B8A6-6EAD3B92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8209080" cy="65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CA" sz="5400" spc="-1" strike="noStrike">
                <a:solidFill>
                  <a:srgbClr val="eb2f1c"/>
                </a:solidFill>
                <a:latin typeface="Arial"/>
              </a:rPr>
              <a:t>¿qué te pareci</a:t>
            </a:r>
            <a:r>
              <a:rPr b="1" i="1" lang="en-CA" sz="5400" spc="-1" strike="noStrike">
                <a:solidFill>
                  <a:srgbClr val="eb2f1c"/>
                </a:solidFill>
                <a:latin typeface="Arial"/>
                <a:ea typeface="ＭＳ Ｐゴシック"/>
              </a:rPr>
              <a:t>ó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¿Lo viste o n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¡Tiene 12 dedos en los pie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ienes que aprender a concentrarte en los detalles y no distraerte en lo obvio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-</cp:lastModifiedBy>
  <dcterms:modified xsi:type="dcterms:W3CDTF">2009-07-30T02:04:26Z</dcterms:modified>
  <cp:revision>7</cp:revision>
  <dc:subject/>
  <dc:title>Diapositive 1</dc:title>
</cp:coreProperties>
</file>