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786-D681-409C-BC8A-8509B9E8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2D4-5E0A-494E-AA9A-B3685165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EB0-23D9-4F4F-A0A2-72557EA7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78E-60AD-4429-883C-3D823F3D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497-33B0-4AF6-A6DD-C5091686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346-CC79-4A18-A334-F7FA4067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982-BA3D-4D73-B2DD-AE692A8C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10D-A03A-48F4-94B7-7BB2741B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D1B-80ED-4D5A-B5B3-8777C481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CFEC-46ED-4945-8176-CD96E1FB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BE2-D4B8-454F-8053-88B954FC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40FA-DDFB-4CB1-AA1C-81F5846E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A87BEC-88E8-42CB-858B-FA5B0C389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74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8209080" cy="65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CA" sz="5400" spc="-1" strike="noStrike">
                <a:solidFill>
                  <a:srgbClr val="eb2f1c"/>
                </a:solidFill>
                <a:latin typeface="Arial"/>
              </a:rPr>
              <a:t>¿qué te pareci</a:t>
            </a:r>
            <a:r>
              <a:rPr b="1" i="1" lang="en-CA" sz="5400" spc="-1" strike="noStrike">
                <a:solidFill>
                  <a:srgbClr val="eb2f1c"/>
                </a:solidFill>
                <a:latin typeface="Arial"/>
                <a:ea typeface="ＭＳ Ｐゴシック"/>
              </a:rPr>
              <a:t>ó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¿Lo viste o n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¡Tiene 12 dedos en los pie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Tienes que aprender a concentrarte en los detalles y no distraerte en lo obvio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-</cp:lastModifiedBy>
  <dcterms:modified xsi:type="dcterms:W3CDTF">2009-07-30T02:04:26Z</dcterms:modified>
  <cp:revision>7</cp:revision>
  <dc:subject/>
  <dc:title>Diapositive 1</dc:title>
</cp:coreProperties>
</file>