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9074-B8E9-4F17-8F4F-DE544D4AF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0396-5128-456C-A240-3D6036F8B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03EC-3859-4789-A295-CD8389F1B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EF99-84BA-4600-8424-F4D8AAE5F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10DD-6F89-43F5-9EF5-D2F1093A6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6A05-B803-4D8B-9810-350E977E9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9E0C-8D8F-4BE2-8DE6-6AA125676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1064-37D4-4C7C-B154-1F1EFED8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953B-0EE0-438A-8508-A0E89A6FD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D816-7090-4A95-AB26-CFFC3898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CFB2-F4CB-4C2F-A176-EA5457ED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7974-B60F-484F-83F7-822591A2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C9670-DEED-4BFB-B5C8-A0B665ED98D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5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4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0000"/>
                </a:solidFill>
                <a:latin typeface="Forte"/>
              </a:rPr>
              <a:t>Si tu pensabas que San Martin era valient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0000"/>
                </a:solidFill>
                <a:latin typeface="Forte"/>
              </a:rPr>
              <a:t>Deberías haber conocido a TO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539280" y="1988640"/>
            <a:ext cx="79930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ff0000"/>
                </a:solidFill>
                <a:latin typeface="Forte"/>
              </a:rPr>
              <a:t>El Che fue un valient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0000"/>
                </a:solidFill>
                <a:latin typeface="Forte"/>
              </a:rPr>
              <a:t>Pero el TOTO es mas vali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Forte"/>
              </a:rPr>
              <a:t>  </a:t>
            </a:r>
            <a:r>
              <a:rPr b="0" lang="es-ES" sz="4000" spc="-1" strike="noStrike">
                <a:solidFill>
                  <a:srgbClr val="ffffff"/>
                </a:solidFill>
                <a:latin typeface="Forte"/>
              </a:rPr>
              <a:t>Si creías que los Héroes De la Guerra de Irak fueron valiente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Forte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Forte"/>
              </a:rPr>
              <a:t>            </a:t>
            </a:r>
            <a:r>
              <a:rPr b="0" lang="es-ES" sz="4000" spc="-1" strike="noStrike">
                <a:solidFill>
                  <a:srgbClr val="ffffff"/>
                </a:solidFill>
                <a:latin typeface="Forte"/>
              </a:rPr>
              <a:t>Deberías conocer a TO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0000"/>
                </a:solidFill>
                <a:latin typeface="Forte"/>
              </a:rPr>
              <a:t>Si pensabas que Obama tiene clase y estilo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0000"/>
                </a:solidFill>
                <a:latin typeface="Forte"/>
              </a:rPr>
              <a:t>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0000"/>
                </a:solidFill>
                <a:latin typeface="Forte"/>
              </a:rPr>
              <a:t>            </a:t>
            </a:r>
            <a:r>
              <a:rPr b="0" lang="es-ES" sz="4000" spc="-1" strike="noStrike">
                <a:solidFill>
                  <a:srgbClr val="ff0000"/>
                </a:solidFill>
                <a:latin typeface="Forte"/>
              </a:rPr>
              <a:t>Tendrías que conocer a TO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Forte"/>
              </a:rPr>
              <a:t>    </a:t>
            </a:r>
            <a:r>
              <a:rPr b="0" lang="es-ES" sz="4000" spc="-1" strike="noStrike">
                <a:solidFill>
                  <a:srgbClr val="ff0000"/>
                </a:solidFill>
                <a:latin typeface="Forte"/>
              </a:rPr>
              <a:t>Si esta gente arriesga su vida jajaja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0000"/>
                </a:solidFill>
                <a:latin typeface="Forte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0000"/>
                </a:solidFill>
                <a:latin typeface="Forte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0000"/>
                </a:solidFill>
                <a:latin typeface="Forte"/>
              </a:rPr>
              <a:t>        </a:t>
            </a:r>
            <a:r>
              <a:rPr b="0" lang="es-ES" sz="4000" spc="-1" strike="noStrike">
                <a:solidFill>
                  <a:srgbClr val="ff0000"/>
                </a:solidFill>
                <a:latin typeface="Forte"/>
              </a:rPr>
              <a:t>Es por que no conocen a TO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0000"/>
                </a:solidFill>
                <a:latin typeface="Forte"/>
              </a:rPr>
              <a:t>   </a:t>
            </a:r>
            <a:r>
              <a:rPr b="0" lang="es-ES" sz="4000" spc="-1" strike="noStrike">
                <a:solidFill>
                  <a:srgbClr val="ff0000"/>
                </a:solidFill>
                <a:latin typeface="Forte"/>
              </a:rPr>
              <a:t>Es hora que conozca al mas valiente de todos los tiempos… llego el momento que conozcas a       TO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0000"/>
                </a:solidFill>
                <a:latin typeface="Forte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0000"/>
                </a:solidFill>
                <a:latin typeface="Forte"/>
              </a:rPr>
              <a:t>             </a:t>
            </a:r>
            <a:r>
              <a:rPr b="0" lang="es-ES" sz="4000" spc="-1" strike="noStrike">
                <a:solidFill>
                  <a:srgbClr val="ff0000"/>
                </a:solidFill>
                <a:latin typeface="Forte"/>
              </a:rPr>
              <a:t>aquí esta TOTO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207960" y="5013360"/>
            <a:ext cx="28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elkponeroxx@hotmai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3T00:14:20Z</dcterms:created>
  <dc:creator>QUIKE</dc:creator>
  <dc:description/>
  <dc:language>en-US</dc:language>
  <cp:lastModifiedBy>QUIKE</cp:lastModifiedBy>
  <dcterms:modified xsi:type="dcterms:W3CDTF">2009-06-23T01:20:44Z</dcterms:modified>
  <cp:revision>2</cp:revision>
  <dc:subject/>
  <dc:title> TOTO</dc:title>
</cp:coreProperties>
</file>