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26A-69E3-43EE-8D47-987EE0AA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7E0-FE13-421E-B305-E07E8A6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8DA-FEDA-4318-B71E-08E8B102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0BC-9D6A-498D-84FF-E5E38E85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E1D-41E6-4704-9C54-6E5025CF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EE3-34EA-42EF-9E18-5DC91C8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FE2-E579-42FD-8154-1090379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4EF-0CF1-49BA-A9A6-3D3B9C98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260-A6CF-4506-807E-2DDCEB3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78E-3F97-4765-8B47-B008C48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BBF-D50A-4E65-AF44-BDC3B41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AB9-D86D-4DA6-8244-132B9507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F88-F9F7-40B5-83B0-680C501739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tu pensabas que San Martin era valien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Deberías haber conocido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l Che fue un valien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Pero el TOTO es mas val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</a:t>
            </a: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Si creías que los Héroes De la Guerra de Irak fueron valient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            </a:t>
            </a:r>
            <a:r>
              <a:rPr b="0" lang="es-ES" sz="4000" spc="-1" strike="noStrike">
                <a:solidFill>
                  <a:srgbClr val="ffffff"/>
                </a:solidFill>
                <a:latin typeface="Forte"/>
              </a:rPr>
              <a:t>Deberías conocer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pensabas que Obama tiene clase y estil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Tendrías que conocer a TO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orte"/>
              </a:rPr>
              <a:t>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Si esta gente arriesga su vida jajaj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s por que no conocen a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Es hora que conozca al mas valiente de todos los tiempos… llego el momento que conozcas a       T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             </a:t>
            </a:r>
            <a:r>
              <a:rPr b="0" lang="es-ES" sz="4000" spc="-1" strike="noStrike">
                <a:solidFill>
                  <a:srgbClr val="ff0000"/>
                </a:solidFill>
                <a:latin typeface="Forte"/>
              </a:rPr>
              <a:t>aquí esta TOT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7960" y="501336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lkponeroxx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00:14:20Z</dcterms:created>
  <dc:creator>QUIKE</dc:creator>
  <dc:description/>
  <dc:language>en-US</dc:language>
  <cp:lastModifiedBy>QUIKE</cp:lastModifiedBy>
  <dcterms:modified xsi:type="dcterms:W3CDTF">2009-06-23T01:20:44Z</dcterms:modified>
  <cp:revision>2</cp:revision>
  <dc:subject/>
  <dc:title> TOTO</dc:title>
</cp:coreProperties>
</file>