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ound009b.wav" ContentType="audio/x-wav"/>
  <Override PartName="/ppt/media/image3.png" ContentType="image/png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A2C-9E42-4970-B6EA-CDE56653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A53-C12C-4366-892C-81A5D471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3E6-1E48-47BA-8C9D-1AEFCAE2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378-1DE9-43C5-9744-9E6511B5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C34-16A3-4DBD-ACD8-D16A467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EFE-63A0-4459-8AD6-A9A8D43E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757-8214-432B-AA32-09965D07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ABA-2A14-4AEC-BE3B-6C29A760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719-CB86-4747-8EA0-0A8DE27C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25F-7669-4755-B920-2F91B2C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9EC-0BFF-45F2-A6D9-682183A2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D8C-CC99-42B6-8A85-4F464793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E236-2638-4D1E-B1E6-AFDFD934D03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9b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Tahoma"/>
              </a:rPr>
              <a:t>¿SABES LO QUE E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440" y="2571840"/>
            <a:ext cx="70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ff"/>
                </a:solidFill>
                <a:latin typeface="Tahoma"/>
              </a:rPr>
              <a:t>OCLOCRAC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  <p:sndAc>
      <p:stSnd>
        <p:snd r:embed="rId1" name="sound009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291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 la salida de algunas escuelas, madres agrupadas despotrican contra los maes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Yo hago que la boten, qué se cree esta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aquí un insulto-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a mi hijo nadie  me lo  toca…‘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”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Si se hace la loca la maestra esa 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interviene otra              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la  cagamos" total, no pasa nada,  aquí  mandamos nosotras…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Pregu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Hay autoridades loc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Hay autoridades Region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Y las  sanciones a los tumultos callej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Y  las sanciones a los bloqueos de carreter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00000"/>
                </a:solidFill>
                <a:latin typeface="Tahoma"/>
              </a:rPr>
              <a:t>Y  las sanciones por violar los derechos de los demá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45044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OLIBIO, historiador griego, en su obra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HISTORIÆ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, en el 200 a. C. llamó oclocracia al fruto de l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ahoma"/>
              </a:rPr>
              <a:t>”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Tahoma"/>
              </a:rPr>
              <a:t>ACCIÓN DEMAGÓGICA</a:t>
            </a:r>
            <a:r>
              <a:rPr b="1" i="1" lang="es-ES" sz="3200" spc="-1" strike="noStrike">
                <a:solidFill>
                  <a:srgbClr val="ffff00"/>
                </a:solidFill>
                <a:latin typeface="Tahoma"/>
              </a:rPr>
              <a:t>”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la definió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la tiranía de las mayorías incultas y uso indebido de la fuerza para obligar a los gobernantes a adoptar políticas, decisiones o regulaciones desafortunadas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Cuando ést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la democracia)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, a su vez, se mancha de ilegalidad y violencias, con el pasar del tiempo, se constituye la oclocracia…"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10944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 común que dicha situación pueda estar promovida por la influencia de intereses (como el Pod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Ilustres pensadores como  Aristóteles, Pericles, Giovanni Sartori, Juvenal, Shakespeare, Lope de Vega, Ortega y Gasset o Tocqueville han advertido de un permanente peligro para la democracia popu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El interés de los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clócratas que ejercen el poder es hacerlo degenerar en oclocracia con el objetivo de mantener dicho poder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de forma corrupta, buscando una ilusoria legitimidad en el sector más ignorante de la sociedad, hacia el cual vuelcan todos sus esfuerzos propagandísticos y manipulad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Picture1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0" y="1517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ahoma"/>
              </a:rPr>
              <a:t>Recién me entero que esto que estamos viviendo no se llama democrac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Picture19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0" y="428760"/>
            <a:ext cx="91440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Usted qué opina…??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Hasta dónde vamos a llegar…??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ffff00"/>
                </a:solidFill>
                <a:latin typeface="Tahoma"/>
              </a:rPr>
              <a:t>Es importante que lo piense…!!!</a:t>
            </a:r>
            <a:r>
              <a:rPr b="1" lang="es-ES" sz="8800" spc="-1" strike="noStrike">
                <a:solidFill>
                  <a:srgbClr val="ffff00"/>
                </a:solidFill>
                <a:latin typeface="Tahoma"/>
              </a:rPr>
              <a:t> </a:t>
            </a:r>
            <a:r>
              <a:rPr b="1" lang="es-ES" sz="9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1295280" y="127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Black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_IGP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7"/>
          <p:cNvSpPr txBox="1"/>
          <p:nvPr/>
        </p:nvSpPr>
        <p:spPr>
          <a:xfrm>
            <a:off x="431640" y="2928960"/>
            <a:ext cx="871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o vadis Perú</a:t>
            </a:r>
            <a:endParaRPr b="1" i="1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487240" y="4073400"/>
            <a:ext cx="38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(Donde vas Perú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785880" y="14288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Infórmese, lea, extienda su conocimiento sobre esta palabreja  que trasciende más allá de lo que imaginamos y que es posible nosotros alguna vez hayamos apoy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CuadroTexto"/>
          <p:cNvSpPr/>
          <p:nvPr/>
        </p:nvSpPr>
        <p:spPr>
          <a:xfrm>
            <a:off x="4875840" y="592920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ste mail me llegó desde l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295280" y="127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 Black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_IGP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723240" y="49431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Es necesario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informarse </a:t>
            </a:r>
            <a:r>
              <a:rPr b="1" i="1" lang="es-ES" sz="3200" spc="-1" strike="noStrike">
                <a:solidFill>
                  <a:srgbClr val="ff0000"/>
                </a:solidFill>
                <a:latin typeface="Tahoma"/>
              </a:rPr>
              <a:t>y formar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08000" y="620640"/>
            <a:ext cx="87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o vadis  Perú?</a:t>
            </a:r>
            <a:endParaRPr b="1" i="1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476360" y="1630080"/>
            <a:ext cx="50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(Donde vas Perú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7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_IGP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390920" y="44107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Mistral"/>
              </a:rPr>
              <a:t>Edmund Bur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56240" y="1483200"/>
            <a:ext cx="870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Todo lo necesario para el triunfo del m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s que los hombres de bien no hagan na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¸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icture19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Picture26"/>
          <p:cNvPicPr/>
          <p:nvPr/>
        </p:nvPicPr>
        <p:blipFill>
          <a:blip r:embed="rId2"/>
          <a:stretch/>
        </p:blipFill>
        <p:spPr>
          <a:xfrm>
            <a:off x="4211640" y="333360"/>
            <a:ext cx="4476600" cy="885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cture26"/>
          <p:cNvPicPr/>
          <p:nvPr/>
        </p:nvPicPr>
        <p:blipFill>
          <a:blip r:embed="rId3"/>
          <a:stretch/>
        </p:blipFill>
        <p:spPr>
          <a:xfrm>
            <a:off x="324000" y="692280"/>
            <a:ext cx="4476600" cy="885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0" y="2287800"/>
            <a:ext cx="9144000" cy="1557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600" spc="-1" strike="noStrike">
                <a:solidFill>
                  <a:srgbClr val="ffffff"/>
                </a:solidFill>
                <a:latin typeface="Tahoma"/>
              </a:rPr>
              <a:t>OCLOCRACIA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543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n análisi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5850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Blackadder ITC"/>
              </a:rPr>
              <a:t>Vicente Na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999720"/>
            <a:ext cx="9144000" cy="1557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600" spc="-1" strike="noStrike">
                <a:solidFill>
                  <a:srgbClr val="ffffff"/>
                </a:solidFill>
                <a:latin typeface="Tahoma"/>
              </a:rPr>
              <a:t>OCLOCRACIA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3852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dmito que jamás en mi vida había oído esta palabra. Retrasmito este mail con la esperanza de que recorra el máximo de caminos pos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Picture26"/>
          <p:cNvPicPr/>
          <p:nvPr/>
        </p:nvPicPr>
        <p:blipFill>
          <a:blip r:embed="rId1"/>
          <a:stretch/>
        </p:blipFill>
        <p:spPr>
          <a:xfrm>
            <a:off x="4282920" y="2206800"/>
            <a:ext cx="4476960" cy="88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icture26"/>
          <p:cNvPicPr/>
          <p:nvPr/>
        </p:nvPicPr>
        <p:blipFill>
          <a:blip r:embed="rId2"/>
          <a:stretch/>
        </p:blipFill>
        <p:spPr>
          <a:xfrm>
            <a:off x="395280" y="2565360"/>
            <a:ext cx="4476600" cy="885960"/>
          </a:xfrm>
          <a:prstGeom prst="rect">
            <a:avLst/>
          </a:prstGeom>
          <a:ln w="0">
            <a:noFill/>
          </a:ln>
        </p:spPr>
      </p:pic>
    </p:spTree>
  </p:cSld>
  <p:transition advTm="11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2508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uede ser un alerta oportuno, de lo que nos puede estar esperando a los peruanos a la vuelta de la esquina y no tengamos tiempo para reaccion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1338840"/>
            <a:ext cx="91440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ff0000"/>
                </a:solidFill>
                <a:latin typeface="Tahoma"/>
              </a:rPr>
              <a:t>OCL</a:t>
            </a:r>
            <a:r>
              <a:rPr b="1" i="1" lang="es-ES" sz="8800" spc="-1" strike="noStrike">
                <a:solidFill>
                  <a:srgbClr val="ffffff"/>
                </a:solidFill>
                <a:latin typeface="Tahoma"/>
              </a:rPr>
              <a:t>OCRA</a:t>
            </a:r>
            <a:r>
              <a:rPr b="1" i="1" lang="es-ES" sz="8800" spc="-1" strike="noStrike">
                <a:solidFill>
                  <a:srgbClr val="ff0000"/>
                </a:solidFill>
                <a:latin typeface="Tahoma"/>
              </a:rPr>
              <a:t>C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ahoma"/>
              </a:rPr>
              <a:t>Ingobernabilidad como resultado de la aplicación de políticas demagógica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211932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ff0000"/>
                </a:solidFill>
                <a:latin typeface="Tahoma"/>
              </a:rPr>
              <a:t>OCLOCRACIA</a:t>
            </a:r>
            <a:r>
              <a:rPr b="0" i="1" lang="es-ES" sz="8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i="1" lang="es-ES" sz="6600" spc="-1" strike="noStrike">
                <a:solidFill>
                  <a:srgbClr val="ffffff"/>
                </a:solidFill>
                <a:latin typeface="Tahoma"/>
              </a:rPr>
              <a:t>Gobierno de la pleb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7531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Ya resulta una hazaña el despertarse día a día, con el temor de salir a la calle para no ser robado, lastimado o hasta muerto por alguien que busca el dinero ajeno a costa de sus semejantes, no importa edad ni sexo, igual hieren a un adolescente  para quitarle sus ropas, como lo hacen con la  señora que sale del supermercado con  sus compras, o el anciano que acaba de cobrar su jubilación. Entran y salen de las comisarías y cárceles riéndose de autoridades e insultando a todos.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22:22:29Z</dcterms:created>
  <dc:creator>Javier</dc:creator>
  <dc:description/>
  <dc:language>en-US</dc:language>
  <cp:lastModifiedBy>Javier</cp:lastModifiedBy>
  <dcterms:modified xsi:type="dcterms:W3CDTF">2011-05-16T23:22:12Z</dcterms:modified>
  <cp:revision>6</cp:revision>
  <dc:subject/>
  <dc:title>¿SABES LO QUE ES?</dc:title>
</cp:coreProperties>
</file>