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ound009b.wav" ContentType="audio/x-wav"/>
  <Override PartName="/ppt/media/image3.png" ContentType="image/png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84F-6C46-4367-8F30-1FA3019D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E51-7D54-4F48-BC4A-31AB461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D9D-04E6-44CE-A2B1-5EEAC0AC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0FC-856E-4EAF-913F-EA732562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47D-26CA-41D6-8BBC-C7DC5022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BBC-1659-4740-AFAD-D344D106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4D5-D456-404E-A6E0-E349698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A09-9599-41C4-84F6-9ABA3BC3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F31-94CC-455E-B5A1-AB8D6434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223-3CD5-4F3C-A833-585C9000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274-E944-48C2-BDF6-EE861258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100-BFAC-40AF-A48D-470168FA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5019-ADB1-492E-839B-E9F0CE4B7E8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und009b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¿SABES LO QUE E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440" y="2571840"/>
            <a:ext cx="705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ffffff"/>
                </a:solidFill>
                <a:latin typeface="Tahoma"/>
              </a:rPr>
              <a:t>OCLOCRAC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zoom dir="out"/>
    <p:sndAc>
      <p:stSnd>
        <p:snd r:embed="rId1" name="sound009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2916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 la salida de algunas escuelas, madres agrupadas despotrican contra los maest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Yo hago que la boten, qué se cree esta 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y aquí un insulto- 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a mi hijo nadie  me lo  toca…‘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”…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Si se hace la loca la maestra esa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interviene otra               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la  cagamos" total, no pasa nada,  aquí  mandamos nosotras…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Pregu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Hay autoridades loca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Hay autoridades Regiona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Y las  sanciones a los tumultos calleje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Y  las sanciones a los bloqueos de carretera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Y  las sanciones por violar los derechos de los demá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7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145044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OLIBIO, historiador griego, en su obra 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HISTORIÆ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, en el 200 a. C. llamó oclocracia al fruto de l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Tahoma"/>
              </a:rPr>
              <a:t>”</a:t>
            </a:r>
            <a:r>
              <a:rPr b="1" i="1" lang="es-ES" sz="3200" spc="-1" strike="noStrike" u="sng">
                <a:solidFill>
                  <a:srgbClr val="ffff00"/>
                </a:solidFill>
                <a:uFillTx/>
                <a:latin typeface="Tahoma"/>
              </a:rPr>
              <a:t>ACCIÓN DEMAGÓGICA</a:t>
            </a:r>
            <a:r>
              <a:rPr b="1" i="1" lang="es-ES" sz="3200" spc="-1" strike="noStrike">
                <a:solidFill>
                  <a:srgbClr val="ffff00"/>
                </a:solidFill>
                <a:latin typeface="Tahoma"/>
              </a:rPr>
              <a:t>”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y la definió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la tiranía de las mayorías incultas y uso indebido de la fuerza para obligar a los gobernantes a adoptar políticas, decisiones o regulaciones desafortunadas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Cuando ést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la democracia)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, a su vez, se mancha de ilegalidad y violencias, con el pasar del tiempo, se constituye la oclocracia…"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10944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 común que dicha situación pueda estar promovida por la influencia de intereses (como el Pod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Ilustres pensadores como  Aristóteles, Pericles, Giovanni Sartori, Juvenal, Shakespeare, Lope de Vega, Ortega y Gasset o Tocqueville han advertido de un permanente peligro para la democracia popu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El interés de los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clócratas que ejercen el poder es hacerlo degenerar en oclocracia con el objetivo de mantener dicho poder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de forma corrupta, buscando una ilusoria legitimidad en el sector más ignorante de la sociedad, hacia el cual vuelcan todos sus esfuerzos propagandísticos y manipulad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Picture1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0" y="1517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ahoma"/>
              </a:rPr>
              <a:t>Recién me entero que esto que estamos viviendo no se llama democraci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Picture1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0" y="428760"/>
            <a:ext cx="9144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Usted qué opina…??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Hasta dónde vamos a llegar…??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ffff00"/>
                </a:solidFill>
                <a:latin typeface="Tahoma"/>
              </a:rPr>
              <a:t>Es importante que lo piense…!!!</a:t>
            </a:r>
            <a:r>
              <a:rPr b="1" lang="es-ES" sz="88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1" lang="es-ES" sz="9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1295280" y="127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Black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_IGP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7"/>
          <p:cNvSpPr txBox="1"/>
          <p:nvPr/>
        </p:nvSpPr>
        <p:spPr>
          <a:xfrm>
            <a:off x="431640" y="2928960"/>
            <a:ext cx="871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o vadis Perú</a:t>
            </a:r>
            <a:endParaRPr b="1" i="1" lang="en-US" sz="1800" spc="1" strike="noStrike">
              <a:ln w="381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487240" y="4073400"/>
            <a:ext cx="38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(Donde vas Perú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785880" y="142884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Infórmese, lea, extienda su conocimiento sobre esta palabreja  que trasciende más allá de lo que imaginamos y que es posible nosotros alguna vez hayamos apoy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CuadroTexto"/>
          <p:cNvSpPr/>
          <p:nvPr/>
        </p:nvSpPr>
        <p:spPr>
          <a:xfrm>
            <a:off x="4875840" y="592920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ste mail me llegó desde l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295280" y="127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Black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_IGP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723240" y="4943160"/>
            <a:ext cx="73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Tahoma"/>
              </a:rPr>
              <a:t>Es necesario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informarse </a:t>
            </a:r>
            <a:r>
              <a:rPr b="1" i="1" lang="es-ES" sz="3200" spc="-1" strike="noStrike">
                <a:solidFill>
                  <a:srgbClr val="ff0000"/>
                </a:solidFill>
                <a:latin typeface="Tahoma"/>
              </a:rPr>
              <a:t>y formar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108000" y="620640"/>
            <a:ext cx="87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o vadis  Perú?</a:t>
            </a:r>
            <a:endParaRPr b="1" i="1" lang="en-US" sz="1800" spc="1" strike="noStrike">
              <a:ln w="381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476360" y="1630080"/>
            <a:ext cx="50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(Donde vas Perú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7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_IGP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390920" y="441072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Mistral"/>
              </a:rPr>
              <a:t>Edmund Bur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56240" y="1483200"/>
            <a:ext cx="870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Todo lo necesario para el triunfo del m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es que los hombres de bien no hagan nad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¸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icture19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Picture26"/>
          <p:cNvPicPr/>
          <p:nvPr/>
        </p:nvPicPr>
        <p:blipFill>
          <a:blip r:embed="rId2"/>
          <a:stretch/>
        </p:blipFill>
        <p:spPr>
          <a:xfrm>
            <a:off x="4211640" y="333360"/>
            <a:ext cx="4476600" cy="885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cture26"/>
          <p:cNvPicPr/>
          <p:nvPr/>
        </p:nvPicPr>
        <p:blipFill>
          <a:blip r:embed="rId3"/>
          <a:stretch/>
        </p:blipFill>
        <p:spPr>
          <a:xfrm>
            <a:off x="324000" y="692280"/>
            <a:ext cx="4476600" cy="885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0" y="2287800"/>
            <a:ext cx="9144000" cy="1557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600" spc="-1" strike="noStrike">
                <a:solidFill>
                  <a:srgbClr val="ffffff"/>
                </a:solidFill>
                <a:latin typeface="Tahoma"/>
              </a:rPr>
              <a:t>OCLOCRACIA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543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n análisi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5850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Blackadder ITC"/>
              </a:rPr>
              <a:t>Vicente Nar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999720"/>
            <a:ext cx="9144000" cy="1557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600" spc="-1" strike="noStrike">
                <a:solidFill>
                  <a:srgbClr val="ffffff"/>
                </a:solidFill>
                <a:latin typeface="Tahoma"/>
              </a:rPr>
              <a:t>OCLOCRACIA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3852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dmito que jamás en mi vida había oído esta palabra. Retrasmito este mail con la esperanza de que recorra el máximo de caminos pos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Picture26"/>
          <p:cNvPicPr/>
          <p:nvPr/>
        </p:nvPicPr>
        <p:blipFill>
          <a:blip r:embed="rId1"/>
          <a:stretch/>
        </p:blipFill>
        <p:spPr>
          <a:xfrm>
            <a:off x="4282920" y="2206800"/>
            <a:ext cx="4476960" cy="88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Picture26"/>
          <p:cNvPicPr/>
          <p:nvPr/>
        </p:nvPicPr>
        <p:blipFill>
          <a:blip r:embed="rId2"/>
          <a:stretch/>
        </p:blipFill>
        <p:spPr>
          <a:xfrm>
            <a:off x="395280" y="2565360"/>
            <a:ext cx="4476600" cy="885960"/>
          </a:xfrm>
          <a:prstGeom prst="rect">
            <a:avLst/>
          </a:prstGeom>
          <a:ln w="0">
            <a:noFill/>
          </a:ln>
        </p:spPr>
      </p:pic>
    </p:spTree>
  </p:cSld>
  <p:transition advTm="11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2508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uede ser un alerta oportuno, de lo que nos puede estar esperando a los peruanos a la vuelta de la esquina y no tengamos tiempo para reaccion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1338840"/>
            <a:ext cx="91440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ff0000"/>
                </a:solidFill>
                <a:latin typeface="Tahoma"/>
              </a:rPr>
              <a:t>OCL</a:t>
            </a:r>
            <a:r>
              <a:rPr b="1" i="1" lang="es-ES" sz="8800" spc="-1" strike="noStrike">
                <a:solidFill>
                  <a:srgbClr val="ffffff"/>
                </a:solidFill>
                <a:latin typeface="Tahoma"/>
              </a:rPr>
              <a:t>OCRA</a:t>
            </a:r>
            <a:r>
              <a:rPr b="1" i="1" lang="es-ES" sz="8800" spc="-1" strike="noStrike">
                <a:solidFill>
                  <a:srgbClr val="ff0000"/>
                </a:solidFill>
                <a:latin typeface="Tahoma"/>
              </a:rPr>
              <a:t>C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66ccff"/>
                </a:solidFill>
                <a:latin typeface="Tahom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ahoma"/>
              </a:rPr>
              <a:t>Ingobernabilidad como resultado de la aplicación de políticas demagógica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211932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ff0000"/>
                </a:solidFill>
                <a:latin typeface="Tahoma"/>
              </a:rPr>
              <a:t>OCLOCRACIA</a:t>
            </a:r>
            <a:r>
              <a:rPr b="0" i="1" lang="es-ES" sz="8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i="1" lang="es-ES" sz="6600" spc="-1" strike="noStrike">
                <a:solidFill>
                  <a:srgbClr val="ffffff"/>
                </a:solidFill>
                <a:latin typeface="Tahoma"/>
              </a:rPr>
              <a:t>Gobierno de la pleb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7531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Ya resulta una hazaña el despertarse día a día, con el temor de salir a la calle para no ser robado, lastimado o hasta muerto por alguien que busca el dinero ajeno a costa de sus semejantes, no importa edad ni sexo, igual hieren a un adolescente  para quitarle sus ropas, como lo hacen con la  señora que sale del supermercado con  sus compras, o el anciano que acaba de cobrar su jubilación. Entran y salen de las comisarías y cárceles riéndose de autoridades e insultando a todos.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22:22:29Z</dcterms:created>
  <dc:creator>Javier</dc:creator>
  <dc:description/>
  <dc:language>en-US</dc:language>
  <cp:lastModifiedBy>Javier</cp:lastModifiedBy>
  <dcterms:modified xsi:type="dcterms:W3CDTF">2011-05-16T23:22:12Z</dcterms:modified>
  <cp:revision>6</cp:revision>
  <dc:subject/>
  <dc:title>¿SABES LO QUE ES?</dc:title>
</cp:coreProperties>
</file>