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9.jpeg" ContentType="image/jpeg"/>
  <Override PartName="/ppt/media/image1.gif" ContentType="image/gif"/>
  <Override PartName="/ppt/media/image11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L%20MONDO%20-%20JIMMY%20FONTANA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FC7-7C1C-405E-8FA8-C4311382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A9C-6661-433B-9BAA-761CCA00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2B5-C8A2-4606-9BA9-7C64700B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13B-2B1C-422B-B78A-680B91B1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D66-816B-4BDB-988E-7037BEE7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3F4-4CFC-469C-94B2-19FBAB3D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4CE-1A02-4499-B3A0-87C09B0C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44F-9708-482D-9900-CF472038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CD6-8163-401E-A06F-EA3A988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2D8-91F9-46C7-9204-32874F7D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42B-D952-412A-ABB5-E1239B0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791-C048-455A-AD7B-BF92E42A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2B4E-D334-4452-B071-12129F954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IL%20MONDO%20-%20JIMMY%20FONTANA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562720"/>
            <a:ext cx="761760" cy="552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32240" y="618660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ique para seqüência dos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8800" y="2209680"/>
            <a:ext cx="594360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lla Ital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5187600" y="618660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ique para seqüência dos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IL%20MONDO%20-%20JIMMY%20FONTAN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3480" y="63244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La casa sulla col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8000" y="626904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asa sulla col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617544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t Felip Neri gi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i bamb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60560" y="0"/>
            <a:ext cx="4988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5280" y="658332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Rave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14600" y="5257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v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3000" y="647712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osta del s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5640" y="617544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a del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6360" y="64771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osit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8280" y="62816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i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7400" y="602280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feratto al tram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20880" y="0"/>
            <a:ext cx="4975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1760" y="6357960"/>
            <a:ext cx="34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feratto-in cima alla col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6360" y="62514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ferr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6000" y="6345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i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3040" y="62755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6583320"/>
            <a:ext cx="22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Vesuvio dal Sorr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6400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suvio dal Sorr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60" y="5334120"/>
            <a:ext cx="27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ssa Lubrense e Vesuv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68480" y="0"/>
            <a:ext cx="62611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9680" y="62514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ore e g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1840" y="627552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nival de Venez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astellfollit de la Ro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63244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tellfollit de la Ro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6160" y="619920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astel di Tora in nottu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200" y="6019920"/>
            <a:ext cx="23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Capvespre a bany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1600" y="61498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3400" y="62928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rga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520" y="6122880"/>
            <a:ext cx="193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Secuna di atu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880" y="6248520"/>
            <a:ext cx="28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llagio - Lago di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4008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Var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3040" y="63244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4440" y="63388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oria di Cas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164360" y="624852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nque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7680" y="6369120"/>
            <a:ext cx="34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co di Caserta del palazzo re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62514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ccolo villa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5280" y="625140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ferrato - Vignale al tram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0560" y="6400800"/>
            <a:ext cx="224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fficiali navali Itali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2920" y="635148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ndola de Venez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5160" y="62514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mpagna di Cas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055000" y="5562720"/>
            <a:ext cx="612720" cy="799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90960" y="304812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uona salu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6600" y="6292800"/>
            <a:ext cx="22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a balcone su R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27280" y="152280"/>
            <a:ext cx="5145120" cy="6477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9680" y="64008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osc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0760" y="62247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 rot="10828800">
            <a:off x="818640" y="63993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4800" y="6583320"/>
            <a:ext cx="13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ramonto d'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5280" y="633888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monto d'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720" y="6072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l centur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9680" y="6477120"/>
            <a:ext cx="152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ivoli - Villa d'E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200" y="626904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voli - Villa d'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9:02:35Z</dcterms:created>
  <dc:creator>Ron</dc:creator>
  <dc:description/>
  <dc:language>en-US</dc:language>
  <cp:lastModifiedBy>Sebastiao Martins</cp:lastModifiedBy>
  <dcterms:modified xsi:type="dcterms:W3CDTF">2008-05-01T01:34:33Z</dcterms:modified>
  <cp:revision>12</cp:revision>
  <dc:subject/>
  <dc:title>Slide 1</dc:title>
</cp:coreProperties>
</file>