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1.gif" ContentType="image/gif"/>
  <Override PartName="/ppt/media/image11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L%20MONDO%20-%20JIMMY%20FONTANA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D4E-500B-4080-BB29-D92A0A68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62A-D7C8-486C-9237-197C124F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0FF-0AA2-40D5-8CEC-BCEE259B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33A-3DDB-40CE-B04A-624D13D9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971-5A35-44C6-BE6F-494950E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35E-D874-4DC6-A4B7-48A38B24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54E-373A-40DB-ABEC-DD95B61B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00C-6B4C-432F-AAF2-0557DBBA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B1E-D21C-4322-BB13-315CBE27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B40-CAC0-481B-BAAC-AAAF66D9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EE2-F4C6-4027-8452-C8AB3E4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49A-49FF-4184-8675-D733ACF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503-09FD-4CFB-80B5-6DED70F0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IL%20MONDO%20-%20JIMMY%20FONTAN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562720"/>
            <a:ext cx="761760" cy="55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32240" y="61866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ique para seqüência dos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2209680"/>
            <a:ext cx="59436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lla Ital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5187600" y="61866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para seqüência dos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IL%20MONDO%20-%20JIMMY%20FONTAN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3480" y="63244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a casa sulla col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8000" y="626904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sa sulla col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617544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 Felip Neri gi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i bamb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6056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5280" y="65833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av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14600" y="5257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3000" y="64771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ta del 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5640" y="617544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 del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6360" y="6477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8280" y="62816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7400" y="602280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atto al tra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088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1760" y="635796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atto-in cima alla col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360" y="62514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r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6000" y="6345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3040" y="62755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6583320"/>
            <a:ext cx="22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Vesuvio dal Sorr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400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suvio dal Sorr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0" y="533412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ssa Lubrense e Vesuv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84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9680" y="6251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ore e g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1840" y="627552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nival de Venez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astellfollit de la Ro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63244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tellfollit de la 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160" y="61992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astel di Tora in not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200" y="6019920"/>
            <a:ext cx="23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apvespre a bany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1600" y="61498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3400" y="62928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rg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520" y="6122880"/>
            <a:ext cx="193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cuna di atu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880" y="6248520"/>
            <a:ext cx="28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lagio - Lago di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400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Var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3040" y="63244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440" y="63388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oria di Cas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164360" y="62485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que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636912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co di Caserta del palazzo re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62514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ccolo villa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5280" y="625140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rato - Vignale al tra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560" y="6400800"/>
            <a:ext cx="22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fficiali navali Itali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2920" y="635148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ndola de Venez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5160" y="62514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pagna di Cas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55000" y="5562720"/>
            <a:ext cx="612720" cy="799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90960" y="30481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uona sal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6600" y="629280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a balcone su 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152280"/>
            <a:ext cx="514512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9680" y="64008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os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0760" y="6224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 rot="10828800">
            <a:off x="818640" y="63993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4800" y="658332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ramonto d'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5280" y="633888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monto d'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720" y="6072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 centu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9680" y="6477120"/>
            <a:ext cx="152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ivoli - Villa d'E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200" y="62690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voli - Villa d'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02:35Z</dcterms:created>
  <dc:creator>Ron</dc:creator>
  <dc:description/>
  <dc:language>en-US</dc:language>
  <cp:lastModifiedBy>Sebastiao Martins</cp:lastModifiedBy>
  <dcterms:modified xsi:type="dcterms:W3CDTF">2008-05-01T01:34:33Z</dcterms:modified>
  <cp:revision>12</cp:revision>
  <dc:subject/>
  <dc:title>Slide 1</dc:title>
</cp:coreProperties>
</file>