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7453-D1CA-4770-850F-B0F2B4A2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F3B-28DB-4A7D-8833-524CC04B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681-9500-483B-95EA-0811D5EE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EC7-FA94-46D0-BE6F-DDD1F623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0BE-89C1-4BBB-A1C7-6543F54E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EF2-35A0-4EA4-BF6A-E83E6C47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FA0-7F1C-4DBB-B48A-8C4D9D94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B0F-0E2E-4F86-A59A-E11D3E83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C68-A2F3-4413-945E-10D14E67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59D-8C1B-4184-B827-FF70E11C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529-7266-475A-BA44-BE133F64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970-5C3D-4D08-AD8A-AAD1EF84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5EDF-2F51-4409-9E62-DDFB19BD2328}" type="slidenum">
              <a:rPr b="0" lang="es-A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scontent-b-mad.xx.fbcdn.net/hphotos-frc1/389736_302954306440903_759607815_n.jpg"/>
          <p:cNvPicPr/>
          <p:nvPr/>
        </p:nvPicPr>
        <p:blipFill>
          <a:blip r:embed="rId1"/>
          <a:stretch/>
        </p:blipFill>
        <p:spPr>
          <a:xfrm>
            <a:off x="2627280" y="1484280"/>
            <a:ext cx="3889440" cy="3889440"/>
          </a:xfrm>
          <a:prstGeom prst="rect">
            <a:avLst/>
          </a:prstGeom>
          <a:ln w="0">
            <a:noFill/>
          </a:ln>
        </p:spPr>
      </p:pic>
      <p:sp>
        <p:nvSpPr>
          <p:cNvPr id="42" name="2 Rectángulo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3 Rectángulo"/>
          <p:cNvSpPr/>
          <p:nvPr/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scontent-b-mad.xx.fbcdn.net/hphotos-ash3/554800_464337046969294_1562246649_n.jp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scontent-a-mad.xx.fbcdn.net/hphotos-ash3/600996_480842801985385_856369995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scontent-b-mad.xx.fbcdn.net/hphotos-ash3/581680_501621896574142_689597706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scontent-a-mad.xx.fbcdn.net/hphotos-ash4/379574_479162992153366_847570394_n.png"/>
          <p:cNvPicPr/>
          <p:nvPr/>
        </p:nvPicPr>
        <p:blipFill>
          <a:blip r:embed="rId1"/>
          <a:stretch/>
        </p:blipFill>
        <p:spPr>
          <a:xfrm>
            <a:off x="118728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scontent-a-mad.xx.fbcdn.net/hphotos-prn2/1069874_493192014083797_1808518286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s://scontent-a-mad.xx.fbcdn.net/hphotos-prn2/10153_488745661195099_125865575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scontent-a-mad.xx.fbcdn.net/hphotos-ash3/182818_471777179558614_959618386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scontent-b-mad.xx.fbcdn.net/hphotos-ash4/382760_476830859053246_752199078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scontent-b-mad.xx.fbcdn.net/hphotos-frc3/969482_475145405888458_649264614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scontent-b-mad.xx.fbcdn.net/hphotos-ash3/486651_469315276471471_1989247408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s://scontent-a-mad.xx.fbcdn.net/hphotos-ash3/1017347_484675068268825_606303562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s://scontent-b-mad.xx.fbcdn.net/hphotos-frc3/971976_481618645241134_1559407392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scontent-a-mad.xx.fbcdn.net/hphotos-ash3/943052_481048741964791_330072967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scontent-b-mad.xx.fbcdn.net/hphotos-ash4/1005108_490542261015439_1125258266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scontent-a-mad.xx.fbcdn.net/hphotos-ash4/401915_470348729701459_842395163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scontent-a-mad.xx.fbcdn.net/hphotos-prn1/934914_466463646756634_294773812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scontent-a-mad.xx.fbcdn.net/hphotos-ash4/1069205_495668203836178_1468967372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scontent-b-mad.xx.fbcdn.net/hphotos-prn2/969528_478257552243910_683819868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14:51:46Z</dcterms:created>
  <dc:creator>susana</dc:creator>
  <dc:description/>
  <dc:language>en-US</dc:language>
  <cp:lastModifiedBy>esrebla</cp:lastModifiedBy>
  <dcterms:modified xsi:type="dcterms:W3CDTF">2013-10-01T00:51:50Z</dcterms:modified>
  <cp:revision>2</cp:revision>
  <dc:subject/>
  <dc:title>Diapositiva 1</dc:title>
</cp:coreProperties>
</file>