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F0F-8508-4FD3-909B-F5019BC3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694-6C8E-4E1A-850C-B78C1636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48B-C938-4AA0-B70C-B17CBBFD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ACA-4A8C-48EF-AE9B-4C631AE0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C17-3B68-4EE7-BE68-440A17E1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91A-DD49-4B0B-BFF5-BEED9D04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586-0517-490B-A347-6187D181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E75-C67E-4018-A726-E5D991E6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894-6261-4707-948B-EFFE648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633-530A-49C4-AE43-F3C11BBD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F53-5C75-49E1-9E11-551F7BA0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DCB-6EA2-4300-8AE1-7F6DEDD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09B9-7317-4DB4-A482-5B0A1268BE15}" type="slidenum">
              <a:rPr b="0" lang="es-A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scontent-b-mad.xx.fbcdn.net/hphotos-frc1/389736_302954306440903_759607815_n.jpg"/>
          <p:cNvPicPr/>
          <p:nvPr/>
        </p:nvPicPr>
        <p:blipFill>
          <a:blip r:embed="rId1"/>
          <a:stretch/>
        </p:blipFill>
        <p:spPr>
          <a:xfrm>
            <a:off x="2627280" y="148428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42" name="2 Rectángulo"/>
          <p:cNvSpPr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3 Rectángulo"/>
          <p:cNvSpPr/>
          <p:nvPr/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scontent-b-mad.xx.fbcdn.net/hphotos-ash3/554800_464337046969294_1562246649_n.jp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scontent-a-mad.xx.fbcdn.net/hphotos-ash3/600996_480842801985385_856369995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scontent-b-mad.xx.fbcdn.net/hphotos-ash3/581680_501621896574142_689597706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scontent-a-mad.xx.fbcdn.net/hphotos-ash4/379574_479162992153366_847570394_n.png"/>
          <p:cNvPicPr/>
          <p:nvPr/>
        </p:nvPicPr>
        <p:blipFill>
          <a:blip r:embed="rId1"/>
          <a:stretch/>
        </p:blipFill>
        <p:spPr>
          <a:xfrm>
            <a:off x="118728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scontent-a-mad.xx.fbcdn.net/hphotos-prn2/1069874_493192014083797_1808518286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scontent-a-mad.xx.fbcdn.net/hphotos-prn2/10153_488745661195099_125865575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scontent-a-mad.xx.fbcdn.net/hphotos-ash3/182818_471777179558614_959618386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scontent-b-mad.xx.fbcdn.net/hphotos-ash4/382760_476830859053246_752199078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scontent-b-mad.xx.fbcdn.net/hphotos-frc3/969482_475145405888458_649264614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scontent-b-mad.xx.fbcdn.net/hphotos-ash3/486651_469315276471471_1989247408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s://scontent-a-mad.xx.fbcdn.net/hphotos-ash3/1017347_484675068268825_606303562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s://scontent-b-mad.xx.fbcdn.net/hphotos-frc3/971976_481618645241134_1559407392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scontent-a-mad.xx.fbcdn.net/hphotos-ash3/943052_481048741964791_330072967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scontent-b-mad.xx.fbcdn.net/hphotos-ash4/1005108_490542261015439_1125258266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scontent-a-mad.xx.fbcdn.net/hphotos-ash4/401915_470348729701459_842395163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scontent-a-mad.xx.fbcdn.net/hphotos-prn1/934914_466463646756634_294773812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scontent-a-mad.xx.fbcdn.net/hphotos-ash4/1069205_495668203836178_1468967372_n.pn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scontent-b-mad.xx.fbcdn.net/hphotos-prn2/969528_478257552243910_683819868_n.png"/>
          <p:cNvPicPr/>
          <p:nvPr/>
        </p:nvPicPr>
        <p:blipFill>
          <a:blip r:embed="rId1"/>
          <a:stretch/>
        </p:blipFill>
        <p:spPr>
          <a:xfrm>
            <a:off x="11872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14:51:46Z</dcterms:created>
  <dc:creator>susana</dc:creator>
  <dc:description/>
  <dc:language>en-US</dc:language>
  <cp:lastModifiedBy>esrebla</cp:lastModifiedBy>
  <dcterms:modified xsi:type="dcterms:W3CDTF">2013-10-01T00:51:50Z</dcterms:modified>
  <cp:revision>2</cp:revision>
  <dc:subject/>
  <dc:title>Diapositiva 1</dc:title>
</cp:coreProperties>
</file>