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991-463F-4644-847E-929F7D31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41A-519B-4A96-94BE-C83168F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7A6-18C9-486D-B9A3-CDC1E8D4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DF3-6385-4D77-A5B3-A1579F9E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027-70E1-4253-BD64-11EF60BF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96B-34F4-4BD0-9FF3-2B5D4C1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8D8-C897-4E81-A3E4-055EB854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F30-9699-4C76-A2E0-1B16A32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073-593C-4388-AD6D-C229D85C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327-A8AA-4312-AA6C-7DF1843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F15-89FC-48BC-8D70-A404F38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CC4-098E-4586-9051-BDFB18E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983C-5358-4648-A1E1-2452A7E0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canico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quirofano5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36232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El Cirujano se inclinó, pausadamente sobre el Mecánico y le dijo, casi susurrándole al oíd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-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"Trata de hacerlo con el motor en marcha"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2362320"/>
            <a:ext cx="6324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mecánico estaba removiendo la cabeza de un cilindro de un motor V12 perteneciente a un "Jaguar", cuando vió a un conocido y afamado cirujano del corazón en el Garaj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aguar_xjr-s_1993_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04440" y="2438280"/>
            <a:ext cx="628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irujano estaba esperando ser atend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l jefe de servi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ecánico le gritó al cirujan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xp_4_mecanic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213372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"Hey Doc... ¿Le puedo hacer una pregunta?"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El Cirujano, un poco sorprendido, caminó hacia el mecá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Éste,  limpiándose sus manos en una toalla, le lanzó a "boca jarro", la  siguiente pregunta..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2590920"/>
            <a:ext cx="701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"Vea Doc, échele una mirada a este mo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Yo abrí su corazón, le saqué las válvulas y el árbol de levas, las arreglé, las  volví a instalar y, cuando terminé, el motor funcionó como nue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otor-gm-v8-corte-completo_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2514600"/>
            <a:ext cx="69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Entonces, ¿Porqué recibo un salario 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pequeño mientras que Ud. obtiene un montón de dinero, cuando ambos hacemos básicamente el mismo trabajo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8:04:21Z</dcterms:created>
  <dc:creator>Boss</dc:creator>
  <dc:description/>
  <dc:language>en-US</dc:language>
  <cp:lastModifiedBy>Maria Jesus Curiel</cp:lastModifiedBy>
  <dcterms:modified xsi:type="dcterms:W3CDTF">2007-06-07T17:40:00Z</dcterms:modified>
  <cp:revision>2</cp:revision>
  <dc:subject/>
  <dc:title>Presentación de PowerPoint</dc:title>
</cp:coreProperties>
</file>