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3D91E-6963-4F11-95BB-F95642DE2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2D84C-D8AA-4F98-80D1-109754A7E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DB0AC-407F-41E7-B0F1-2E37DD2A2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1FFD1-D8CF-43B9-B3E5-D058E07CE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28C13-7E0C-41F5-8037-FB8F4B8DB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FF6DB-2108-4280-BB24-0D8FD5A1C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27F3A-40F4-4AE1-B2CE-D9990C0A8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1BF20-8E99-4B99-9713-EDC76BAFC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53908-82AE-4381-B860-71229A63E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72E0A-8689-4FFA-BECF-DAC7F0003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BF912-030C-4173-9E8C-BB415AE52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EC58D-D7E4-4A50-A08E-F5B63FBD3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366B4-E63D-4424-8E0F-FDADD45684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mecanico" descr=""/>
          <p:cNvPicPr/>
          <p:nvPr/>
        </p:nvPicPr>
        <p:blipFill>
          <a:blip r:embed="rId1"/>
          <a:stretch/>
        </p:blipFill>
        <p:spPr>
          <a:xfrm>
            <a:off x="2057400" y="914400"/>
            <a:ext cx="49528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quirofano51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3152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914400" y="2362320"/>
            <a:ext cx="7391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  <a:ea typeface="Tahoma"/>
              </a:rPr>
              <a:t>El Cirujano se inclinó, pausadamente sobre el Mecánico y le dijo, casi susurrándole al oído: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Verdana"/>
                <a:ea typeface="Tahoma"/>
              </a:rPr>
              <a:t>- </a:t>
            </a:r>
            <a:r>
              <a:rPr b="0" i="1" lang="es-ES" sz="2400" spc="-1" strike="noStrike">
                <a:solidFill>
                  <a:srgbClr val="000000"/>
                </a:solidFill>
                <a:latin typeface="Verdana"/>
                <a:ea typeface="Tahoma"/>
              </a:rPr>
              <a:t>"Trata de hacerlo con el motor en marcha"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523880" y="2362320"/>
            <a:ext cx="632484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Un mecánico estaba removiendo la cabeza de un cilindro de un motor V12 perteneciente a un "Jaguar", cuando vió a un conocido y afamado cirujano del corazón en el Garaje..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jaguar_xjr-s_1993_00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504440" y="2438280"/>
            <a:ext cx="6287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El cirujano estaba esperando ser atendid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por el jefe de servici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El mecánico le gritó al cirujano: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exp_4_mecanico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2133720"/>
            <a:ext cx="76201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  <a:ea typeface="Tahoma"/>
              </a:rPr>
              <a:t>"Hey Doc... ¿Le puedo hacer una pregunta?"</a:t>
            </a: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Verdana"/>
                <a:ea typeface="Tahoma"/>
              </a:rPr>
              <a:t>  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  <a:ea typeface="Tahoma"/>
              </a:rPr>
              <a:t>El Cirujano, un poco sorprendido, caminó hacia el mecánic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  <a:ea typeface="Tahoma"/>
              </a:rPr>
              <a:t>Éste,  limpiándose sus manos en una toalla, le lanzó a "boca jarro", la  siguiente pregunta...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066680" y="2590920"/>
            <a:ext cx="70106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  <a:ea typeface="Tahoma"/>
              </a:rPr>
              <a:t>"Vea Doc, échele una mirada a este moto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  <a:ea typeface="Tahoma"/>
              </a:rPr>
              <a:t>Yo abrí su corazón, le saqué las válvulas y el árbol de levas, las arreglé, las  volví a instalar y, cuando terminé, el motor funcionó como nuev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motor-gm-v8-corte-completo_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219320" y="2514600"/>
            <a:ext cx="69339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  <a:ea typeface="Tahoma"/>
              </a:rPr>
              <a:t>Entonces, ¿Porqué recibo un salario ta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  <a:ea typeface="Tahoma"/>
              </a:rPr>
              <a:t>pequeño mientras que Ud. obtiene un montón de dinero, cuando ambos hacemos básicamente el mismo trabajo?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1T18:04:21Z</dcterms:created>
  <dc:creator>Boss</dc:creator>
  <dc:description/>
  <dc:language>en-US</dc:language>
  <cp:lastModifiedBy>Maria Jesus Curiel</cp:lastModifiedBy>
  <dcterms:modified xsi:type="dcterms:W3CDTF">2007-06-07T17:40:00Z</dcterms:modified>
  <cp:revision>2</cp:revision>
  <dc:subject/>
  <dc:title>Presentación de PowerPoint</dc:title>
</cp:coreProperties>
</file>