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2.jpeg" ContentType="image/jpeg"/>
  <Override PartName="/ppt/media/image13.jpeg" ContentType="image/jpeg"/>
  <Override PartName="/ppt/media/An%20Affair%20To%20Remember%20-%20Nat%20K%20Cole%20ccx.wav" ContentType="audio/x-wav"/>
  <Override PartName="/ppt/media/image8.jpeg" ContentType="image/jpeg"/>
  <Override PartName="/ppt/media/Moon%20Glow%20-%20The%20Mills%20Brothers%20ccpps.wav" ContentType="audio/x-wav"/>
  <Override PartName="/ppt/media/image10.jpeg" ContentType="image/jpeg"/>
  <Override PartName="/ppt/media/As%20Time%20Goes%20By%20-%20Louis%20Armstrong%20ccpps.wav" ContentType="audio/x-wav"/>
  <Override PartName="/ppt/media/image4.jpeg" ContentType="image/jpeg"/>
  <Override PartName="/ppt/media/Singing%20in%20the%20Rain%20-%20Gene%20Kelly%20ccx.wav" ContentType="audio/x-wav"/>
  <Override PartName="/ppt/media/image5.jpeg" ContentType="image/jpeg"/>
  <Override PartName="/ppt/media/image7.jpeg" ContentType="image/jpeg"/>
  <Override PartName="/ppt/media/image6.jpeg" ContentType="image/jpeg"/>
  <Override PartName="/ppt/media/Love%20Is%20A%20Many%20Splendored%20Thing%20-%204%20Aces%20ccx.wav" ContentType="audio/x-wav"/>
  <Override PartName="/ppt/media/image17.jpeg" ContentType="image/jpeg"/>
  <Override PartName="/ppt/media/image16.jpeg" ContentType="image/jpeg"/>
  <Override PartName="/ppt/media/Lara's%20theme%20-%20P%20Faith%20ccx3.wav" ContentType="audio/x-wav"/>
  <Override PartName="/ppt/media/Pillow%20Talk%20-%20Doris%20Day%20ccpps.wav" ContentType="audio/x-wav"/>
  <Override PartName="/ppt/media/Night%20and%20Day%20-%20F%20Sinatra%20ccpps.wav" ContentType="audio/x-wav"/>
  <Override PartName="/ppt/media/image15.jpeg" ContentType="image/jpeg"/>
  <Override PartName="/ppt/media/Shane's%20Theme%20ccpps.wav" ContentType="audio/x-wav"/>
  <Override PartName="/ppt/media/image3.jpeg" ContentType="image/jpeg"/>
  <Override PartName="/ppt/media/image2.jpeg" ContentType="image/jpeg"/>
  <Override PartName="/ppt/media/James%20Bond%20%20007%20Theme%20ccx.wav" ContentType="audio/x-wav"/>
  <Override PartName="/ppt/media/Tara's%20Theme%20-%20Percy%20Faith%20ccx1.wav" ContentType="audio/x-wav"/>
  <Override PartName="/ppt/media/image9.jpeg" ContentType="image/jpeg"/>
  <Override PartName="/ppt/media/image11.jpeg" ContentType="image/jpeg"/>
  <Override PartName="/ppt/media/image1.gif" ContentType="image/gif"/>
  <Override PartName="/ppt/media/Al%20Di%20La%20%20-%20%20Emilio%20Pericoli%20x.wav" ContentType="audio/x-wav"/>
  <Override PartName="/ppt/media/Que%20Sera%20Sera%20-%20Doris%20Day%20ccpps1.wav" ContentType="audio/x-wav"/>
  <Override PartName="/ppt/media/Tender%20Is%20The%20Night%20-%20Tony%20Bennett%20ccpps.wav" ContentType="audio/x-wav"/>
  <Override PartName="/ppt/media/Moon%20River%20-%20Andy%20Williams%20ccx.wav" ContentType="audio/x-wav"/>
  <Override PartName="/ppt/media/The%20pink%20panther%20-%20H%20Mancini%20ccpp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792C-8C56-416C-9BC8-AB299ABFA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272B-A004-4EFC-B5B8-EAC2EC6F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75D1-8D3E-44AF-8618-BB6CA3B19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B10F-2E14-430A-AF9C-ADEDB3D93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5C5C-002B-4E3A-AE06-52949602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13FE-1627-404E-8B11-51DF696D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7A3E-B46F-4A4D-ADAF-5C9985A0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A286-233A-459F-A421-15AC5308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5CB7-8B3A-40F1-84D7-8E92F6B0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8A5F-071F-468D-AB5E-14DD0002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D61C-FF6B-4080-A3C5-BEBADA71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2855-9AC2-490E-B830-3867C949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879B-F3E6-478E-BEF5-E982A904B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Tara&apos;s%20Theme%20-%20Percy%20Faith%20ccx1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Pillow%20Talk%20-%20Doris%20Day%20ccpp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Tender%20Is%20The%20Night%20-%20Tony%20Bennett%20ccpp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Moon%20River%20-%20Andy%20Williams%20ccx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James%20Bond%20%20007%20Theme%20ccx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audio" Target="../media/Al%20Di%20La%20%20-%20%20Emilio%20Pericoli%20x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The%20pink%20panther%20-%20H%20Mancini%20ccpp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Lara&apos;s%20theme%20-%20P%20Faith%20ccx3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s%20Time%20Goes%20By%20-%20Louis%20Armstrong%20ccpp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Night%20and%20Day%20-%20F%20Sinatra%20ccpp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Singing%20in%20the%20Rain%20-%20Gene%20Kelly%20ccx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Shane&apos;s%20Theme%20ccpp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Moon%20Glow%20-%20The%20Mills%20Brothers%20ccpp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Love%20Is%20A%20Many%20Splendored%20Thing%20-%204%20Aces%20ccx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Que%20Sera%20Sera%20-%20Doris%20Day%20ccpps1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n%20Affair%20To%20Remember%20-%20Nat%20K%20Cole%20ccx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ff00"/>
                </a:solidFill>
                <a:latin typeface="Bookman Old Style"/>
              </a:rPr>
              <a:t>Cartazes de Filmes Antig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2297160"/>
            <a:ext cx="835200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ff"/>
                </a:solidFill>
                <a:latin typeface="Bookman Old Style"/>
              </a:rPr>
              <a:t>   </a:t>
            </a:r>
            <a:r>
              <a:rPr b="0" lang="pt-BR" sz="2400" spc="-1" strike="noStrike">
                <a:solidFill>
                  <a:srgbClr val="00ffff"/>
                </a:solidFill>
                <a:latin typeface="Bookman Old Style"/>
              </a:rPr>
              <a:t>Esta apresentação particular é dedicada aos amigos da melhor idade, destinatários do e-mail a que é anexa, que, como eu, curtiram sua adolescência e juventude nas décadas de 1950 e 1960 e tiveram a oportunidade de assistir, à época de seu lançamento, aos filmes  desse período cujos cartazes são exibi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39320" y="6091200"/>
            <a:ext cx="442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Verdana"/>
              </a:rPr>
              <a:t>MUSICA - Tara’s Theme   – Percy Fa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152280" y="4854600"/>
            <a:ext cx="9440640" cy="866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Verdana"/>
              </a:rPr>
              <a:t>LOS TEMAS MUSICALES DURAN EL TIEMPO  DE EXHIBIC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Verdana"/>
              </a:rPr>
              <a:t>DE LAS LAMINAS EN QUE ESTAN INSERTADAS, ES DECIR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Verdana"/>
              </a:rPr>
              <a:t>HASTA HACER UN NUEVO 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57200"/>
            <a:ext cx="80773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Bookman Old Style"/>
              </a:rPr>
              <a:t>AFICHES Y CANCIONES DE PELICULAS DE NUESTRA EPO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96080" y="6019920"/>
            <a:ext cx="638280" cy="58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72200" y="3733920"/>
            <a:ext cx="151272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Bookman Old Style"/>
              </a:rPr>
              <a:t>19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38680" y="160020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Bookman Old Style"/>
              </a:rPr>
              <a:t>Confidencias de medianoch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8080" y="331920"/>
            <a:ext cx="4006800" cy="6192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429160" y="5486400"/>
            <a:ext cx="29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Verdana"/>
              </a:rPr>
              <a:t>- Pillow Talk   – Doris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696080" cy="61689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002440" y="5257800"/>
            <a:ext cx="12938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Bookman Old Style"/>
              </a:rPr>
              <a:t>19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43800" y="685800"/>
            <a:ext cx="1600200" cy="11912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Bookman Old Style"/>
              </a:rPr>
              <a:t>Tierna           es la Noch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30840" y="6486480"/>
            <a:ext cx="43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Verdana"/>
              </a:rPr>
              <a:t>- Tender  is the Night – Tony Benne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5520" y="3429000"/>
            <a:ext cx="15130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Bookman Old Style"/>
              </a:rPr>
              <a:t>19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38080" y="331920"/>
            <a:ext cx="4097520" cy="6192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867280" y="1143000"/>
            <a:ext cx="18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Bookman Old Style"/>
              </a:rPr>
              <a:t>Desayuno en Tiffany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78680" y="5176800"/>
            <a:ext cx="346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Verdana"/>
              </a:rPr>
              <a:t>- Moon River – Andy Willi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72200" y="3657600"/>
            <a:ext cx="1512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Bookman Old Style"/>
              </a:rPr>
              <a:t>19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85800" y="331920"/>
            <a:ext cx="4189320" cy="6192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116760" y="1219320"/>
            <a:ext cx="165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Bookman Old Style"/>
              </a:rPr>
              <a:t>007 contra el Dr.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39680" y="5405400"/>
            <a:ext cx="26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Verdana"/>
              </a:rPr>
              <a:t>- James Bond’s Them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229600" cy="6220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30280" y="1773360"/>
            <a:ext cx="1809720" cy="3168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238880" y="685800"/>
            <a:ext cx="1905120" cy="825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Bookman Old Style"/>
              </a:rPr>
              <a:t>Aventura en Roma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848720" y="4281480"/>
            <a:ext cx="1295280" cy="519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Bookman Old Style"/>
              </a:rPr>
              <a:t>19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04840" y="6477120"/>
            <a:ext cx="301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Verdana"/>
              </a:rPr>
              <a:t>- Al Di Là – Emilio Peric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19560" y="3429000"/>
            <a:ext cx="15094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Bookman Old Style"/>
              </a:rPr>
              <a:t>19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80880" y="331920"/>
            <a:ext cx="4083120" cy="6192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562720" y="838080"/>
            <a:ext cx="23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Bookman Old Style"/>
              </a:rPr>
              <a:t>La              Pantera   Rosa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91160" y="5638680"/>
            <a:ext cx="41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Verdana"/>
              </a:rPr>
              <a:t>- The Pink Panther - Henry Manc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43600" y="3429000"/>
            <a:ext cx="15098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Bookman Old Style"/>
              </a:rPr>
              <a:t>19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33440" y="331920"/>
            <a:ext cx="4138560" cy="6192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019920" y="1295280"/>
            <a:ext cx="151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Bookman Old Style"/>
              </a:rPr>
              <a:t>Dr. Zhiv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76920" y="54100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Verdana"/>
              </a:rPr>
              <a:t>- Lara’s Theme – Percy Fa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331920"/>
            <a:ext cx="5786280" cy="5992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35640" y="5157720"/>
            <a:ext cx="14396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Bookman Old Style"/>
              </a:rPr>
              <a:t>19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77080" y="1243080"/>
            <a:ext cx="20160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Bookman Old Style"/>
              </a:rPr>
              <a:t>Casablan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0800" y="6396120"/>
            <a:ext cx="442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Verdana"/>
              </a:rPr>
              <a:t>- As Time Goes By   – Louis Armstr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7345440" cy="62215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835400" y="4648320"/>
            <a:ext cx="107964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Bookman Old Style"/>
              </a:rPr>
              <a:t>19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55000" y="2925720"/>
            <a:ext cx="1989000" cy="1015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Bookman Old Style"/>
              </a:rPr>
              <a:t>Can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Bookman Old Style"/>
              </a:rPr>
              <a:t>inolvid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76680" y="639612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Verdana"/>
              </a:rPr>
              <a:t>- Night and Day   – Frank Sina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5520" y="3962520"/>
            <a:ext cx="14511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Bookman Old Style"/>
              </a:rPr>
              <a:t>19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65200" y="331920"/>
            <a:ext cx="4006800" cy="6192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891040" y="1327320"/>
            <a:ext cx="17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Bookman Old Style"/>
              </a:rPr>
              <a:t>Cantando en la lluvia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60360" y="5562720"/>
            <a:ext cx="384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Verdana"/>
              </a:rPr>
              <a:t>-Singing in the Rain – Gene Ke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920000" cy="6159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924320" y="5257440"/>
            <a:ext cx="1219320" cy="592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Bookman Old Style"/>
              </a:rPr>
              <a:t>19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96360" y="1447920"/>
            <a:ext cx="1547640" cy="1557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Bookman Old Style"/>
              </a:rPr>
              <a:t>Los   tontos tambien  a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83560" y="6400800"/>
            <a:ext cx="207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Verdana"/>
              </a:rPr>
              <a:t>- Shane’s  T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80880" y="325440"/>
            <a:ext cx="7920000" cy="59230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922880" y="5157720"/>
            <a:ext cx="1297080" cy="447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Bookman Old Style"/>
              </a:rPr>
              <a:t>19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948800" y="2276640"/>
            <a:ext cx="107244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Pic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47720" y="6338880"/>
            <a:ext cx="39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Verdana"/>
              </a:rPr>
              <a:t>- Moon Glow – The Mills Br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05720" y="4495680"/>
            <a:ext cx="151272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Bookman Old Style"/>
              </a:rPr>
              <a:t>19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141300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Bookman Old Style"/>
              </a:rPr>
              <a:t>Suplício de un Recue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619280" y="-228600"/>
            <a:ext cx="4433760" cy="6192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183680" y="6167520"/>
            <a:ext cx="544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Verdana"/>
              </a:rPr>
              <a:t>- Love is a May Splendored Thing   – The 4 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45480" y="4343040"/>
            <a:ext cx="151272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Bookman Old Style"/>
              </a:rPr>
              <a:t>19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10480" y="1413000"/>
            <a:ext cx="180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Bookman Old Style"/>
              </a:rPr>
              <a:t>El hombre que sabia mucho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908000" y="189000"/>
            <a:ext cx="4361040" cy="5983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327400" y="6262560"/>
            <a:ext cx="33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Verdana"/>
              </a:rPr>
              <a:t>- Que Sera, Sera – Doris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7777080" cy="62215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001000" y="5714640"/>
            <a:ext cx="129528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Bookman Old Style"/>
              </a:rPr>
              <a:t>19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15200" y="3886200"/>
            <a:ext cx="182880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Bookman Old Style"/>
              </a:rPr>
              <a:t>Algo                                   para                          recordar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92000" y="6486480"/>
            <a:ext cx="473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Verdana"/>
              </a:rPr>
              <a:t>- An Affair to Remember – Nat King C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blo Miñan</cp:lastModifiedBy>
  <dcterms:modified xsi:type="dcterms:W3CDTF">2008-06-12T06:20:3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