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2.jpeg" ContentType="image/jpeg"/>
  <Override PartName="/ppt/media/image13.jpeg" ContentType="image/jpeg"/>
  <Override PartName="/ppt/media/An%20Affair%20To%20Remember%20-%20Nat%20K%20Cole%20ccx.wav" ContentType="audio/x-wav"/>
  <Override PartName="/ppt/media/image8.jpeg" ContentType="image/jpeg"/>
  <Override PartName="/ppt/media/Moon%20Glow%20-%20The%20Mills%20Brothers%20ccpps.wav" ContentType="audio/x-wav"/>
  <Override PartName="/ppt/media/image10.jpeg" ContentType="image/jpeg"/>
  <Override PartName="/ppt/media/As%20Time%20Goes%20By%20-%20Louis%20Armstrong%20ccpps.wav" ContentType="audio/x-wav"/>
  <Override PartName="/ppt/media/image4.jpeg" ContentType="image/jpeg"/>
  <Override PartName="/ppt/media/Singing%20in%20the%20Rain%20-%20Gene%20Kelly%20ccx.wav" ContentType="audio/x-wav"/>
  <Override PartName="/ppt/media/image5.jpeg" ContentType="image/jpeg"/>
  <Override PartName="/ppt/media/image7.jpeg" ContentType="image/jpeg"/>
  <Override PartName="/ppt/media/image6.jpeg" ContentType="image/jpeg"/>
  <Override PartName="/ppt/media/Love%20Is%20A%20Many%20Splendored%20Thing%20-%204%20Aces%20ccx.wav" ContentType="audio/x-wav"/>
  <Override PartName="/ppt/media/image17.jpeg" ContentType="image/jpeg"/>
  <Override PartName="/ppt/media/image16.jpeg" ContentType="image/jpeg"/>
  <Override PartName="/ppt/media/Lara's%20theme%20-%20P%20Faith%20ccx3.wav" ContentType="audio/x-wav"/>
  <Override PartName="/ppt/media/Pillow%20Talk%20-%20Doris%20Day%20ccpps.wav" ContentType="audio/x-wav"/>
  <Override PartName="/ppt/media/Night%20and%20Day%20-%20F%20Sinatra%20ccpps.wav" ContentType="audio/x-wav"/>
  <Override PartName="/ppt/media/image15.jpeg" ContentType="image/jpeg"/>
  <Override PartName="/ppt/media/Shane's%20Theme%20ccpps.wav" ContentType="audio/x-wav"/>
  <Override PartName="/ppt/media/image3.jpeg" ContentType="image/jpeg"/>
  <Override PartName="/ppt/media/image2.jpeg" ContentType="image/jpeg"/>
  <Override PartName="/ppt/media/James%20Bond%20%20007%20Theme%20ccx.wav" ContentType="audio/x-wav"/>
  <Override PartName="/ppt/media/Tara's%20Theme%20-%20Percy%20Faith%20ccx1.wav" ContentType="audio/x-wav"/>
  <Override PartName="/ppt/media/image9.jpeg" ContentType="image/jpeg"/>
  <Override PartName="/ppt/media/image11.jpeg" ContentType="image/jpeg"/>
  <Override PartName="/ppt/media/image1.gif" ContentType="image/gif"/>
  <Override PartName="/ppt/media/Al%20Di%20La%20%20-%20%20Emilio%20Pericoli%20x.wav" ContentType="audio/x-wav"/>
  <Override PartName="/ppt/media/Que%20Sera%20Sera%20-%20Doris%20Day%20ccpps1.wav" ContentType="audio/x-wav"/>
  <Override PartName="/ppt/media/Tender%20Is%20The%20Night%20-%20Tony%20Bennett%20ccpps.wav" ContentType="audio/x-wav"/>
  <Override PartName="/ppt/media/Moon%20River%20-%20Andy%20Williams%20ccx.wav" ContentType="audio/x-wav"/>
  <Override PartName="/ppt/media/The%20pink%20panther%20-%20H%20Mancini%20ccpp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318-DFEC-4B3B-B597-737E8C19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78A-9442-4D8F-94BD-E9EE7A01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058-A135-42FA-BA42-6799B685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1D8-1357-4003-B5C0-AE0935E6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A67-E3B2-425A-B350-DE6779A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94B-4A94-4D6D-8E74-8DA94D9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CCE-653C-48A5-9ECF-A92BB6C7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28B-0C45-4BAD-A830-D51395A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FC4-AF74-44B1-B7D2-C8F984B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648-BB8D-438B-AEC6-39A70C2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C5A-75EC-4889-83A7-2A16C95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919-D456-46BD-AC3C-435F1CCA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16E-E77C-43AC-8ECD-ADAFD29C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ara&apos;s%20Theme%20-%20Percy%20Faith%20ccx1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illow%20Talk%20-%20Doris%20Day%20ccpp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ender%20Is%20The%20Night%20-%20Tony%20Bennett%20ccpp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Moon%20River%20-%20Andy%20Williams%20ccx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James%20Bond%20%20007%20Theme%20ccx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Al%20Di%20La%20%20-%20%20Emilio%20Pericoli%20x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The%20pink%20panther%20-%20H%20Mancini%20ccpp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Lara&apos;s%20theme%20-%20P%20Faith%20ccx3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s%20Time%20Goes%20By%20-%20Louis%20Armstrong%20ccpp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Night%20and%20Day%20-%20F%20Sinatra%20ccpp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inging%20in%20the%20Rain%20-%20Gene%20Kelly%20ccx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Shane&apos;s%20Theme%20ccpp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Moon%20Glow%20-%20The%20Mills%20Brothers%20ccpp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ove%20Is%20A%20Many%20Splendored%20Thing%20-%204%20Aces%20ccx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Que%20Sera%20Sera%20-%20Doris%20Day%20ccpps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n%20Affair%20To%20Remember%20-%20Nat%20K%20Cole%20cc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ff00"/>
                </a:solidFill>
                <a:latin typeface="Bookman Old Style"/>
              </a:rPr>
              <a:t>Cartazes de Filmes Ant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297160"/>
            <a:ext cx="83520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Bookman Old Style"/>
              </a:rPr>
              <a:t>   </a:t>
            </a:r>
            <a:r>
              <a:rPr b="0" lang="pt-BR" sz="2400" spc="-1" strike="noStrike">
                <a:solidFill>
                  <a:srgbClr val="00ffff"/>
                </a:solidFill>
                <a:latin typeface="Bookman Old Style"/>
              </a:rPr>
              <a:t>Esta apresentação particular é dedicada aos amigos da melhor idade, destinatários do e-mail a que é anexa, que, como eu, curtiram sua adolescência e juventude nas décadas de 1950 e 1960 e tiveram a oportunidade de assistir, à época de seu lançamento, aos filmes  desse período cujos cartazes são exib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9320" y="6091200"/>
            <a:ext cx="44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MUSICA - Tara’s Theme   – 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2280" y="4854600"/>
            <a:ext cx="9440640" cy="86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LOS TEMAS MUSICALES DURAN EL TIEMPO  DE EXHIBI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DE LAS LAMINAS EN QUE ESTAN INSERTADAS, ES DECIR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Verdana"/>
              </a:rPr>
              <a:t>HASTA HACER UN NUEVO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"/>
            <a:ext cx="8077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Bookman Old Style"/>
              </a:rPr>
              <a:t>AFICHES Y CANCIONES DE PELICULAS DE NUESTRA EPO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638280" cy="58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72200" y="3733920"/>
            <a:ext cx="151272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16002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onfidencias de medianoch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4006800" cy="619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29160" y="54864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Pillow Talk   – 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96080" cy="6168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02440" y="5257800"/>
            <a:ext cx="12938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3800" y="685800"/>
            <a:ext cx="160020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Tierna           es la Noch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0840" y="648648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Tender  is the Night – Tony Benn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5520" y="3429000"/>
            <a:ext cx="151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4097520" cy="61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867280" y="1143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Desayuno en Tiffany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78680" y="51768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Moon River – Andy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2200" y="3657600"/>
            <a:ext cx="151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331920"/>
            <a:ext cx="4189320" cy="61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6760" y="12193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007 contra el Dr.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39680" y="540540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James Bond’s The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229600" cy="622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0280" y="1773360"/>
            <a:ext cx="180972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38880" y="685800"/>
            <a:ext cx="19051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Aventura en Rom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48720" y="4281480"/>
            <a:ext cx="1295280" cy="51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Bookman Old Style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04840" y="647712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l Di Là – Emilio Peri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560" y="3429000"/>
            <a:ext cx="1509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083120" cy="619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2720" y="83808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La              Pantera   Ros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1160" y="56386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The Pink Panther - Henry Manc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43600" y="3429000"/>
            <a:ext cx="1509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3440" y="331920"/>
            <a:ext cx="4138560" cy="619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9920" y="129528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Dr. Zhiv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Lara’s Theme – Percy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31920"/>
            <a:ext cx="5786280" cy="5992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5640" y="5157720"/>
            <a:ext cx="14396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12430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sabla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0800" y="639612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s Time Goes By   – Louis Arm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345440" cy="622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35400" y="4648320"/>
            <a:ext cx="10796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55000" y="2925720"/>
            <a:ext cx="1989000" cy="101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inolvi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76680" y="63961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Night and Day   – Frank Sina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5520" y="3962520"/>
            <a:ext cx="1451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5200" y="331920"/>
            <a:ext cx="4006800" cy="61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91040" y="132732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Cantando en la lluv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60360" y="556272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Singing in the Rain – Gene K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920000" cy="615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4320" y="5257440"/>
            <a:ext cx="1219320" cy="592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1447920"/>
            <a:ext cx="1547640" cy="1557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Los   tontos tambien 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3560" y="64008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Shane’s 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25440"/>
            <a:ext cx="7920000" cy="5923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2880" y="5157720"/>
            <a:ext cx="1297080" cy="447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48800" y="2276640"/>
            <a:ext cx="1072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7720" y="633888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Moon Glow – The Mills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05720" y="4495680"/>
            <a:ext cx="15127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14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Suplício de un Re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19280" y="-228600"/>
            <a:ext cx="4433760" cy="619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3680" y="6167520"/>
            <a:ext cx="54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Love is a May Splendored Thing   – The 4 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45480" y="4343040"/>
            <a:ext cx="1512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10480" y="1413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El hombre que sabia much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4361040" cy="5983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27400" y="626256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Que Sera, Sera – Dori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777080" cy="622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01000" y="5714640"/>
            <a:ext cx="12952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1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3886200"/>
            <a:ext cx="1828800" cy="192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Bookman Old Style"/>
              </a:rPr>
              <a:t>Algo                                   para                          recorda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000" y="648648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- An Affair to Remember – Nat King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blo Miñan</cp:lastModifiedBy>
  <dcterms:modified xsi:type="dcterms:W3CDTF">2008-06-12T06:2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