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14.jpeg" ContentType="image/jpeg"/>
  <Override PartName="/ppt/media/Panfluit%20295.wav.wav" ContentType="audio/x-wav"/>
  <Override PartName="/ppt/media/image4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5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E36-1EEC-4663-B52A-787A410A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330-04E8-4C18-9FD2-9D3643B0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D36-A987-4494-AFB7-04CBAD11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FE4-6A92-4430-886D-27191A83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077-2619-4F1E-B436-9D8CC47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860-9C72-4CC1-B37B-599B60D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292-9692-4749-83DF-5B9DBF3A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636-4148-4981-B58B-BA8EE803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5C1-8399-47FF-87B7-982BF0F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7EE-CA15-483E-A6EA-478C5FC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DB4-8DE7-4C3F-B5A9-187C885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C20-71DD-4AAB-9B52-FDBC83E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021-7E6A-4578-A9C2-873300075EE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Panfluit%20295.wav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-36360" y="4303800"/>
            <a:ext cx="6900840" cy="11160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4786200" y="89535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usic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Panfluit%20295.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TALLAS TÁCTILES ADHERI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89000" y="0"/>
            <a:ext cx="637524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65000" y="992160"/>
            <a:ext cx="5197680" cy="8913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S FANTÁSTICOS  COMPUTADORES DE  SAMSU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6280" y="1568520"/>
            <a:ext cx="5870520" cy="812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LULAR/COMPUTADOR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 PANTALLA EXPANDIB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2280" y="1496880"/>
            <a:ext cx="5229000" cy="840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3000" y="27252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A TV DVD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33360" y="1424160"/>
            <a:ext cx="6162840" cy="7834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Y SUS CONTROLES REM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33360" y="776160"/>
            <a:ext cx="6264360" cy="472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33360" y="5597640"/>
            <a:ext cx="6237360" cy="430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A  PANTALLA DE TELÉFONO DACTILAR EN FORMA DE BRÚJUL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92280" y="1136520"/>
            <a:ext cx="544500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49360" y="5313240"/>
            <a:ext cx="5734080" cy="4203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3000" y="272880"/>
            <a:ext cx="63356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NUEVO DISEÑO DE MOUSE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125360" y="992160"/>
            <a:ext cx="4561200" cy="8913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ANTALLAS PLEGABLES DE S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LAMPARA COMPUTADOR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49360" y="0"/>
            <a:ext cx="584028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2720880"/>
            <a:ext cx="6858000" cy="4434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BELLO DISEÑO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DE GRIF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8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0" y="48816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432160"/>
            <a:ext cx="6858000" cy="5222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A NUEVA BAÑER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5000" y="920880"/>
            <a:ext cx="5349960" cy="8985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SANITARIO ESCONDID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49360" y="776160"/>
            <a:ext cx="5756040" cy="9129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6858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STIDOS QUE GUARDAN LA ENERFGIA DURANTE EL DIA Y ALUMBRAN EN LA NO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1136520"/>
            <a:ext cx="6796080" cy="8769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ECONTROL REMOTO MULTIPPROPO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2360520"/>
            <a:ext cx="6858000" cy="4978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LA COCINA DEL FUT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04640" y="0"/>
            <a:ext cx="601668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90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0" y="5662440"/>
            <a:ext cx="6858000" cy="4243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DUCHA LUMINOS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33360" y="1208160"/>
            <a:ext cx="6021360" cy="869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EVO DISEÑO DE EDIFICIOS EN KORE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1712880"/>
            <a:ext cx="6845400" cy="7257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8888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NUEBLES INTELI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03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07920" y="5024520"/>
            <a:ext cx="4454640" cy="4881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00160"/>
            <a:ext cx="6858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UENTECON UN SOLO SOPORTE,</a:t>
            </a:r>
            <a:br>
              <a:rPr sz="2400"/>
            </a:b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EN MALAS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3832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08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PEL ELECTRÓNICO PARA FÁCIL CORRECCIÓN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2144880"/>
            <a:ext cx="6858000" cy="689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6720"/>
            <a:ext cx="61722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PUERTAS LUMINOSA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97000" y="0"/>
            <a:ext cx="479916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496880"/>
            <a:ext cx="6858000" cy="8409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44160"/>
            <a:ext cx="68580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A BICICLETA PARA TODA LA FAMIL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332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84888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MESA PARA LA PISCIN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33360" y="0"/>
            <a:ext cx="613872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6858000" cy="537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33360" y="1065240"/>
            <a:ext cx="6172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OFICINA PLEGABL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6640" y="1136520"/>
            <a:ext cx="5213160" cy="876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6858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MPUTADOR CON TRES  PANTALLA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20640" y="0"/>
            <a:ext cx="567684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52640" y="1424160"/>
            <a:ext cx="4827600" cy="8481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685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EVA CÁMARA DE SAMSUNG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04640" y="1281240"/>
            <a:ext cx="6064560" cy="8264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 REPRODUCTOR MP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3368520"/>
            <a:ext cx="6858000" cy="4865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COCINA MÓVIL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1136520"/>
            <a:ext cx="6858000" cy="430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0" y="5584680"/>
            <a:ext cx="6858000" cy="4321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EVA PANTALLA TACTIL SEGUR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464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 DISEÑO DE  PEC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04640" y="0"/>
            <a:ext cx="617076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4680" y="1568520"/>
            <a:ext cx="6862680" cy="725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S TV PLEGA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 CuadroTexto"/>
          <p:cNvSpPr/>
          <p:nvPr/>
        </p:nvSpPr>
        <p:spPr>
          <a:xfrm rot="481800">
            <a:off x="403200" y="70941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rush Script MT"/>
              </a:rPr>
              <a:t>C.M.Pérez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rush Script MT"/>
              </a:rPr>
              <a:t>9/4/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89000" y="1136520"/>
            <a:ext cx="6406920" cy="819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858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 CURVA, DE APP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92280" y="1352520"/>
            <a:ext cx="5467320" cy="855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COMPUTADOR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DE ESCRITORI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89000" y="1281240"/>
            <a:ext cx="6392880" cy="797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ELULAR CON FORMA DE ENCENDEDOR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52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0" y="5551560"/>
            <a:ext cx="68580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2097000"/>
            <a:ext cx="6856560" cy="783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LÍGRAFO DE NOKIA CON 1.3MB DE MEMORIA PARA GRABAR LO QUE USTED ESC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59:19Z</dcterms:created>
  <dc:creator/>
  <dc:description/>
  <dc:language>en-US</dc:language>
  <cp:lastModifiedBy/>
  <dcterms:modified xsi:type="dcterms:W3CDTF">2010-09-17T15:22:40Z</dcterms:modified>
  <cp:revision>16</cp:revision>
  <dc:subject/>
  <dc:title>The latest Technology (Cmp)</dc:title>
</cp:coreProperties>
</file>