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14.jpeg" ContentType="image/jpeg"/>
  <Override PartName="/ppt/media/Panfluit%20295.wav.wav" ContentType="audio/x-wav"/>
  <Override PartName="/ppt/media/image4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5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ABC-27D5-449E-B01B-6A1E6B10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613-C76D-41C6-97D0-37E25B69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B19-7433-440E-9098-F2FC2918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298-71F5-47AD-B525-DCBBF615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923-EDD1-4D91-8666-B0DAF6E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894-CF42-4EB2-B66E-3EB62C15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EEA-42CE-4839-A3B1-B8964743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39F-4030-47B6-AE57-C7D80667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572-9C15-46CB-81E3-CCBA578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56A-2E47-44AA-804F-FFAE156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377-4D33-4724-A1A9-3845F22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BAA-84FE-4AF9-9EFA-6C8DECF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82AD-B2D6-4298-B78A-1D846ED01CC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Panfluit%20295.wav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-36360" y="4303800"/>
            <a:ext cx="6900840" cy="1116000"/>
          </a:xfrm>
          <a:prstGeom prst="rect">
            <a:avLst/>
          </a:prstGeom>
          <a:ln w="0">
            <a:noFill/>
          </a:ln>
        </p:spPr>
      </p:pic>
      <p:sp>
        <p:nvSpPr>
          <p:cNvPr id="43" name="5 CuadroTexto"/>
          <p:cNvSpPr/>
          <p:nvPr/>
        </p:nvSpPr>
        <p:spPr>
          <a:xfrm>
            <a:off x="4786200" y="89535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usic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Panfluit%20295.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30812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NTALLAS TÁCTILES ADHERIBL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89000" y="0"/>
            <a:ext cx="637524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65000" y="992160"/>
            <a:ext cx="5197680" cy="8913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S FANTÁSTICOS  COMPUTADORES DE  SAMSU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6280" y="1568520"/>
            <a:ext cx="5870520" cy="8121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LULAR/COMPUTADOR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 PANTALLA EXPANDIBL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2280" y="1496880"/>
            <a:ext cx="5229000" cy="840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3000" y="27252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UNA TV DVD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33360" y="1424160"/>
            <a:ext cx="6162840" cy="7834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...Y SUS CONTROLES REM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33360" y="776160"/>
            <a:ext cx="6264360" cy="472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333360" y="5597640"/>
            <a:ext cx="6237360" cy="4308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A  PANTALLA DE TELÉFONO DACTILAR EN FORMA DE BRÚJUL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92280" y="1136520"/>
            <a:ext cx="5445000" cy="378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549360" y="5313240"/>
            <a:ext cx="5734080" cy="4203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3000" y="272880"/>
            <a:ext cx="63356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NUEVO DISEÑO DE MOUSE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125360" y="992160"/>
            <a:ext cx="4561200" cy="8913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3000" y="200160"/>
            <a:ext cx="61722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ANTALLAS PLEGABLES DE S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LAMPARA COMPUTADOR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49360" y="0"/>
            <a:ext cx="584028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2720880"/>
            <a:ext cx="6858000" cy="4434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15800"/>
            <a:ext cx="68580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BELLO DISEÑO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DE GRIF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88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0" y="4881600"/>
            <a:ext cx="685800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432160"/>
            <a:ext cx="6858000" cy="5222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UNA NUEVA BAÑERA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5000" y="920880"/>
            <a:ext cx="5349960" cy="8985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3000" y="128160"/>
            <a:ext cx="61722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SANITARIO ESCONDIDO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49360" y="776160"/>
            <a:ext cx="5756040" cy="9129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6858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STIDOS QUE GUARDAN LA ENERFGIA DURANTE EL DIA Y ALUMBRAN EN LA NO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1136520"/>
            <a:ext cx="6796080" cy="8769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28520"/>
            <a:ext cx="68580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ECONTROL REMOTO MULTIPPROPO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2360520"/>
            <a:ext cx="6858000" cy="4978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LA COCINA DEL FUT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04640" y="0"/>
            <a:ext cx="601668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920880"/>
            <a:ext cx="6858000" cy="490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0" y="5662440"/>
            <a:ext cx="6858000" cy="4243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DUCHA LUMINOS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33360" y="1208160"/>
            <a:ext cx="6021360" cy="869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6858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EVO DISEÑO DE EDIFICIOS EN KORE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1712880"/>
            <a:ext cx="6845400" cy="7257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88880"/>
            <a:ext cx="68580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NUEBLES INTELI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920880"/>
            <a:ext cx="6858000" cy="403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07920" y="5024520"/>
            <a:ext cx="4454640" cy="4881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00160"/>
            <a:ext cx="6858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UENTECON UN SOLO SOPORTE,</a:t>
            </a:r>
            <a:br>
              <a:rPr sz="2400"/>
            </a:b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EN MALASI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3081240"/>
            <a:ext cx="6858000" cy="3832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080" y="396360"/>
            <a:ext cx="68580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PEL ELECTRÓNICO PARA FÁCIL CORRECCIÓN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2144880"/>
            <a:ext cx="6858000" cy="6897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6720"/>
            <a:ext cx="61722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PUERTAS LUMINOSA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97000" y="0"/>
            <a:ext cx="479916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496880"/>
            <a:ext cx="6858000" cy="8409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44160"/>
            <a:ext cx="68580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NA BICICLETA PARA TODA LA FAMILI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332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848880"/>
            <a:ext cx="61722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MESA PARA LA PISCIN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33360" y="0"/>
            <a:ext cx="613872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2865600"/>
            <a:ext cx="6858000" cy="5373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33360" y="1065240"/>
            <a:ext cx="6172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OFICINA PLEGABL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36640" y="1136520"/>
            <a:ext cx="5213160" cy="876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68580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MPUTADOR CON TRES  PANTALLA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20640" y="0"/>
            <a:ext cx="567684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52640" y="1424160"/>
            <a:ext cx="4827600" cy="8481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44520"/>
            <a:ext cx="685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EVA CÁMARA DE SAMSUNG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04640" y="1281240"/>
            <a:ext cx="6064560" cy="8264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000" y="128160"/>
            <a:ext cx="6172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NUEVO REPRODUCTOR MP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3368520"/>
            <a:ext cx="6858000" cy="4865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COCINA MÓVIL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1136520"/>
            <a:ext cx="6858000" cy="430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0" y="5584680"/>
            <a:ext cx="6858000" cy="4321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EVA PANTALLA TACTIL SEGURA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2289240"/>
            <a:ext cx="6858000" cy="6464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NUEVO DISEÑO DE  PEC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04640" y="0"/>
            <a:ext cx="6170760" cy="990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4680" y="1568520"/>
            <a:ext cx="6862680" cy="725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96360"/>
            <a:ext cx="685800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ANTALLAS TV PLEGABLES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7 CuadroTexto"/>
          <p:cNvSpPr/>
          <p:nvPr/>
        </p:nvSpPr>
        <p:spPr>
          <a:xfrm rot="481800">
            <a:off x="403200" y="70941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rush Script MT"/>
              </a:rPr>
              <a:t>C.M.Pérez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rush Script MT"/>
              </a:rPr>
              <a:t>9/4/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89000" y="1136520"/>
            <a:ext cx="6406920" cy="819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6858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PANTALLA CURVA, DE APPLE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92280" y="1352520"/>
            <a:ext cx="5467320" cy="855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000" y="199800"/>
            <a:ext cx="61722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COMPUTADOR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DE ESCRITORIO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89000" y="1281240"/>
            <a:ext cx="6392880" cy="7977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CELULAR CON FORMA DE ENCENDEDOR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52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0" y="5551560"/>
            <a:ext cx="6858000" cy="435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2097000"/>
            <a:ext cx="6856560" cy="783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15800"/>
            <a:ext cx="68580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LÍGRAFO DE NOKIA CON 1.3MB DE MEMORIA PARA GRABAR LO QUE USTED ESC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59:19Z</dcterms:created>
  <dc:creator/>
  <dc:description/>
  <dc:language>en-US</dc:language>
  <cp:lastModifiedBy/>
  <dcterms:modified xsi:type="dcterms:W3CDTF">2010-09-17T15:22:40Z</dcterms:modified>
  <cp:revision>16</cp:revision>
  <dc:subject/>
  <dc:title>The latest Technology (Cmp)</dc:title>
</cp:coreProperties>
</file>