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Los%20Pekenikes-Embustero%20y%20bailar%C3%ADn.wav" ContentType="audio/x-wav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B5B-3CE7-4DD0-AE15-25EEB155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627-0D99-410C-AC60-21ED00B7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22A-542D-481C-AE56-2A77A2B9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4D9-6ADC-4AEF-93B4-9D8EB1E8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042-BACE-4475-87AA-A0B58AF6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901-9C57-4B31-83BF-B3734F7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EA4-53B3-42B1-94DF-B5FCE2E3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1BC-3B15-4117-BCEF-A719DFD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59E-7F3D-48D9-A953-4E9C4C0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5E9-9A70-4F30-8381-BBF6B2E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D9F-6D38-41E3-9484-0E1C3D0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80C-4581-41D1-A7F5-48F5044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FFB-60ED-40B2-9D3A-66930698E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Los%20Pekenikes-Embustero%20y%20bailar&#237;n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236080" y="0"/>
            <a:ext cx="907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79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9640" y="549360"/>
            <a:ext cx="3384720" cy="575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56000" y="284148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 abuel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3675"/>
              <a:gd name="adj2" fmla="val 86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49228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125892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Él comenzó a acariciarme los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pecho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49189"/>
              <a:gd name="adj2" fmla="val 824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7640" y="249228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detuvo entonc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7520" y="134136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señor jue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 no lo detu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765000"/>
            <a:ext cx="3313080" cy="1440000"/>
          </a:xfrm>
          <a:prstGeom prst="wedgeEllipseCallout">
            <a:avLst>
              <a:gd name="adj1" fmla="val 50717"/>
              <a:gd name="adj2" fmla="val 78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479680"/>
            <a:ext cx="11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Por qué no lo detu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981000"/>
            <a:ext cx="273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ueno, mire usted, sus caricias me hicieron sentir viva y excitada. No me había sentido así en muchos años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836640"/>
            <a:ext cx="2880000" cy="1368360"/>
          </a:xfrm>
          <a:prstGeom prst="wedgeEllipseCallout">
            <a:avLst>
              <a:gd name="adj1" fmla="val 50328"/>
              <a:gd name="adj2" fmla="val 80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24764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1008000"/>
            <a:ext cx="259236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ueno yo me estaba sintiendo tan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excitada que simplemente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le dije: hazme tuya jovencito, tómame, hazme el amor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689"/>
              <a:gd name="adj2" fmla="val 80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240660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onces, ¿él la tomó?, ¿le hizo el am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1258920"/>
            <a:ext cx="201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No. Él solo gritó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"¡Feliz Día de 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Comic Sans MS"/>
              </a:rPr>
              <a:t>Inocentes!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56000" y="620640"/>
            <a:ext cx="3816360" cy="1584360"/>
          </a:xfrm>
          <a:prstGeom prst="wedgeEllipseCallout">
            <a:avLst>
              <a:gd name="adj1" fmla="val 48421"/>
              <a:gd name="adj2" fmla="val 74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76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¡Y fue allí </a:t>
            </a: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cuando le disparé al hijo de puta</a:t>
            </a: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384720" cy="575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00720" y="2133720"/>
            <a:ext cx="380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Una dulce y valiente abuelina, va a un ju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a declarar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1197000"/>
            <a:ext cx="50421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rante el juic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é edad ti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0439"/>
              <a:gd name="adj2" fmla="val 83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2000" y="134136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ngo 81 añ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ñor ju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19280" y="2205000"/>
            <a:ext cx="2305080" cy="1295280"/>
          </a:xfrm>
          <a:prstGeom prst="wedgeEllipseCallout">
            <a:avLst>
              <a:gd name="adj1" fmla="val -33814"/>
              <a:gd name="adj2" fmla="val 1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¿Podría decir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me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con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 sus propias palabras que fue lo que sucedi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60280"/>
            <a:ext cx="2808360" cy="1944720"/>
          </a:xfrm>
          <a:prstGeom prst="wedgeEllipseCallout">
            <a:avLst>
              <a:gd name="adj1" fmla="val 51356"/>
              <a:gd name="adj2" fmla="val 73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620640"/>
            <a:ext cx="237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o estaba, sentada en la mecedora en el porche de mi casa en una agradable noche de primavera, cuando un joven se acercó y se sentó junto a mí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101"/>
              <a:gd name="adj2" fmla="val 86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5080" y="1268280"/>
            <a:ext cx="192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pero el se mostró bastante amig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8840" y="261936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conocí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49851"/>
              <a:gd name="adj2" fmla="val 824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02000" y="1341360"/>
            <a:ext cx="192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mpezó a acariciar mis piern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2411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Que sucedió después de que él se sent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981000"/>
            <a:ext cx="2160720" cy="1224000"/>
          </a:xfrm>
          <a:prstGeom prst="wedgeEllipseCallout">
            <a:avLst>
              <a:gd name="adj1" fmla="val 51101"/>
              <a:gd name="adj2" fmla="val 857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49200" y="261936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Usted lo detu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14684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, yo no lo detuv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924280"/>
            <a:ext cx="2771640" cy="39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325600" cy="395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2205000"/>
            <a:ext cx="1944720" cy="1079640"/>
          </a:xfrm>
          <a:prstGeom prst="wedgeEllipseCallout">
            <a:avLst>
              <a:gd name="adj1" fmla="val -30814"/>
              <a:gd name="adj2" fmla="val 165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765000"/>
            <a:ext cx="2737080" cy="1440000"/>
          </a:xfrm>
          <a:prstGeom prst="wedgeEllipseCallout">
            <a:avLst>
              <a:gd name="adj1" fmla="val 49884"/>
              <a:gd name="adj2" fmla="val 794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2565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¿Por qué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11744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Me sentía muy bien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. N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adie me había hecho eso desde que mi esposo murió hace 30 añ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7:03:15Z</dcterms:created>
  <dc:creator>Adolfofo.</dc:creator>
  <dc:description/>
  <dc:language>en-US</dc:language>
  <cp:lastModifiedBy>Dina</cp:lastModifiedBy>
  <dcterms:modified xsi:type="dcterms:W3CDTF">2009-05-07T23:52:07Z</dcterms:modified>
  <cp:revision>31</cp:revision>
  <dc:subject>19-11-7/5-1-8</dc:subject>
  <dc:title>La abuelina</dc:title>
</cp:coreProperties>
</file>