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Los%20Pekenikes-Embustero%20y%20bailar%C3%ADn.wav" ContentType="audio/x-wav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4BD-8758-47AD-836C-2D5EF08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FCF-753D-4775-9235-B8BB365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131-C691-49A8-B1C0-C5FCE646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1A4-EC5F-48AE-8342-6EB7454D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B41-20C2-4D72-8AD1-C5889BB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077-1440-4B42-8020-801D840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18E-8734-4676-B592-87220472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188-1C87-4679-86E8-CC29B1B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39A-205C-473D-88C3-E39AF6E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67E-FD96-4F19-A1E8-6044506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FAA-E7FE-49D4-AE5A-100EA60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720-4F55-487C-A87E-FB07861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A40-38AA-46ED-ADD0-F76B5FD09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Los%20Pekenikes-Embustero%20y%20bailar&#237;n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36080" y="0"/>
            <a:ext cx="90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79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9640" y="549360"/>
            <a:ext cx="338472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284148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 abuel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3675"/>
              <a:gd name="adj2" fmla="val 86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4922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25892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Él comenzó a acariciarme los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pecho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49189"/>
              <a:gd name="adj2" fmla="val 824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49228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detuvo entonc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7520" y="134136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señor jue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 no lo detu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765000"/>
            <a:ext cx="3313080" cy="1440000"/>
          </a:xfrm>
          <a:prstGeom prst="wedgeEllipseCallout">
            <a:avLst>
              <a:gd name="adj1" fmla="val 50717"/>
              <a:gd name="adj2" fmla="val 78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479680"/>
            <a:ext cx="11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Por qué no lo detu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981000"/>
            <a:ext cx="273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ueno, mire usted, sus caricias me hicieron sentir viva y excitada. No me había sentido así en muchos años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836640"/>
            <a:ext cx="2880000" cy="1368360"/>
          </a:xfrm>
          <a:prstGeom prst="wedgeEllipseCallout">
            <a:avLst>
              <a:gd name="adj1" fmla="val 50328"/>
              <a:gd name="adj2" fmla="val 8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24764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1008000"/>
            <a:ext cx="259236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ueno yo me estaba sintiendo tan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excitada que simplemente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le dije: hazme tuya jovencito, tómame, hazme el amor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689"/>
              <a:gd name="adj2" fmla="val 80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40660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onces, ¿él la tomó?, ¿le hizo el am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258920"/>
            <a:ext cx="201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No. Él solo gritó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"¡Feliz Día de 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nocentes!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6000" y="620640"/>
            <a:ext cx="3816360" cy="1584360"/>
          </a:xfrm>
          <a:prstGeom prst="wedgeEllipseCallout">
            <a:avLst>
              <a:gd name="adj1" fmla="val 48421"/>
              <a:gd name="adj2" fmla="val 74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76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¡Y fue allí </a:t>
            </a: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cuando le disparé al hijo de puta</a:t>
            </a: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384720" cy="575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0720" y="2133720"/>
            <a:ext cx="380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Una dulce y valiente abuelina, va a un ju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a declarar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1197000"/>
            <a:ext cx="50421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rante el juic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é edad ti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0439"/>
              <a:gd name="adj2" fmla="val 83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2000" y="134136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ngo 81 añ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ñor ju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9280" y="2205000"/>
            <a:ext cx="2305080" cy="1295280"/>
          </a:xfrm>
          <a:prstGeom prst="wedgeEllipseCallout">
            <a:avLst>
              <a:gd name="adj1" fmla="val -33814"/>
              <a:gd name="adj2" fmla="val 1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¿Podría decir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con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sus propias palabras que fue lo que sucedi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60280"/>
            <a:ext cx="2808360" cy="1944720"/>
          </a:xfrm>
          <a:prstGeom prst="wedgeEllipseCallout">
            <a:avLst>
              <a:gd name="adj1" fmla="val 51356"/>
              <a:gd name="adj2" fmla="val 73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620640"/>
            <a:ext cx="23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o estaba, sentada en la mecedora en el porche de mi casa en una agradable noche de primavera, cuando un joven se acercó y se sentó junto a mí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101"/>
              <a:gd name="adj2" fmla="val 86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5080" y="1268280"/>
            <a:ext cx="192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pero el se mostró bastante amig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8840" y="261936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conocí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49851"/>
              <a:gd name="adj2" fmla="val 824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2000" y="134136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mpezó a acariciar mis piern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2411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 de que él se sent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101"/>
              <a:gd name="adj2" fmla="val 85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49200" y="261936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detu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14684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yo no lo detuv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765000"/>
            <a:ext cx="2737080" cy="1440000"/>
          </a:xfrm>
          <a:prstGeom prst="wedgeEllipseCallout">
            <a:avLst>
              <a:gd name="adj1" fmla="val 49884"/>
              <a:gd name="adj2" fmla="val 79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2565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Por qué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11744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Me sentía muy bien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. N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die me había hecho eso desde que mi esposo murió hace 30 añ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7:03:15Z</dcterms:created>
  <dc:creator>Adolfofo.</dc:creator>
  <dc:description/>
  <dc:language>en-US</dc:language>
  <cp:lastModifiedBy>Dina</cp:lastModifiedBy>
  <dcterms:modified xsi:type="dcterms:W3CDTF">2009-05-07T23:52:07Z</dcterms:modified>
  <cp:revision>31</cp:revision>
  <dc:subject>19-11-7/5-1-8</dc:subject>
  <dc:title>La abuelina</dc:title>
</cp:coreProperties>
</file>