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7.jpeg" ContentType="image/jpeg"/>
  <Override PartName="/ppt/media/image38.jpeg" ContentType="image/jpeg"/>
  <Override PartName="/ppt/media/Joan%20Manuel%20Serrat%20-%20Pare.wav" ContentType="audio/x-wav"/>
  <Override PartName="/ppt/media/image18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0.jpeg" ContentType="image/jpeg"/>
  <Override PartName="/ppt/media/image13.jpeg" ContentType="image/jpeg"/>
  <Override PartName="/ppt/media/image42.jpeg" ContentType="image/jpeg"/>
  <Override PartName="/ppt/media/image59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50.jpeg" ContentType="image/jpeg"/>
  <Override PartName="/ppt/media/image6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58.gif" ContentType="image/gif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238-1A6E-4E41-99FD-7E90A5D2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81A-8C9B-478E-97A0-39E647A1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ACD4-1533-4D97-AEC9-282E822C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7A3-00E1-47A1-80FD-CA476821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9C8-F2F3-4355-88DD-995097DA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7104-3BC5-49C9-B764-DEDFABE2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652-5D62-4195-AAB4-E4688D3B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FC59-98DD-4B99-A8C7-2999B333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A1CC-D927-478A-899D-67EB1793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034-AAC8-49AC-B8DF-243A0765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499-4978-4696-8360-710FB9CE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F48-F5A6-443D-ABC5-2B85065D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8ED6-5527-49E0-B5AA-3CA2D7F46DB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oan%20Manuel%20Serrat%20-%20Par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paolinchi.iespana.es/pare2.htm" TargetMode="External"/><Relationship Id="rId2" Type="http://schemas.openxmlformats.org/officeDocument/2006/relationships/hyperlink" Target="http://www.youtube.com/watch?v=DcFYTDm_XPM&amp;mode=related&amp;search" TargetMode="External"/><Relationship Id="rId3" Type="http://schemas.openxmlformats.org/officeDocument/2006/relationships/hyperlink" Target="http://www.iespana.es/lapaginadepaola/irak.htm" TargetMode="External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gif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D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Juan Manuel Ser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769080" cy="2030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79600" y="6021360"/>
            <a:ext cx="190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uses el rat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 fa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  <p:sndAc>
      <p:stSnd>
        <p:snd r:embed="rId2" name="Joan%20Manuel%20Serrat%20-%20Par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600"/>
                            </p:stCondLst>
                            <p:childTnLst>
                              <p:par>
                                <p:cTn id="13" nodeType="after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20120" cy="5143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55640" y="5942160"/>
            <a:ext cx="336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bans de que no es faci fo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ompliu de vida el reb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5942160"/>
            <a:ext cx="31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es de que oscurez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lenad de vida la despen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32000" y="1052640"/>
            <a:ext cx="6985080" cy="4354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859280" y="58770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 leña y sin peces, 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dremos que quemar la bar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5877000"/>
            <a:ext cx="38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Sense llenya i sense peixos, pa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ns caldrà cremar la bar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4772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6095880" cy="4390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476360" y="1197000"/>
            <a:ext cx="6227640" cy="4359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9280" y="573408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llaurar el blat entre les enrunes, pa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i tancar amb tres panys la cas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i deia vostè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3280" y="5734080"/>
            <a:ext cx="40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rar el trigo entre las ruinas, pad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poner la tranca a la cas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decía usted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14840" cy="424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533920" y="4524480"/>
            <a:ext cx="3610080" cy="233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6480000" cy="4010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5013360"/>
            <a:ext cx="21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si no hi ha p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no es fan piny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ni cucs, ni o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5013360"/>
            <a:ext cx="25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no hay p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habrá piñon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 gusanos, ni pája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84360" y="549360"/>
            <a:ext cx="6095880" cy="4066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620120" cy="5343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435640" y="6216480"/>
            <a:ext cx="24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de no hay f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62164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on no hi ha f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848720" cy="5886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64000" y="6216480"/>
            <a:ext cx="30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se dan las abej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 la cera, ni la mi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216480"/>
            <a:ext cx="24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no es fan abel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cera, ni m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716360" y="6216480"/>
            <a:ext cx="38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el campo ya no es el ca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6216480"/>
            <a:ext cx="35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que el camp ja no és el ca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044720" y="260280"/>
            <a:ext cx="11809440" cy="5908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ñana del cielo lloverá sang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16480"/>
            <a:ext cx="32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demà del cel plourà s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272360" cy="5919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152320" y="630864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viento lo canta llora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5800" y="630864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l vent ho canta plor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0160" cy="6967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732720" y="6216480"/>
            <a:ext cx="19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 están aquí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6216480"/>
            <a:ext cx="17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ja són aquí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3562560" cy="518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51280" y="549360"/>
            <a:ext cx="514332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-109440"/>
            <a:ext cx="9290160" cy="6967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00000" y="60213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Monstres de c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mb cucs de fer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27640" y="5950080"/>
            <a:ext cx="27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struos de ca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 gusanos de hier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619760" cy="5400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116000" y="6216480"/>
            <a:ext cx="25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no, no tingeu p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6216480"/>
            <a:ext cx="30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, no tengáis mie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92720" y="60213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decid que 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yo os esp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47640" y="6021360"/>
            <a:ext cx="24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i digueu que 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que jo us esp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620120" cy="4857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076720" y="602136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están matando la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6021360"/>
            <a:ext cx="30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que estan matant la t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-181080" y="476280"/>
            <a:ext cx="9577440" cy="5246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5942160"/>
            <a:ext cx="379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deixeu de plo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88000" y="5950080"/>
            <a:ext cx="38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jad de llo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20120" cy="6276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864680" y="649116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nos han declarado la gu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4680" y="6491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que ens han declarat la gu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3203640" y="260280"/>
            <a:ext cx="446724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echo en Cádiz el 15/10/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195640" y="765000"/>
            <a:ext cx="538164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dicado a los que trabajan por la PAZ.   G.P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2952720" cy="1871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788000" y="476280"/>
            <a:ext cx="4572000" cy="73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i no hay pi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 habrá piñon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i gusanos, ni pája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onde no hay f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 se dan las abej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i la cera, ni la mi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el campo ya no es el camp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añana del cielo lloverá sang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l viento lo canta llora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a están aquí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onstruos de car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gusanos de hier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, no tengáis mied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decid que 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yo os esp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están matando la tier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jad de llo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nos han declarado la guer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-324000"/>
            <a:ext cx="45720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cidme qu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 han hecho al rí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 ya no can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b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o un bar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erto bajo un pal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espuma blan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 el río ya no es el rí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tes de que llegue el ver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conded todo lo que esté v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cidme qu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 han hecho al bos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 ya no hay árbo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 inv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tendremos fu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 en verano sit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de resguardar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 el bosque ya no es el bos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tes de que oscurez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lenad de vida la despen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n leña y sin peces, p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ndremos que quemar la barc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brar el trigo entre las ruinas, pad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 decía usted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6320" y="4941720"/>
            <a:ext cx="20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 corte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a ahora el r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260280"/>
            <a:ext cx="262728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igueu-me qu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i han fet al r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ja no can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lli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m un ba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ort sota un 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'escuma blan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el riu ja no és el ri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bans que torni l'est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magui tot el que és vi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igueu-me qu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i han fet al bo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no hi ha arb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 l'hiv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o tindrem f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i a l'estiu l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er aturar-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el bosc ja no és el bos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bans de que no es faci fo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mpliu de vida el reb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56000" y="1125360"/>
            <a:ext cx="252072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i no hi ha p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o es fan piny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i cucs, ni oc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n no hi ha f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o es fan abell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era, ni m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el camp ja no és el cam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emà del cel plourà sa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l vent ho canta plora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ja són aquí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onstres de ca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mb cucs de fer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56000" y="18900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ense llenya i sense peixos, par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s caldrà cremar la barc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laurar el blat entre les enrunes, 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 tancar amb tres panys la c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 deia vost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260280"/>
            <a:ext cx="3078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o, no tingeu po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 digueu que n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jo us espe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estan matant la ter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eixeu de plor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ens han declarat la guer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83720" y="6216480"/>
            <a:ext cx="20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 corte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a ahora el r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716360" y="3068640"/>
            <a:ext cx="442764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-24869880"/>
            <a:ext cx="45720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e digueu-me qu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i han fet al r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ja no ca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lli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m un ba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rt sota un p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'escuma blan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el riu ja no és el r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bans que torni l'est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magui tot el que és v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gueu-me qu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i han fet al bo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o hi ha ar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 l'hiv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tindrem f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 a l'estiu l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 aturar-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el bosc ja no és el bo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bans de que no es faci fo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mpliu de vida el reb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nse llenya i sense peixos, pa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s caldrà cremar la bar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laurar el blat entre les enrunes, 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 tancar amb tres panys la 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 deia vostè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8000" y="-127731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60320" y="357336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olinchi.iespana.es/pare2.ht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9960" y="4005360"/>
            <a:ext cx="79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DcFYTDm_XPM&amp;mode=related&amp;searc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6120" y="3141720"/>
            <a:ext cx="50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iespana.es/lapaginadepaola/irak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33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68360" y="4576680"/>
            <a:ext cx="3456000" cy="2281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348000" y="0"/>
            <a:ext cx="2638440" cy="2997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6012000" y="0"/>
            <a:ext cx="3132000" cy="2608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4932360" y="4505400"/>
            <a:ext cx="3333600" cy="2352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978880" y="6491160"/>
            <a:ext cx="31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cortes .Usa ahora el r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619760" cy="508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80000" y="5667480"/>
            <a:ext cx="21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idme qu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han hecho al rí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ya no ca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5280" y="56674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digueu-me qu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li han fet al r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que ja no ca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276720" y="0"/>
            <a:ext cx="2808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i no hi ha p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o es fan piny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i cucs, ni oc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n no hi ha f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o es fan abell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era, ni m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el camp ja no és el cam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emà del cel plourà sa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l vent ho canta plora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ja són aquí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onstres de ca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mb cucs de fer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o, no tingeu po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 digueu que n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jo us espe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estan matant la ter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eixeu de plor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ens han declarat la guer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189000"/>
            <a:ext cx="45720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 digueu-me qu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i han fet al r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ja no can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lli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m un bar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ort sota un 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'escuma blan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el riu ja no és el ri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bans que torni l'est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magui tot el que és vi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igueu-me qu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i han fet al bo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no hi ha arb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 l'hiv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o tindrem f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i a l'estiu l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er aturar-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el bosc ja no és el bos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bans de que no es faci fo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mpliu de vida el reb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ense llenya i sense peixos, par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s caldrà cremar la barc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laurar el blat entre les enrunes, p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 tancar amb tres panys la c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 deia vostè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rot="294600">
            <a:off x="3924360" y="0"/>
            <a:ext cx="3014640" cy="2049480"/>
          </a:xfrm>
          <a:prstGeom prst="cloudCallout">
            <a:avLst>
              <a:gd name="adj1" fmla="val -49310"/>
              <a:gd name="adj2" fmla="val 63050"/>
            </a:avLst>
          </a:prstGeom>
          <a:solidFill>
            <a:srgbClr val="00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¿Có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te explic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83720" y="6216480"/>
            <a:ext cx="20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rte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 ahora el r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10801440" cy="6897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 rot="294600">
            <a:off x="178920" y="0"/>
            <a:ext cx="3638520" cy="2016000"/>
          </a:xfrm>
          <a:prstGeom prst="cloudCallout">
            <a:avLst>
              <a:gd name="adj1" fmla="val 122462"/>
              <a:gd name="adj2" fmla="val 66995"/>
            </a:avLst>
          </a:prstGeom>
          <a:solidFill>
            <a:srgbClr val="00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Que la única arma que sostenga tu brazo sea 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2000520" cy="1000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 rot="865200">
            <a:off x="2987280" y="4365720"/>
            <a:ext cx="2738520" cy="1649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250920" y="1989000"/>
            <a:ext cx="2952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latin typeface="Arial Black"/>
              </a:rPr>
              <a:t>Que tengas un día feliz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latin typeface="Arial Black"/>
              </a:rPr>
              <a:t>y no te olvides de los que sufren.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p:transition spd="slow"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-171360"/>
            <a:ext cx="5681880" cy="85136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57056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77080" y="4149720"/>
            <a:ext cx="243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b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o un bar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erto bajo un pal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espuma blan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14130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Relli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com un bar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mort sota un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d'escuma blan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3333960" cy="2352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2409840" cy="1619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24000" y="115920"/>
            <a:ext cx="3809880" cy="3457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219640" y="2492280"/>
            <a:ext cx="1428840" cy="1809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143760" y="4724280"/>
            <a:ext cx="3000240" cy="1714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067280" y="4581360"/>
            <a:ext cx="1428480" cy="1810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6819840" y="2349360"/>
            <a:ext cx="2324160" cy="2238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539640" y="333360"/>
            <a:ext cx="3889440" cy="3691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53928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el río ya no es el r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es de que llegue el ve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conded todo lo que esté v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933720"/>
            <a:ext cx="286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que el riu ja no és el r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bans que torni l'est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magui tot el que és v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468360" y="836640"/>
            <a:ext cx="4681440" cy="3217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4381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-171360"/>
            <a:ext cx="3348000" cy="5122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3780000" cy="2681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477040" y="3213000"/>
            <a:ext cx="3666960" cy="2400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5364000" y="0"/>
            <a:ext cx="3780000" cy="3111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755640" y="549360"/>
            <a:ext cx="4027320" cy="462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292720" y="566748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idme qu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han hecho al bos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ya no hay árb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58920" y="56674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digueu-me qu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li han fet al bo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que no hi ha ar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3933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6095880" cy="4048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26920" y="404640"/>
            <a:ext cx="6096240" cy="4772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76720" y="566748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 inv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tendremos fu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 en verano si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de resguarda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56674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 l'hiv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no tindrem f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ni a l'estiu l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er aturar-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20120" cy="5143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59280" y="5950080"/>
            <a:ext cx="39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el bosque ya no es el bos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595008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que el bosc ja no és el bo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3:40:55Z</dcterms:created>
  <dc:creator>paola perez</dc:creator>
  <dc:description/>
  <dc:language>en-US</dc:language>
  <cp:lastModifiedBy>CARLOS 2</cp:lastModifiedBy>
  <dcterms:modified xsi:type="dcterms:W3CDTF">2008-01-30T22:05:06Z</dcterms:modified>
  <cp:revision>6</cp:revision>
  <dc:subject/>
  <dc:title>Diapositiva 1</dc:title>
</cp:coreProperties>
</file>