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7.jpeg" ContentType="image/jpeg"/>
  <Override PartName="/ppt/media/image38.jpeg" ContentType="image/jpeg"/>
  <Override PartName="/ppt/media/Joan%20Manuel%20Serrat%20-%20Pare.wav" ContentType="audio/x-wav"/>
  <Override PartName="/ppt/media/image18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40.jpeg" ContentType="image/jpeg"/>
  <Override PartName="/ppt/media/image13.jpeg" ContentType="image/jpeg"/>
  <Override PartName="/ppt/media/image42.jpeg" ContentType="image/jpeg"/>
  <Override PartName="/ppt/media/image59.jpeg" ContentType="image/jpeg"/>
  <Override PartName="/ppt/media/image17.jpeg" ContentType="image/jpeg"/>
  <Override PartName="/ppt/media/image22.jpeg" ContentType="image/jpeg"/>
  <Override PartName="/ppt/media/image14.jpeg" ContentType="image/jpeg"/>
  <Override PartName="/ppt/media/image41.jpeg" ContentType="image/jpeg"/>
  <Override PartName="/ppt/media/image50.jpeg" ContentType="image/jpeg"/>
  <Override PartName="/ppt/media/image6.jpeg" ContentType="image/jpeg"/>
  <Override PartName="/ppt/media/image51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58.gif" ContentType="image/gif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D4CE-F6DE-4E6D-9BDB-011E3921F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6C8F-9D1C-45BF-9034-0572A29C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E23F-0F23-4E8C-B6ED-EB9B4382C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6927-152B-404E-95C0-77E466724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5D1D-80B8-4C9E-9C29-69B699DD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199D-8BBD-4685-945B-3397A8AD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2223-DD10-4302-B82D-25DEB7FB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8FFC-FBE0-438C-808A-75B67C31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29A1-C2A1-4929-9CCF-D494FA9B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39C3-60A1-4870-A268-978AB547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9232-34E0-4EB0-9A0D-C7DD7BB7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1780-230F-4AD7-96EF-9A875047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8995-EE12-4E4E-827B-025DF689109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Joan%20Manuel%20Serrat%20-%20Pare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paolinchi.iespana.es/pare2.htm" TargetMode="External"/><Relationship Id="rId2" Type="http://schemas.openxmlformats.org/officeDocument/2006/relationships/hyperlink" Target="http://www.youtube.com/watch?v=DcFYTDm_XPM&amp;mode=related&amp;search" TargetMode="External"/><Relationship Id="rId3" Type="http://schemas.openxmlformats.org/officeDocument/2006/relationships/hyperlink" Target="http://www.iespana.es/lapaginadepaola/irak.htm" TargetMode="External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image" Target="../media/image54.jpeg"/><Relationship Id="rId7" Type="http://schemas.openxmlformats.org/officeDocument/2006/relationships/image" Target="../media/image55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gif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ADR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06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Juan Manuel Serr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03280" y="3284640"/>
            <a:ext cx="6769080" cy="2030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79600" y="6021360"/>
            <a:ext cx="190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uses el rató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r fav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  <p:sndAc>
      <p:stSnd>
        <p:snd r:embed="rId2" name="Joan%20Manuel%20Serrat%20-%20Par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600"/>
                            </p:stCondLst>
                            <p:childTnLst>
                              <p:par>
                                <p:cTn id="13" nodeType="after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4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620120" cy="5143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55640" y="5942160"/>
            <a:ext cx="336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P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abans de que no es faci fo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ompliu de vida el reb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19640" y="5942160"/>
            <a:ext cx="314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tes de que oscurez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lenad de vida la despen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332000" y="1052640"/>
            <a:ext cx="6985080" cy="4354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859280" y="5877000"/>
            <a:ext cx="379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n leña y sin peces, pa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dremos que quemar la barc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5877000"/>
            <a:ext cx="387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Sense llenya i sense peixos, pa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ens caldrà cremar la barc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4772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55640" y="692280"/>
            <a:ext cx="6095880" cy="4390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476360" y="1197000"/>
            <a:ext cx="6227640" cy="4359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79280" y="5734080"/>
            <a:ext cx="42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llaurar el blat entre les enrunes, pa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i tancar amb tres panys la cas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i deia vostè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3280" y="5734080"/>
            <a:ext cx="401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brar el trigo entre las ruinas, pad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 poner la tranca a la cas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 decía usted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000"/>
                            </p:stCondLst>
                            <p:childTnLst>
                              <p:par>
                                <p:cTn id="95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14840" cy="4248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533920" y="4524480"/>
            <a:ext cx="3610080" cy="2333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6480000" cy="40100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50920" y="5013360"/>
            <a:ext cx="214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P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si no hi ha p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no es fan piny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ni cucs, ni o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71640" y="5013360"/>
            <a:ext cx="250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 no hay pi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habrá piñon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i gusanos, ni pája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684360" y="549360"/>
            <a:ext cx="6095880" cy="4066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8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7620120" cy="53434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435640" y="6216480"/>
            <a:ext cx="243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nde no hay fl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32000" y="62164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P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on no hi ha f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7848720" cy="5886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364000" y="6216480"/>
            <a:ext cx="300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se dan las abeja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i la cera, ni la mi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71640" y="6216480"/>
            <a:ext cx="243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no es fan abell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cera, ni m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716360" y="6216480"/>
            <a:ext cx="387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 el campo ya no es el cam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6216480"/>
            <a:ext cx="351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P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que el camp ja no és el cam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-1044720" y="260280"/>
            <a:ext cx="11809440" cy="59086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572000" y="6216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ñana del cielo lloverá sang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6216480"/>
            <a:ext cx="329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P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demà del cel plourà sa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272360" cy="59198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152320" y="6308640"/>
            <a:ext cx="28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viento lo canta llora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45800" y="630864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El vent ho canta plor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0160" cy="69674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732720" y="6216480"/>
            <a:ext cx="199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a están aquí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16000" y="6216480"/>
            <a:ext cx="170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P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ja són aquí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3562560" cy="5183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851280" y="549360"/>
            <a:ext cx="5143320" cy="51847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-109440"/>
            <a:ext cx="9290160" cy="69674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900000" y="602136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Monstres de c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amb cucs de fer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27640" y="5950080"/>
            <a:ext cx="271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struos de car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 gusanos de hier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619760" cy="54007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116000" y="6216480"/>
            <a:ext cx="25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P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no, no tingeu po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32360" y="6216480"/>
            <a:ext cx="300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a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o, no tengáis mied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292720" y="602136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 decid que n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 yo os esp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47640" y="6021360"/>
            <a:ext cx="243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i digueu que n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que jo us esp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620120" cy="48578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076720" y="6021360"/>
            <a:ext cx="32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 están matando la tier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58920" y="6021360"/>
            <a:ext cx="300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P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que estan matant la ter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-181080" y="476280"/>
            <a:ext cx="9577440" cy="52466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187280" y="5942160"/>
            <a:ext cx="379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P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deixeu de plo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788000" y="5950080"/>
            <a:ext cx="387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jad de llo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620120" cy="62769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864680" y="6491160"/>
            <a:ext cx="35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 nos han declarado la guer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4680" y="649116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que ens han declarat la guer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3203640" y="260280"/>
            <a:ext cx="446724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echo en Cádiz el 15/10/0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195640" y="765000"/>
            <a:ext cx="5381640" cy="83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dicado a los que trabajan por la PAZ.   G.P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500720" y="1484280"/>
            <a:ext cx="2952720" cy="1871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788000" y="476280"/>
            <a:ext cx="4572000" cy="73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ad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si no hay pi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no habrá piñon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ni gusanos, ni pája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ad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onde no hay fl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no se dan las abeja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ni la cera, ni la mi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ad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que el campo ya no es el camp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ad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mañana del cielo lloverá sang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l viento lo canta lloran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ad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ya están aquí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Monstruos de car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n gusanos de hier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ad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no, no tengáis mied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y decid que n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que yo os espe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ad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que están matando la tier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ad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ejad de llor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que nos han declarado la guer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-324000"/>
            <a:ext cx="4572000" cy="71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d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cidme qu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e han hecho al rí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 ya no can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sba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o un barb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erto bajo un pal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 espuma blan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d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 el río ya no es el rí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d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tes de que llegue el ver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sconded todo lo que esté viv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d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cidme qu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e han hecho al bos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 ya no hay árbo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 invi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tendremos fu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i en verano sit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nde resguardarn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d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 el bosque ya no es el bosq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d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tes de que oscurez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lenad de vida la despen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n leña y sin peces, pad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ndremos que quemar la barc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88000" y="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brar el trigo entre las ruinas, padr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 decía usted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96320" y="4941720"/>
            <a:ext cx="205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 corte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sa ahora el rat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260280"/>
            <a:ext cx="2627280" cy="67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digueu-me qu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li han fet al ri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que ja no can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Rellis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om un bar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mort sota un p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d'escuma blanc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que el riu ja no és el ri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bans que torni l'esti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magui tot el que és vi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digueu-me qu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li han fet al bo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que no hi ha arb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 l'hiv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no tindrem f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ni a l'estiu ll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er aturar-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que el bosc ja no és el bos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bans de que no es faci fo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ompliu de vida el rebo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56000" y="1125360"/>
            <a:ext cx="2520720" cy="50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si no hi ha p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no es fan piny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ni cucs, ni ocel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on no hi ha f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no es fan abelle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era, ni m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que el camp ja no és el cam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demà del cel plourà sa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l vent ho canta plora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ja són aquí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Monstres de ca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mb cucs de ferr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56000" y="18900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Sense llenya i sense peixos, par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ns caldrà cremar la barc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llaurar el blat entre les enrunes, 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i tancar amb tres panys la c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i deia vost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859280" y="260280"/>
            <a:ext cx="30783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no, no tingeu po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i digueu que no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que jo us esper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que estan matant la ter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deixeu de plor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que ens han declarat la guer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83720" y="6216480"/>
            <a:ext cx="205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 corte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sa ahora el rat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716360" y="3068640"/>
            <a:ext cx="4427640" cy="2214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-24869880"/>
            <a:ext cx="4572000" cy="9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are digueu-me qu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i han fet al r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ja no can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ellis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m un ba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ort sota un p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'escuma blan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el riu ja no és el ri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bans que torni l'est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magui tot el que és vi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gueu-me qu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i han fet al bo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no hi ha arb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 l'hiv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o tindrem f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i a l'estiu l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er aturar-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el bosc ja no és el bos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bans de que no es faci fo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mpliu de vida el reb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nse llenya i sense peixos, pa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ns caldrà cremar la barc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laurar el blat entre les enrunes, p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 tancar amb tres panys la c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 deia vostè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88000" y="-127731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60320" y="3573360"/>
            <a:ext cx="39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aolinchi.iespana.es/pare2.ht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59960" y="4005360"/>
            <a:ext cx="79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DcFYTDm_XPM&amp;mode=related&amp;search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86120" y="3141720"/>
            <a:ext cx="502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iespana.es/lapaginadepaola/irak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333600" cy="24382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68360" y="4576680"/>
            <a:ext cx="3456000" cy="22813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3348000" y="0"/>
            <a:ext cx="2638440" cy="2997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>
            <a:off x="6012000" y="0"/>
            <a:ext cx="3132000" cy="2608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8"/>
          <a:stretch/>
        </p:blipFill>
        <p:spPr>
          <a:xfrm>
            <a:off x="4932360" y="4505400"/>
            <a:ext cx="3333600" cy="23526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978880" y="6491160"/>
            <a:ext cx="316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cortes .Usa ahora el rat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619760" cy="5086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580000" y="5667480"/>
            <a:ext cx="214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idme qu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 han hecho al rí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 ya no can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35280" y="56674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P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digueu-me qu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li han fet al r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que ja no can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276720" y="0"/>
            <a:ext cx="280800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si no hi ha p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no es fan piny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ni cucs, ni ocel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on no hi ha f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no es fan abelle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era, ni m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que el camp ja no és el cam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demà del cel plourà sa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l vent ho canta plora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ja són aquí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Monstres de ca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mb cucs de ferr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no, no tingeu po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i digueu que no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que jo us esper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que estan matant la ter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deixeu de plor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que ens han declarat la guer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0920" y="189000"/>
            <a:ext cx="4572000" cy="64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re digueu-me qu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li han fet al ri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que ja no can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Rellis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om un barb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mort sota un 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d'escuma blanc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que el riu ja no és el ri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bans que torni l'esti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magui tot el que és vi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digueu-me qu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li han fet al bo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que no hi ha arb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 l'hiv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no tindrem f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ni a l'estiu ll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er aturar-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que el bosc ja no és el bos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bans de que no es faci fo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ompliu de vida el rebo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Sense llenya i sense peixos, par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ns caldrà cremar la barc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llaurar el blat entre les enrunes, 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i tancar amb tres panys la c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i deia vostè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 rot="294600">
            <a:off x="3924360" y="0"/>
            <a:ext cx="3014640" cy="2049480"/>
          </a:xfrm>
          <a:prstGeom prst="cloudCallout">
            <a:avLst>
              <a:gd name="adj1" fmla="val -49310"/>
              <a:gd name="adj2" fmla="val 63050"/>
            </a:avLst>
          </a:prstGeom>
          <a:solidFill>
            <a:srgbClr val="00cc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Comic Sans MS"/>
              </a:rPr>
              <a:t>¿Cóm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Comic Sans MS"/>
              </a:rPr>
              <a:t>te explic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83720" y="6216480"/>
            <a:ext cx="205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corte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 ahora el rat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10801440" cy="68976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 rot="294600">
            <a:off x="178920" y="0"/>
            <a:ext cx="3638520" cy="2016000"/>
          </a:xfrm>
          <a:prstGeom prst="cloudCallout">
            <a:avLst>
              <a:gd name="adj1" fmla="val 122462"/>
              <a:gd name="adj2" fmla="val 66995"/>
            </a:avLst>
          </a:prstGeom>
          <a:solidFill>
            <a:srgbClr val="00cc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Que la única arma que sostenga tu brazo sea 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5003640" y="0"/>
            <a:ext cx="2000520" cy="1000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 rot="865200">
            <a:off x="2987280" y="4365720"/>
            <a:ext cx="2738520" cy="16491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250920" y="1989000"/>
            <a:ext cx="295272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latin typeface="Arial Black"/>
              </a:rPr>
              <a:t>Que tengas un día feliz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latin typeface="Arial Black"/>
              </a:rPr>
              <a:t>y no te olvides de los que sufren.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p:transition spd="slow">
    <p:wheel spokes="8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63640" y="-171360"/>
            <a:ext cx="5681880" cy="85136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570564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77080" y="4149720"/>
            <a:ext cx="243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b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o un bar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erto bajo un pal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 espuma blan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141300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Rellis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com un bar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mort sota un 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d'escuma blan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3333960" cy="2352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372360" y="4724280"/>
            <a:ext cx="2409840" cy="1619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364000" y="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324000" y="115920"/>
            <a:ext cx="3809880" cy="3457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5219640" y="2492280"/>
            <a:ext cx="1428840" cy="1809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6143760" y="4724280"/>
            <a:ext cx="3000240" cy="1714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4067280" y="4581360"/>
            <a:ext cx="1428480" cy="1810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6819840" y="2349360"/>
            <a:ext cx="2324160" cy="2238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539640" y="333360"/>
            <a:ext cx="3889440" cy="3691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53928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 el río ya no es el rí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tes de que llegue el ver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conded todo lo que esté v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933720"/>
            <a:ext cx="286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P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que el riu ja no és el ri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P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abans que torni l'est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amagui tot el que és vi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0"/>
          <a:stretch/>
        </p:blipFill>
        <p:spPr>
          <a:xfrm>
            <a:off x="468360" y="836640"/>
            <a:ext cx="4681440" cy="32176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09880" cy="4381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24000" y="-171360"/>
            <a:ext cx="3348000" cy="5122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5364000" y="0"/>
            <a:ext cx="3780000" cy="2681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5477040" y="3213000"/>
            <a:ext cx="3666960" cy="2400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5364000" y="0"/>
            <a:ext cx="3780000" cy="31114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755640" y="549360"/>
            <a:ext cx="4027320" cy="4627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292720" y="5667480"/>
            <a:ext cx="271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idme qu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 han hecho al bos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 ya no hay árbo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58920" y="56674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P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digueu-me qu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li han fet al bo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que no hi ha arb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3933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6095880" cy="4048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826920" y="404640"/>
            <a:ext cx="6096240" cy="47721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076720" y="5667480"/>
            <a:ext cx="257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 invi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tendremos fu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i en verano si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nde resguardar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16000" y="56674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A l'hiv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no tindrem f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ni a l'estiu l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per aturar-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620120" cy="5143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859280" y="5950080"/>
            <a:ext cx="394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 el bosque ya no es el bos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0000" y="5950080"/>
            <a:ext cx="31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P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que el bosc ja no és el bos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4T13:40:55Z</dcterms:created>
  <dc:creator>paola perez</dc:creator>
  <dc:description/>
  <dc:language>en-US</dc:language>
  <cp:lastModifiedBy>CARLOS 2</cp:lastModifiedBy>
  <dcterms:modified xsi:type="dcterms:W3CDTF">2008-01-30T22:05:06Z</dcterms:modified>
  <cp:revision>6</cp:revision>
  <dc:subject/>
  <dc:title>Diapositiva 1</dc:title>
</cp:coreProperties>
</file>