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32.gif" ContentType="image/gif"/>
  <Override PartName="/ppt/media/image18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al%20fondo.wav" ContentType="audio/x-wav"/>
  <Override PartName="/ppt/media/image24.jpeg" ContentType="image/jpeg"/>
  <Override PartName="/ppt/media/image34.gif" ContentType="image/gif"/>
  <Override PartName="/ppt/media/image33.gif" ContentType="image/gif"/>
  <Override PartName="/ppt/media/image3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0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FB0-18D3-4F9B-8FB3-09856454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E64-F296-40B0-8E8F-80BA6A3F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CE2-4AE2-4E05-94C4-377E988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F46-E503-47AC-B6D6-F2C2E1D2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E9B-A302-4397-9329-85E879B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AFE-26BB-4581-8C54-E859A352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0D1-B89A-426A-8DCD-DEBCDFF4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832-7EF6-4249-A883-B3652050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D79-A97B-4EE3-8011-A90F763E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2CD-2C94-4521-896E-D8171BC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1FE-3AE1-4FCC-AFE8-B33797A2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DCE-7046-41D9-A6C0-4FD01CDB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EBCA-781F-427F-B032-62636CFCEF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l%20fondo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.bp.blogspot.com/_5iKtWfUFVFc/SsirzYEDnCI/AAAAAAAABMo/J7AIffDR0nk/s1600-h/3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com.pe/imgres?imgurl=http://www.rpp.com.pe/cache/q_85_g_1_c_n_p__portada_mascotas_perdidos_y_encontrados_302112.jpg&amp;imgrefurl=http://www.rpp.com.pe/multimedia.php%3Fs%3D767%26t%3Dr%26p%3D4%26o%3D1%26k%3Dapra&amp;usg=__GMATCXqMCt5U_Vg1ewYBVJSp21w=&amp;h=240&amp;w=320&amp;sz=15&amp;hl=es&amp;start=18&amp;um=1&amp;itbs=1&amp;tbnid=4-jT2SCer5i-NM:&amp;tbnh=89&amp;tbnw=118&amp;prev=/images%3Fq%3Dcajahuanca%26hl%3Des%26cr%3DcountryPE%26sa%3DG%26um%3D1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images.google.com.pe/imgres?imgurl=http://utero.pe/wp-content/uploads/2009/09/congresista-ricardo-pando.jpg&amp;imgrefurl=http://utero.pe/2009/09/09/congresista-apunalado-por-la-espalda/&amp;usg=__2nE3YlBTJY8QEKwJ7GG23aHjSEA=&amp;h=197&amp;w=280&amp;sz=10&amp;hl=es&amp;start=2&amp;um=1&amp;itbs=1&amp;tbnid=aHjEb3idIgX3jM:&amp;tbnh=80&amp;tbnw=114&amp;prev=/images%3Fq%3Dpando%2Bcongresista%26hl%3Des%26cr%3DcountryPE%26sa%3DG%26um%3D1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images.google.com.pe/imgres?imgurl=http://www.rpp.com.pe/cache/q_85_g_3_c_n_p__portada_nacional_408214.jpg&amp;imgrefurl=http://www.rpp.com.pe/2009-11-26-espinoza-afirma-no-sentir-rencor-por-quienes-votaron-a-favor-de-su-desafuero-noticia_225386.html&amp;usg=__D1kEyiKscXDJh-wsgp41VJwIEiw=&amp;h=225&amp;w=300&amp;sz=13&amp;hl=es&amp;start=8&amp;um=1&amp;itbs=1&amp;tbnid=JaUuAGFa9wac-M:&amp;tbnh=87&amp;tbnw=116&amp;prev=/images%3Fq%3Dcongresista%2Bespinoza%26hl%3Des%26cr%3DcountryPE%26sa%3DN%26um%3D1" TargetMode="External"/><Relationship Id="rId20" Type="http://schemas.openxmlformats.org/officeDocument/2006/relationships/image" Target="../media/image18.jpeg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.pe/imgres?imgurl=http://www.rpp.com.pe/cache/q_85_g_3_c_n_p__portada_politica_314568.jpg&amp;imgrefurl=http://www.rpp.com.pe/2009-02-03-alva-castro-alberto-quimper-nunca-me-asesoro-en-compra-de-patrulleros-noticia_161739.html&amp;usg=__5XOkTWLtt2BCU0DHgk4X84rqIlg=&amp;h=225&amp;w=300&amp;sz=14&amp;hl=es&amp;start=9&amp;um=1&amp;itbs=1&amp;tbnid=XkgmtteB4KpO1M:&amp;tbnh=87&amp;tbnw=116&amp;prev=/images%3Fq%3Dalva%2Bcastro%2By%2Bpatrulleros%2Bchinos%26ndsp%3D20%26hl%3Des%26cr%3DcountryPE%26sa%3DN%26um%3D1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mages.google.com.pe/imgres?imgurl=http://uterodemarita.com/wp-content/uploads/2007/02/pilar.jpg&amp;imgrefurl=http://utero.pe/2007/02/08/mazzetti-y-kouri-dos-casotes/&amp;usg=__EFJUifyYnjw6wv9bwOhv5P4JJ4o=&amp;h=208&amp;w=190&amp;sz=51&amp;hl=es&amp;start=4&amp;um=1&amp;itbs=1&amp;tbnid=p_RXwJF5l4X3yM:&amp;tbnh=105&amp;tbnw=96&amp;prev=/images%3Fq%3Dmazzetti%2By%2Bambulancias%26hl%3Des%26cr%3DcountryPE%26sa%3DN%26um%3D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.pe/imgres?imgurl=http://www.elbuho.com.pe/userfiles/noviembre2009/11jorge%2520del%2520castillo.jpg&amp;imgrefurl=http://www.elbuho.com.pe/maslocal.php%3Fsubaction%3Dshowfull%3D1257359582%3D%3D%3D1&amp;usg=__k5bXv3idMkbmOz42DvagL9lSEMQ=&amp;h=300&amp;w=400&amp;sz=24&amp;hl=es&amp;start=6&amp;um=1&amp;itbs=1&amp;tbnid=e-a6RGZSH3G5gM:&amp;tbnh=93&amp;tbnw=124&amp;prev=/images%3Fq%3Ddel%2Bcastillo%2Bjorge%2By%2Bcanan%26hl%3Des%26cr%3DcountryPE%26sa%3DN%26um%3D1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.pe/imgres?imgurl=http://radio.rpp.com.pe/ampliaciondenoticias/files/2009/11/francis_allison_rpp.jpg&amp;imgrefurl=http://radio.rpp.com.pe/ampliaciondenoticias/francis-allison-nunca-informo-que-tenia-cuentas-en-el-extranjero/&amp;usg=__6KaoIXg7_X3UAyAd9cXi8QwUuxU=&amp;h=480&amp;w=640&amp;sz=150&amp;hl=es&amp;start=1&amp;um=1&amp;itbs=1&amp;tbnid=kty_qtitbPWYLM:&amp;tbnh=103&amp;tbnw=137&amp;prev=/images%3Fq%3Dallison%2Bbusiness%2Btrack%26hl%3Des%26cr%3DcountryPE%26sa%3DN%26um%3D1" TargetMode="External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.pe/imgres?imgurl=http://www.up.edu.pe/_data/noticias/20060731141924a.jpg&amp;imgrefurl=http://www.up.edu.pe/prensa/noticias/noticia.php%3Ffecha%3D20060731141924%26mes%3D07%26area%3D2800%26id%3D1186&amp;usg=__hKG88htW04t5TPCLtHeboUZma7k=&amp;h=589&amp;w=539&amp;sz=73&amp;hl=es&amp;start=1&amp;um=1&amp;itbs=1&amp;tbnid=fWGm9uQ_gwS9rM:&amp;tbnh=135&amp;tbnw=124&amp;prev=/images%3Fq%3Dmercedes%2Baraoz%2Bfernandez%26hl%3Des%26cr%3DcountryPE%26um%3D1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.pe/imgres?imgurl=http://blog.pucp.edu.pe/media/2715/20090131-rafaelrey_rpp.jpeg&amp;imgrefurl=http://blog.pucp.edu.pe/blog/1873/tag/Rafael%2520Rey&amp;usg=__Dz6D_RPJDm3IpKnvIHXMVws1ENo=&amp;h=337&amp;w=423&amp;sz=17&amp;hl=es&amp;start=12&amp;um=1&amp;itbs=1&amp;tbnid=4R8Frfoh19PIQM:&amp;tbnh=100&amp;tbnw=126&amp;prev=/images%3Fq%3Drafael%2Brey%2Brey%26hl%3Des%26sa%3DG%26um%3D1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66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2006,       2007,        2008,        2009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luego el 20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uffff….  ya falta poco pa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que se acabe………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" descr="Gifs Animados de Bailando - Imagenes Animadas de Bailando"/>
          <p:cNvPicPr/>
          <p:nvPr/>
        </p:nvPicPr>
        <p:blipFill>
          <a:blip r:embed="rId2"/>
          <a:stretch/>
        </p:blipFill>
        <p:spPr>
          <a:xfrm>
            <a:off x="6084720" y="2997360"/>
            <a:ext cx="2421000" cy="3301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5084640"/>
            <a:ext cx="237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PE" sz="3200" spc="-1" strike="noStrike">
                <a:solidFill>
                  <a:srgbClr val="ff6600"/>
                </a:solidFill>
                <a:latin typeface="Calibri"/>
              </a:rPr>
              <a:t>no  clic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6600"/>
                </a:solidFill>
                <a:latin typeface="Calibri"/>
              </a:rPr>
              <a:t>  </a:t>
            </a:r>
            <a:r>
              <a:rPr b="1" lang="es-PE" sz="3200" spc="-1" strike="noStrike">
                <a:solidFill>
                  <a:srgbClr val="ff6600"/>
                </a:solidFill>
                <a:latin typeface="Calibri"/>
              </a:rPr>
              <a:t>automá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9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3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3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¡ Oh  myyyyy !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Me equivoque, hay que echarlos primero, a el y su prole </a:t>
            </a: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para asegurarnos de que no </a:t>
            </a: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vuelvan el 2016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5661000"/>
            <a:ext cx="5770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3000">
    <p:randomBa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512-pyro.gif (37935 bytes)"/>
          <p:cNvPicPr/>
          <p:nvPr/>
        </p:nvPicPr>
        <p:blipFill>
          <a:blip r:embed="rId1"/>
          <a:stretch/>
        </p:blipFill>
        <p:spPr>
          <a:xfrm>
            <a:off x="4716360" y="335772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512-pyro.gif (37935 bytes)"/>
          <p:cNvPicPr/>
          <p:nvPr/>
        </p:nvPicPr>
        <p:blipFill>
          <a:blip r:embed="rId2"/>
          <a:stretch/>
        </p:blipFill>
        <p:spPr>
          <a:xfrm>
            <a:off x="0" y="3349800"/>
            <a:ext cx="4716360" cy="331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00"/>
                </a:solidFill>
                <a:latin typeface="Calibri"/>
              </a:rPr>
              <a:t>Feliz año 20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" descr="512-pyro.gif (37935 bytes)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512-pyro.gif (37935 bytes)"/>
          <p:cNvPicPr/>
          <p:nvPr/>
        </p:nvPicPr>
        <p:blipFill>
          <a:blip r:embed="rId4"/>
          <a:stretch/>
        </p:blipFill>
        <p:spPr>
          <a:xfrm>
            <a:off x="0" y="0"/>
            <a:ext cx="4356000" cy="2903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35280" y="2349360"/>
            <a:ext cx="64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00"/>
                </a:solidFill>
                <a:latin typeface="Arial"/>
              </a:rPr>
              <a:t>Disfruten de la hoguera, fuegos artificiales, diviértanse ahora o nun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49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00"/>
                </a:solidFill>
                <a:latin typeface="Arial"/>
              </a:rPr>
              <a:t>Salud y bienestar para ustedes y sus famil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68360" y="2781360"/>
            <a:ext cx="2592360" cy="1517760"/>
          </a:xfrm>
          <a:prstGeom prst="rect">
            <a:avLst/>
          </a:prstGeom>
          <a:ln w="0">
            <a:noFill/>
          </a:ln>
        </p:spPr>
      </p:pic>
    </p:spTree>
  </p:cSld>
  <p:transition advTm="9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Piensa y recuerda para las próximas eleccion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2636640"/>
            <a:ext cx="663552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No al reciclaje de esto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seudo polític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" descr="Gifs Animados de Bailando - Imagenes Animadas de Bailando"/>
          <p:cNvPicPr/>
          <p:nvPr/>
        </p:nvPicPr>
        <p:blipFill>
          <a:blip r:embed="rId2"/>
          <a:stretch/>
        </p:blipFill>
        <p:spPr>
          <a:xfrm>
            <a:off x="6732720" y="3213000"/>
            <a:ext cx="2209680" cy="301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508640"/>
            <a:ext cx="554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00"/>
                </a:solidFill>
                <a:latin typeface="Calibri"/>
              </a:rPr>
              <a:t>Que me disculpen de los que me ol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00"/>
                </a:solidFill>
                <a:latin typeface="Calibri"/>
              </a:rPr>
              <a:t>He considerado los mas represent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randomBar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81360"/>
            <a:ext cx="741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Los bochornosos hechos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981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ff"/>
                </a:solidFill>
                <a:latin typeface="Arial"/>
              </a:rPr>
              <a:t>Quedan en el recuer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3200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 advTm="12000">
    <p:randomBa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9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8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4653000"/>
            <a:ext cx="1800360" cy="150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68360" y="2708280"/>
            <a:ext cx="2016360" cy="15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La presidenta de este grupo de trabajo, Martha Hildebrandt,"/>
          <p:cNvPicPr/>
          <p:nvPr/>
        </p:nvPicPr>
        <p:blipFill>
          <a:blip r:embed="rId5"/>
          <a:stretch/>
        </p:blipFill>
        <p:spPr>
          <a:xfrm>
            <a:off x="4500720" y="2708280"/>
            <a:ext cx="109044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Image"/>
          <p:cNvPicPr/>
          <p:nvPr/>
        </p:nvPicPr>
        <p:blipFill>
          <a:blip r:embed="rId6">
            <a:lum bright="24000"/>
          </a:blip>
          <a:srcRect l="32351" t="0" r="0" b="0"/>
          <a:stretch/>
        </p:blipFill>
        <p:spPr>
          <a:xfrm>
            <a:off x="5580000" y="270828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José Anaya"/>
          <p:cNvPicPr/>
          <p:nvPr/>
        </p:nvPicPr>
        <p:blipFill>
          <a:blip r:embed="rId7"/>
          <a:srcRect l="22803" t="0" r="0" b="0"/>
          <a:stretch/>
        </p:blipFill>
        <p:spPr>
          <a:xfrm>
            <a:off x="6804000" y="270828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rcRect l="14898" t="16926" r="0" b="0"/>
          <a:stretch/>
        </p:blipFill>
        <p:spPr>
          <a:xfrm>
            <a:off x="7740720" y="2708280"/>
            <a:ext cx="90324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Image"/>
          <p:cNvPicPr/>
          <p:nvPr/>
        </p:nvPicPr>
        <p:blipFill>
          <a:blip r:embed="rId9"/>
          <a:srcRect l="10336" t="0" r="13832" b="0"/>
          <a:stretch/>
        </p:blipFill>
        <p:spPr>
          <a:xfrm>
            <a:off x="468360" y="2781360"/>
            <a:ext cx="1081080" cy="142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68360" y="414972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MiroRuiz:Mataper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407664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Anaya:comep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149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Mayorga y planchacami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623736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Sacieta y Lavap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414972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Gonzales:robalu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0"/>
          <a:srcRect l="0" t="0" r="12168" b="0"/>
          <a:stretch/>
        </p:blipFill>
        <p:spPr>
          <a:xfrm>
            <a:off x="539640" y="836640"/>
            <a:ext cx="1060560" cy="1387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1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EN EL LEGISLATIVO : CO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Image"/>
          <p:cNvPicPr/>
          <p:nvPr/>
        </p:nvPicPr>
        <p:blipFill>
          <a:blip r:embed="rId11"/>
          <a:srcRect l="6326" t="0" r="12771" b="0"/>
          <a:stretch/>
        </p:blipFill>
        <p:spPr>
          <a:xfrm>
            <a:off x="1619280" y="836640"/>
            <a:ext cx="888840" cy="139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2276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Menchola y amigu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2"/>
          <a:srcRect l="20937" t="0" r="0" b="0"/>
          <a:stretch/>
        </p:blipFill>
        <p:spPr>
          <a:xfrm>
            <a:off x="3851280" y="4653000"/>
            <a:ext cx="1025640" cy="1614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08360" y="630864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es gord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3419640" y="836640"/>
            <a:ext cx="92700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Fiscal en contra de revisar fallo que libera de cargos a Tula Benites"/>
          <p:cNvPicPr/>
          <p:nvPr/>
        </p:nvPicPr>
        <p:blipFill>
          <a:blip r:embed="rId14"/>
          <a:srcRect l="22285" t="0" r="19778" b="0"/>
          <a:stretch/>
        </p:blipFill>
        <p:spPr>
          <a:xfrm>
            <a:off x="4356000" y="83664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5"/>
          </p:cNvPr>
          <p:cNvPicPr/>
          <p:nvPr/>
        </p:nvPicPr>
        <p:blipFill>
          <a:blip r:embed="rId16"/>
          <a:srcRect l="23735" t="0" r="19026" b="0"/>
          <a:stretch/>
        </p:blipFill>
        <p:spPr>
          <a:xfrm>
            <a:off x="5219640" y="836640"/>
            <a:ext cx="984240" cy="129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rcRect l="20027" t="0" r="15981" b="0"/>
          <a:stretch/>
        </p:blipFill>
        <p:spPr>
          <a:xfrm>
            <a:off x="6227640" y="836640"/>
            <a:ext cx="1081080" cy="126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48000" y="220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Contratos irregulares de ases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rcRect l="22222" t="0" r="18540" b="0"/>
          <a:stretch/>
        </p:blipFill>
        <p:spPr>
          <a:xfrm>
            <a:off x="5940360" y="4724280"/>
            <a:ext cx="1079640" cy="158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40360" y="6308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Anti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6000"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2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2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2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2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20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2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82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2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6842160" cy="185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47640" y="537372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las peruanas: vínculos y viajes pag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479736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úñez          Calderón       Zumaeta         Guevara    M. Mulder  J. Varg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fa103.gif (23422 bytes)"/>
          <p:cNvPicPr/>
          <p:nvPr/>
        </p:nvPicPr>
        <p:blipFill>
          <a:blip r:embed="rId3"/>
          <a:stretch/>
        </p:blipFill>
        <p:spPr>
          <a:xfrm>
            <a:off x="1763640" y="189000"/>
            <a:ext cx="6048360" cy="2152440"/>
          </a:xfrm>
          <a:prstGeom prst="rect">
            <a:avLst/>
          </a:prstGeom>
          <a:ln w="0">
            <a:noFill/>
          </a:ln>
        </p:spPr>
      </p:pic>
    </p:spTree>
  </p:cSld>
  <p:transition advTm="8000">
    <p:randomBa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7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Calibri"/>
              </a:rPr>
              <a:t>EN EL EJECUTIVO :   MINISTRO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5734080"/>
            <a:ext cx="640872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" descr="">
            <a:hlinkClick r:id="rId2"/>
          </p:cNvPr>
          <p:cNvPicPr/>
          <p:nvPr/>
        </p:nvPicPr>
        <p:blipFill>
          <a:blip r:embed="rId3"/>
          <a:srcRect l="17595" t="0" r="22418" b="0"/>
          <a:stretch/>
        </p:blipFill>
        <p:spPr>
          <a:xfrm>
            <a:off x="684360" y="1197000"/>
            <a:ext cx="1152360" cy="1574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29242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Patrulleros chi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Fabiola d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Bono ¨extra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>
            <a:hlinkClick r:id="rId4"/>
          </p:cNvPr>
          <p:cNvPicPr/>
          <p:nvPr/>
        </p:nvPicPr>
        <p:blipFill>
          <a:blip r:embed="rId5"/>
          <a:srcRect l="10984" t="0" r="7008" b="0"/>
          <a:stretch/>
        </p:blipFill>
        <p:spPr>
          <a:xfrm>
            <a:off x="2987640" y="1341360"/>
            <a:ext cx="1079640" cy="144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00360" y="29242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ambul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50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Ba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>
            <a:hlinkClick r:id="rId6"/>
          </p:cNvPr>
          <p:cNvPicPr/>
          <p:nvPr/>
        </p:nvPicPr>
        <p:blipFill>
          <a:blip r:embed="rId7"/>
          <a:srcRect l="24474" t="0" r="14508" b="0"/>
          <a:stretch/>
        </p:blipFill>
        <p:spPr>
          <a:xfrm>
            <a:off x="6443640" y="1341360"/>
            <a:ext cx="1171440" cy="1440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00720" y="2924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Tío Geor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8"/>
          </p:cNvPr>
          <p:cNvPicPr/>
          <p:nvPr/>
        </p:nvPicPr>
        <p:blipFill>
          <a:blip r:embed="rId9"/>
          <a:srcRect l="16910" t="0" r="11310" b="0"/>
          <a:stretch/>
        </p:blipFill>
        <p:spPr>
          <a:xfrm>
            <a:off x="4859280" y="3789360"/>
            <a:ext cx="1168560" cy="122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00720" y="508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usiness tr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rcRect l="7015" t="0" r="19315" b="0"/>
          <a:stretch/>
        </p:blipFill>
        <p:spPr>
          <a:xfrm>
            <a:off x="4788000" y="1341360"/>
            <a:ext cx="917640" cy="1295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4520" y="285264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troma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parlamentoantiguo.jpg"/>
          <p:cNvPicPr/>
          <p:nvPr/>
        </p:nvPicPr>
        <p:blipFill>
          <a:blip r:embed="rId11"/>
          <a:srcRect l="30210" t="8378" r="33543" b="8090"/>
          <a:stretch/>
        </p:blipFill>
        <p:spPr>
          <a:xfrm>
            <a:off x="6516720" y="3716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59600" y="508464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as peru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1116000" y="3860640"/>
            <a:ext cx="2664000" cy="109872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2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ffff"/>
                </a:solidFill>
                <a:latin typeface="Calibri"/>
              </a:rPr>
              <a:t>Los  mil ofici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3394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Ex ministra comercio exterior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Ex ministra de producció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Ministra de Economí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197000"/>
            <a:ext cx="1513080" cy="164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rcRect l="11908" t="0" r="10048" b="0"/>
          <a:stretch/>
        </p:blipFill>
        <p:spPr>
          <a:xfrm>
            <a:off x="5435640" y="1125360"/>
            <a:ext cx="1627200" cy="165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2997360"/>
            <a:ext cx="3394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Ex ministro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Embajador en Ital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Ministro de Defen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rcRect l="16449" t="20473" r="12900" b="20473"/>
          <a:stretch/>
        </p:blipFill>
        <p:spPr>
          <a:xfrm>
            <a:off x="2411280" y="4005360"/>
            <a:ext cx="3961080" cy="221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00360" y="630864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Tanque Chino blind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randomBa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ffff"/>
                </a:solidFill>
                <a:latin typeface="Calibri"/>
              </a:rPr>
              <a:t>Al fondo hay sit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………</a:t>
            </a: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.pero al fondo del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jtrashy3.gif (3988 bytes)"/>
          <p:cNvPicPr/>
          <p:nvPr/>
        </p:nvPicPr>
        <p:blipFill>
          <a:blip r:embed="rId2"/>
          <a:stretch/>
        </p:blipFill>
        <p:spPr>
          <a:xfrm>
            <a:off x="4572000" y="2997360"/>
            <a:ext cx="4248000" cy="2125440"/>
          </a:xfrm>
          <a:prstGeom prst="rect">
            <a:avLst/>
          </a:prstGeom>
          <a:ln w="0">
            <a:noFill/>
          </a:ln>
        </p:spPr>
      </p:pic>
    </p:spTree>
  </p:cSld>
  <p:transition advTm="10000">
    <p:randomBa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335736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00"/>
                </a:solidFill>
                <a:latin typeface="Calibri"/>
              </a:rPr>
              <a:t>¡ VAMOS A HACER UNA 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Calibri"/>
              </a:rPr>
              <a:t>HOGUERA VIRTUAL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5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MO ES PELIGROSO QUEMAR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DEMAS  QUE   CONTAMINAMOS 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3000">
    <p:randomBar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fire_1.gif (3050 bytes)"/>
          <p:cNvPicPr/>
          <p:nvPr/>
        </p:nvPicPr>
        <p:blipFill>
          <a:blip r:embed="rId2"/>
          <a:stretch/>
        </p:blipFill>
        <p:spPr>
          <a:xfrm>
            <a:off x="1476360" y="765000"/>
            <a:ext cx="6264360" cy="4724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CHEN A LOS QUE QUIEREN QUEM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527364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SO SI,  AL MAS GORDO LO ECHAN AL  ULTIM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La grasa reaviva el fuego y podemos ocasionar un incendio de proporciones en toda la web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6000">
    <p:randomBar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21:52:43Z</dcterms:created>
  <dc:creator/>
  <dc:description/>
  <dc:language>en-US</dc:language>
  <cp:lastModifiedBy>Ada Gamarra</cp:lastModifiedBy>
  <dcterms:modified xsi:type="dcterms:W3CDTF">2009-12-28T13:08:52Z</dcterms:modified>
  <cp:revision>26</cp:revision>
  <dc:subject/>
  <dc:title>al fondo</dc:title>
</cp:coreProperties>
</file>