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Ernesto-Cortazar-Ave-Maria.wav" ContentType="audio/x-wav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693-FF16-4B1D-8084-A562240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30D-BF2B-4F87-8E2A-D651294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5DF-AB52-411A-8357-5589D9BE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1A4-EAE2-4AB2-BDC1-DFBD92C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0A3-490B-4FD0-A0CE-9DFD0AC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8A6-5748-4023-8534-E97FE20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C5E-9ED0-45FE-9953-E281EA2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199-EC6A-46D0-9A93-5FD84238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0C4-42B2-4A53-9E5F-940A5B09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977-C80A-4E56-A454-CE090B0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337-96E5-47A0-971C-563CA38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81A-DFAC-4838-8FFB-B5A1390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3006-4317-42F2-A1B3-C1CF03DC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Ernesto-Cortazar-Ave-Mari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324036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92720" y="47628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2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oudy Old Style"/>
              </a:rPr>
              <a:t>LAS CUATROS CATED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99308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005360"/>
            <a:ext cx="799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068640"/>
            <a:ext cx="799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476280"/>
            <a:ext cx="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49360"/>
            <a:ext cx="0" cy="244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005360"/>
            <a:ext cx="0" cy="251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4076640"/>
            <a:ext cx="0" cy="244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Ernesto-Cortazar-Ave-Mari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285264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construida en 1801-18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 una de las  obras maestras de la arquit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rusa del siglo I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Desde 1932 se alojo en la catedral el Museo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Historia de la Religión y el Ateismo, a pes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to se pudo conserva el interior de la cated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Actualmente el edificio fue devuelto a la igle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VIRGEN DE KA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069920"/>
            <a:ext cx="8785440" cy="503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759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2120" y="2781360"/>
            <a:ext cx="912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 un monumento magnifico de bajo barroco rus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edificada en 1753-17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 catedral tiene dos pisos, esta decorada 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molduras y columnas de orden corint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 combinación de columnas blancas, fac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azules y cúpulas doradas aporta pompos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solem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SAN NIC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DE LOS MAR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032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13800" cy="507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SAN PETERSBURG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RU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38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oudy Old Style"/>
              </a:rPr>
              <a:t>BEATRIZ PRESENTACIONES – JUNÍN- BUENOS AIRES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44040" cy="420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0228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164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17068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28160" y="2781360"/>
            <a:ext cx="959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erigida en 1883-1907, como templo-mon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n el lugar del asesinato del zar ruso Alejandro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s fachadas están revestidas con baldosas, azule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y ladrillos esmalt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n el interior se usaron mármoles italianos y pied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Semipreciosas ru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SAN SALV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SOBR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SANGRE DERRA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35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058760"/>
            <a:ext cx="8569440" cy="50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408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61080" cy="5043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069920"/>
            <a:ext cx="8713800" cy="503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119240"/>
            <a:ext cx="8713800" cy="482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ATRIZ PRESENTACIONES – JUNÍN – BUENOS AIRES – ARGENTINA</a:t>
            </a:r>
            <a:br>
              <a:rPr sz="2000"/>
            </a:br>
            <a:fld id="{900D08A4-3446-4FC4-A4A8-DC94D826CB68}" type="datetime3">
              <a:rPr b="1" lang="en-US" sz="2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br>
              <a:rPr sz="2000"/>
            </a:br>
            <a:fld id="{EAED24EB-DDDA-4513-B581-2A28632AAE79}" type="datetime10">
              <a:rPr b="1" lang="en-US" sz="2000" spc="-1" strike="noStrike">
                <a:solidFill>
                  <a:srgbClr val="ffffff"/>
                </a:solidFill>
                <a:latin typeface="Arial"/>
              </a:rPr>
              <a:t>17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234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052640"/>
            <a:ext cx="801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Levantada sobre 44 islas unidas por 50 canales y ríos, San Petersburgo se encuentra situada a 80 Km. del ártic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Fría, pero al mismo tiempo imponente, magnifica e imp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Una ciudad que sobresale por su elegancia, lo primero que se nos viene a la cabeza  que : es bella, serena, cautivadora, adjetivos para una ciudad hecha realidad a partir del sueño de un zar: Pedro I El Gra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El centro de la ciudad es considerado, por la UNESCO, Patrimonio de la Huma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N PETERS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36880" y="3213000"/>
            <a:ext cx="97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La Catedral de San Isaac, situada a pocos minutos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plaza del Hermitage, es una de las iglesia ortodoxa más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de Ru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Fue fundada por orden del Zar Pedro el Grande en el año 17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9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CATEDRAL DE SAN ISA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1:59:48Z</dcterms:created>
  <dc:creator/>
  <dc:description/>
  <dc:language>en-US</dc:language>
  <cp:lastModifiedBy>Gustavo</cp:lastModifiedBy>
  <dcterms:modified xsi:type="dcterms:W3CDTF">2008-08-31T10:50:16Z</dcterms:modified>
  <cp:revision>0</cp:revision>
  <dc:subject/>
  <dc:title/>
</cp:coreProperties>
</file>