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Ernesto-Cortazar-Ave-Maria.wav" ContentType="audio/x-wav"/>
  <Override PartName="/ppt/media/image26.gif" ContentType="image/gif"/>
  <Override PartName="/ppt/media/image20.jpeg" ContentType="image/jpeg"/>
  <Override PartName="/ppt/media/image1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86B3-D230-4185-95FC-4E03405E4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3D9C-BCC0-4BA2-87BF-D0DD2472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DA96-C5E7-41C8-B868-76F383288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B658-B097-42C3-837F-D7C601F83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05B5-0920-4519-AB36-7607E875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BAF7-0511-4A17-B27F-09445622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D5C1-ED0A-4AEC-A8BF-E132BDC1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AF56-6A11-42DF-B405-4BE15E73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91E0-7E9A-492E-B486-02BC467D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E93C-764C-4C6E-B3DB-AB4FF0D6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7BA3-90AA-452D-91ED-00B5B226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08F7-BEBD-4F68-A424-FB411C6A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8E00-B980-439F-B0F6-F634FFFEB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../media/Ernesto-Cortazar-Ave-Maria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384360" cy="2592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11280" y="4005360"/>
            <a:ext cx="3313080" cy="2519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364000" y="4005360"/>
            <a:ext cx="3240360" cy="2519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292720" y="476280"/>
            <a:ext cx="3313080" cy="2592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3213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oudy Old Style"/>
              </a:rPr>
              <a:t>LAS CUATROS CATEDR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476280"/>
            <a:ext cx="7993080" cy="604836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4005360"/>
            <a:ext cx="79930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3068640"/>
            <a:ext cx="79930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95640" y="476280"/>
            <a:ext cx="0" cy="2592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92720" y="549360"/>
            <a:ext cx="0" cy="244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4005360"/>
            <a:ext cx="0" cy="2519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64000" y="4076640"/>
            <a:ext cx="0" cy="244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5" name="Ernesto-Cortazar-Ave-Mari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71640" y="2852640"/>
            <a:ext cx="7920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oudy Old Style"/>
              </a:rPr>
              <a:t>Fue construida en 1801-18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oudy Old Style"/>
              </a:rPr>
              <a:t>Es una de las  obras maestras de la arquite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oudy Old Style"/>
              </a:rPr>
              <a:t>rusa del siglo IX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oudy Old Style"/>
              </a:rPr>
              <a:t>Desde 1932 se alojo en la catedral el Museo de 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oudy Old Style"/>
              </a:rPr>
              <a:t>Historia de la Religión y el Ateismo, a pesar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oudy Old Style"/>
              </a:rPr>
              <a:t>esto se pudo conserva el interior de la cated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oudy Old Style"/>
              </a:rPr>
              <a:t>Actualmente el edificio fue devuelto a la igles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836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oudy Old Style"/>
              </a:rPr>
              <a:t>LA CATEDRAL DE 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oudy Old Style"/>
              </a:rPr>
              <a:t>VIRGEN DE KAZ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9280" y="1069920"/>
            <a:ext cx="8785440" cy="5033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759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2120" y="2781360"/>
            <a:ext cx="9126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oudy Old Style"/>
              </a:rPr>
              <a:t>Es un monumento magnifico de bajo barroco rus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oudy Old Style"/>
              </a:rPr>
              <a:t>fue edificada en 1753-176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oudy Old Style"/>
              </a:rPr>
              <a:t>La catedral tiene dos pisos, esta decorada c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oudy Old Style"/>
              </a:rPr>
              <a:t>molduras y columnas de orden corinti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oudy Old Style"/>
              </a:rPr>
              <a:t>La combinación de columnas blancas, fach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oudy Old Style"/>
              </a:rPr>
              <a:t>azules y cúpulas doradas aporta pomposidad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oudy Old Style"/>
              </a:rPr>
              <a:t>solemn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549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oudy Old Style"/>
              </a:rPr>
              <a:t>LA CATEDRAL DE SAN NICO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oudy Old Style"/>
              </a:rPr>
              <a:t>DE LOS MARIN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785440" cy="5032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713800" cy="5070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oudy Old Style"/>
              </a:rPr>
              <a:t>SAN PETERSBURGO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oudy Old Style"/>
              </a:rPr>
              <a:t>RU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238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oudy Old Style"/>
              </a:rPr>
              <a:t>BEATRIZ PRESENTACIONES – JUNÍN- BUENOS AIRES -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944040" cy="4209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02280" cy="6858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216400" cy="6858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170680" cy="6858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-128160" y="2781360"/>
            <a:ext cx="9599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oudy Old Style"/>
              </a:rPr>
              <a:t>Fue erigida en 1883-1907, como templo-monu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oudy Old Style"/>
              </a:rPr>
              <a:t>en el lugar del asesinato del zar ruso Alejandro 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oudy Old Style"/>
              </a:rPr>
              <a:t>Las fachadas están revestidas con baldosas, azulej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oudy Old Style"/>
              </a:rPr>
              <a:t>y ladrillos esmalta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oudy Old Style"/>
              </a:rPr>
              <a:t>En el interior se usaron mármoles italianos y piedr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oudy Old Style"/>
              </a:rPr>
              <a:t>Semipreciosas rus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8366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oudy Old Style"/>
              </a:rPr>
              <a:t>LA CATEDRAL DE SAN SALV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oudy Old Style"/>
              </a:rPr>
              <a:t>SOBRE 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oudy Old Style"/>
              </a:rPr>
              <a:t>SANGRE DERRAM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642160" cy="5354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713800" cy="5472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713800" cy="5472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95280" y="1058760"/>
            <a:ext cx="8569440" cy="5058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713800" cy="5408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461080" cy="50436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0920" y="1069920"/>
            <a:ext cx="8713800" cy="5033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1119240"/>
            <a:ext cx="8713800" cy="4824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22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ATRIZ PRESENTACIONES – JUNÍN – BUENOS AIRES – ARGENTINA</a:t>
            </a:r>
            <a:br>
              <a:rPr sz="2000"/>
            </a:br>
            <a:fld id="{CE04992B-E9EC-4265-B0B8-34340200A882}" type="datetime3">
              <a:rPr b="1" lang="en-US" sz="2000" spc="-1" strike="noStrike">
                <a:solidFill>
                  <a:srgbClr val="ffffff"/>
                </a:solidFill>
                <a:latin typeface="Arial"/>
              </a:rPr>
              <a:t>July 29, 2026</a:t>
            </a:fld>
            <a:br>
              <a:rPr sz="2000"/>
            </a:br>
            <a:fld id="{5050EC60-AAC9-49E6-A7FF-92C4C1523047}" type="datetime10">
              <a:rPr b="1" lang="en-US" sz="2000" spc="-1" strike="noStrike">
                <a:solidFill>
                  <a:srgbClr val="ffffff"/>
                </a:solidFill>
                <a:latin typeface="Arial"/>
              </a:rPr>
              <a:t>07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234120" cy="2513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1052640"/>
            <a:ext cx="801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oudy Old Style"/>
              </a:rPr>
              <a:t>Levantada sobre 44 islas unidas por 50 canales y ríos, San Petersburgo se encuentra situada a 80 Km. del ártico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oudy Old Style"/>
              </a:rPr>
              <a:t>Fría, pero al mismo tiempo imponente, magnifica e imp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oudy Old Style"/>
              </a:rPr>
              <a:t>Una ciudad que sobresale por su elegancia, lo primero que se nos viene a la cabeza  que : es bella, serena, cautivadora, adjetivos para una ciudad hecha realidad a partir del sueño de un zar: Pedro I El Gran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oudy Old Style"/>
              </a:rPr>
              <a:t>El centro de la ciudad es considerado, por la UNESCO, Patrimonio de la Human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N PETERSBUR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236880" y="3213000"/>
            <a:ext cx="978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oudy Old Style"/>
              </a:rPr>
              <a:t>La Catedral de San Isaac, situada a pocos minutos d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oudy Old Style"/>
              </a:rPr>
              <a:t>plaza del Hermitage, es una de las iglesia ortodoxa más gr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oudy Old Style"/>
              </a:rPr>
              <a:t>de Rus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oudy Old Style"/>
              </a:rPr>
              <a:t>Fue fundada por orden del Zar Pedro el Grande en el año 17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98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oudy Old Style"/>
              </a:rPr>
              <a:t>CATEDRAL DE SAN ISAA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01:59:48Z</dcterms:created>
  <dc:creator/>
  <dc:description/>
  <dc:language>en-US</dc:language>
  <cp:lastModifiedBy>Gustavo</cp:lastModifiedBy>
  <dcterms:modified xsi:type="dcterms:W3CDTF">2008-08-31T10:50:16Z</dcterms:modified>
  <cp:revision>0</cp:revision>
  <dc:subject/>
  <dc:title/>
</cp:coreProperties>
</file>