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PLUGIN.WAV" ContentType="audio/x-wav"/>
  <Override PartName="/ppt/media/chimes.wav" ContentType="audio/x-wav"/>
  <Override PartName="/ppt/media/image6.jpeg" ContentType="image/jpeg"/>
  <Override PartName="/ppt/media/image14.jpeg" ContentType="image/jpeg"/>
  <Override PartName="/ppt/media/image2.png" ContentType="image/png"/>
  <Override PartName="/ppt/media/9CorQui%20tollis%20peccata%20mundiw.wav" ContentType="audio/x-wav"/>
  <Override PartName="/ppt/media/image13.jpeg" ContentType="image/jpeg"/>
  <Override PartName="/ppt/media/image4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31C-AD6E-40F3-9F3B-A45D376B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A07A-C027-4CEC-A177-E611BBDC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0EF-6F6C-496B-B02A-E5019AE1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522-7D4F-4D59-A5B5-F95FEB5E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348-22F6-4538-B925-423905CE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DAA-B49A-43C1-8C2E-3F32FA54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72E-5AF8-40ED-97CC-3BDCE495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624-A513-41B5-A866-EDDD5B4C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057-5EE1-4030-8B97-D46EF199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207-CF1A-48A0-BEE0-12CEBE0F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3C0-99B1-460F-AB83-AEB53139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03F-1474-4430-A532-686E4BAC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DFF7-8236-4CA0-81F5-23609D23D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9CorQui%20tollis%20peccata%20mundi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chimes.wav"/><Relationship Id="rId10" Type="http://schemas.openxmlformats.org/officeDocument/2006/relationships/audio" Target="../media/PLUGIN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9 Imagen" descr="resized_Arbel78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7"/>
          <p:cNvSpPr/>
          <p:nvPr/>
        </p:nvSpPr>
        <p:spPr>
          <a:xfrm>
            <a:off x="7328880" y="160200"/>
            <a:ext cx="1599480" cy="627480"/>
          </a:xfrm>
          <a:prstGeom prst="rect">
            <a:avLst/>
          </a:prstGeom>
          <a:solidFill>
            <a:srgbClr val="ddeaa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Galil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1214280" y="0"/>
            <a:ext cx="607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Escuchemos con devoción “qui tollis peccata mundi” de Ba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571680" y="1000080"/>
            <a:ext cx="701172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b61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b61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94400" y="257184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b3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0" y="335772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db32d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db32d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1214280" y="5786280"/>
            <a:ext cx="7012080" cy="76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eaa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deaa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WordArt 8"/>
          <p:cNvSpPr txBox="1"/>
          <p:nvPr/>
        </p:nvSpPr>
        <p:spPr>
          <a:xfrm>
            <a:off x="1143000" y="100008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782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 1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d782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94400" y="257184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500040" y="3357720"/>
            <a:ext cx="82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b61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b61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WordArt 12"/>
          <p:cNvSpPr txBox="1"/>
          <p:nvPr/>
        </p:nvSpPr>
        <p:spPr>
          <a:xfrm>
            <a:off x="1143000" y="5715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142920" y="47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2d050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42920" y="4857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3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3" name="9CorQui%20tollis%20peccata%20mundi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15" dur="1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17" dur="8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9" dur="1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21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23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228600" y="214200"/>
            <a:ext cx="8686800" cy="64947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 ver esto, el fariseo que lo había invitado se dijo: "Si este fuera profeta, sabría quién es esta mujer que lo está tocando y lo que es: una pecadora.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4 Imagen" descr="magdala_sinagoga2t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533680" y="0"/>
            <a:ext cx="6610320" cy="6305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71280" y="6072120"/>
            <a:ext cx="8844120" cy="62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</a:rPr>
              <a:t>Ella hace del perdón un culto sagrad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42920" y="142920"/>
            <a:ext cx="2928960" cy="2714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El fariseo hace del culto un privilegi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71280" y="4143240"/>
            <a:ext cx="2286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De la sinagoga (Magdala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142920" y="380880"/>
            <a:ext cx="9001080" cy="618984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tomó la palabra y le dijo: "Simón, tengo algo que decirte." Él respondió: "Dímelo, maestro." Jesús le dijo: "Un prestamista tenía dos deudores; uno le debía quinientos denarios y el otro cincuenta. Como no tenían con qué pagar, los perdonó a los dos. ¿Cuál de los dos lo amará más?" Simón contesto: "Supongo que aquel a quien le perdonó más." Jesús le dijo: "Has juzgado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ctamente."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5 Imagen" descr="Imagen3FraA.jpg"/>
          <p:cNvPicPr/>
          <p:nvPr/>
        </p:nvPicPr>
        <p:blipFill>
          <a:blip r:embed="rId2"/>
          <a:stretch/>
        </p:blipFill>
        <p:spPr>
          <a:xfrm>
            <a:off x="2571840" y="1714680"/>
            <a:ext cx="6286320" cy="5000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42920" y="357120"/>
            <a:ext cx="2286000" cy="472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Unicode MS"/>
              </a:rPr>
              <a:t>Y el misterio de una fidelidad que va más allá de la muer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71840" y="214200"/>
            <a:ext cx="6500880" cy="1922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 conté la historia del que AMA, porque se sabe perdon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380880" y="152280"/>
            <a:ext cx="8501040" cy="649620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, volviéndose a la mujer, dijo a Simón: "¿Ves a esta mujer? Cuando yo entré en tu casa, no me pusiste agua para los pies; ella, en cambio, me ha lavado los pies con sus lágrimas y me los ha enjugado con su pelo. Tú no me besaste; ella, en cambio, desde que entró, no ha dejado de besarme los pies. Tú no me ungiste la cabeza con ungüento; ella, en cambio, me ha ungido los pies con perfume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7 Imagen" descr="cristRupnik11w.jpg"/>
          <p:cNvPicPr/>
          <p:nvPr/>
        </p:nvPicPr>
        <p:blipFill>
          <a:blip r:embed="rId2"/>
          <a:stretch/>
        </p:blipFill>
        <p:spPr>
          <a:xfrm>
            <a:off x="928800" y="857160"/>
            <a:ext cx="6643440" cy="6000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71280" y="77760"/>
            <a:ext cx="614376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 sintió Mi BON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572000" y="5688000"/>
            <a:ext cx="4572000" cy="11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</a:rPr>
              <a:t>Es Cristo quien vive en mi </a:t>
            </a:r>
            <a:r>
              <a:rPr b="1" lang="en-US" sz="3500" spc="-1" strike="noStrike">
                <a:solidFill>
                  <a:srgbClr val="fa620e"/>
                </a:solidFill>
                <a:latin typeface="Arial Unicode MS"/>
              </a:rPr>
              <a:t>(2a lectura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380880" y="42840"/>
            <a:ext cx="8763120" cy="681480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r eso te digo: sus muchos pecados están perdonados, porque tiene mucho amor; pero al que poco se le perdona, poco ama." 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75" descr="C:\Documents and Settings\st benet\Mis documentos\Mis imágenes\bíblics\sepul-cru-resu\resized_resumagcw.jpg"/>
          <p:cNvPicPr/>
          <p:nvPr/>
        </p:nvPicPr>
        <p:blipFill>
          <a:blip r:embed="rId2"/>
          <a:stretch/>
        </p:blipFill>
        <p:spPr>
          <a:xfrm>
            <a:off x="4071960" y="0"/>
            <a:ext cx="47800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0" y="4267080"/>
            <a:ext cx="40719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Porque el AMOR nunca se aca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762120" y="1371600"/>
            <a:ext cx="2857320" cy="25318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El perdón fue encuentropasc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228600" y="152280"/>
            <a:ext cx="8610480" cy="667440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a ella le dijo: "Tus pecados están perdonados." Los demás invitados empezaron a decir entre sí: "¿Quién es éste, que hasta perdona pecados?" Pero Jesús dijo a la mujer: "Tu fe te ha salvado, vete en paz."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5 Imagen" descr="Tamie1t.jpg"/>
          <p:cNvPicPr/>
          <p:nvPr/>
        </p:nvPicPr>
        <p:blipFill>
          <a:blip r:embed="rId2"/>
          <a:stretch/>
        </p:blipFill>
        <p:spPr>
          <a:xfrm>
            <a:off x="2500200" y="71280"/>
            <a:ext cx="6572520" cy="6000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Text Box 4"/>
          <p:cNvSpPr/>
          <p:nvPr/>
        </p:nvSpPr>
        <p:spPr>
          <a:xfrm>
            <a:off x="3857760" y="5929200"/>
            <a:ext cx="5072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 Unicode MS"/>
              </a:rPr>
              <a:t>Esta Fe os sal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57120" y="2314440"/>
            <a:ext cx="3286080" cy="43603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La misericordia es el gran MILAGRO que os doy de parte de D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4287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  <a:ea typeface="Arial"/>
              </a:rPr>
              <a:t>Después de inaugurar su ministerio, y de haber sido rechazado por los dirigentes judíos Lc 4,16 -5,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00040" y="1643040"/>
            <a:ext cx="8072640" cy="1922400"/>
          </a:xfrm>
          <a:prstGeom prst="rect">
            <a:avLst/>
          </a:prstGeom>
          <a:solidFill>
            <a:srgbClr val="017904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cc00"/>
                </a:solidFill>
                <a:latin typeface="Arial"/>
                <a:ea typeface="Arial"/>
              </a:rPr>
              <a:t>Jesús convoca un Nuevo Pueblo, aglutinado por su PALABRA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cc00"/>
                </a:solidFill>
                <a:latin typeface="Arial"/>
                <a:ea typeface="Arial"/>
              </a:rPr>
              <a:t>Lc 5,12 – 6,21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28760" y="4000680"/>
            <a:ext cx="8501040" cy="2226960"/>
          </a:xfrm>
          <a:prstGeom prst="rect">
            <a:avLst/>
          </a:prstGeom>
          <a:solidFill>
            <a:srgbClr val="ffffb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coge 12 apóstoles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 Les explica su doct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017904"/>
                </a:solidFill>
                <a:latin typeface="Arial"/>
                <a:ea typeface="Arial"/>
              </a:rPr>
              <a:t>Una pecadora y otras mujeres van con Jesús (ho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redica el secreto del Reino en una pará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Y dice que ellos son sus HERMANOS y MAD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304920" y="228600"/>
            <a:ext cx="8458200" cy="64947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spués de esto iba caminando de ciudad en ciudad y de pueblo en pueblo, predicando el Evangelio del reino de Dios;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4 Imagen" descr="gelboewt.jpg"/>
          <p:cNvPicPr/>
          <p:nvPr/>
        </p:nvPicPr>
        <p:blipFill>
          <a:blip r:embed="rId2"/>
          <a:stretch/>
        </p:blipFill>
        <p:spPr>
          <a:xfrm>
            <a:off x="0" y="214200"/>
            <a:ext cx="9144000" cy="5195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71280" y="5638680"/>
            <a:ext cx="9072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 Unicode MS"/>
              </a:rPr>
              <a:t>Mil gracias derramando pasó por estos sotos con presura” (Juan de la Cru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1280" y="104760"/>
            <a:ext cx="757260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Esta es la Buena Nueva del Reino que he pred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4876920"/>
            <a:ext cx="1857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Galil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0"/>
            <a:ext cx="8858160" cy="1312920"/>
          </a:xfrm>
          <a:prstGeom prst="rect">
            <a:avLst/>
          </a:prstGeom>
          <a:solidFill>
            <a:srgbClr val="c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ucas se fija en la presencia de las mujeres que van con Jesú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04920" y="1447920"/>
            <a:ext cx="8643960" cy="5119200"/>
          </a:xfrm>
          <a:prstGeom prst="rect">
            <a:avLst/>
          </a:prstGeom>
          <a:solidFill>
            <a:srgbClr val="ffcc66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</a:t>
            </a: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 nacimiento de Jesús es anunciado a María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Encuentro de María con Isabel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Ana en el Templo, con Simeón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La viuda de Nain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Marta y María invitan a Jesús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La pecadora unge a Jesús  </a:t>
            </a:r>
            <a:r>
              <a:rPr b="1" lang="es-ES" sz="3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hoy)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Las mujeres siguen a Jesús  </a:t>
            </a:r>
            <a:r>
              <a:rPr b="1" lang="es-ES" sz="3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hoy) 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Lamento de las mujeres camino del calvario</a:t>
            </a:r>
            <a:br>
              <a:rPr sz="3000"/>
            </a:br>
            <a:r>
              <a:rPr b="1" lang="es-ES" sz="3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        </a:t>
            </a:r>
            <a:r>
              <a:rPr b="1" lang="es-ES" sz="2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Añadido a lo que tienen los otros evangel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714240" y="571680"/>
            <a:ext cx="7848720" cy="55803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o acompañaban los Doce y algunas mujeres que él había curado de malos espíritus y enfermedades: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5 Imagen" descr="Samaritanacewc.jpg"/>
          <p:cNvPicPr/>
          <p:nvPr/>
        </p:nvPicPr>
        <p:blipFill>
          <a:blip r:embed="rId2"/>
          <a:stretch/>
        </p:blipFill>
        <p:spPr>
          <a:xfrm>
            <a:off x="1546200" y="928800"/>
            <a:ext cx="7597800" cy="5715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71280" y="928800"/>
            <a:ext cx="2671920" cy="43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Las excluidas de aquél tiempo viven la Libertad de Dio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0" y="149400"/>
            <a:ext cx="914400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También ellas siguen al Maes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152280" y="228600"/>
            <a:ext cx="8653680" cy="667764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ría la Magdalena, de la que habían salido siete demonios; Juana, mujer de Cusa, intendente de Herodes; Susana y otras muchas que le ayudaban con sus bienes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4 Imagen" descr="jesusidonest.jpg"/>
          <p:cNvPicPr/>
          <p:nvPr/>
        </p:nvPicPr>
        <p:blipFill>
          <a:blip r:embed="rId2"/>
          <a:stretch/>
        </p:blipFill>
        <p:spPr>
          <a:xfrm>
            <a:off x="3429000" y="1428840"/>
            <a:ext cx="5510160" cy="54291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357120" y="1643040"/>
            <a:ext cx="299556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El verdadero Amor no es superfi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2920" y="142920"/>
            <a:ext cx="592920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en ama descubre el corazón del o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57160" y="785880"/>
            <a:ext cx="7500960" cy="496836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Arial"/>
              </a:rPr>
              <a:t>Haz, Señor, que TODOS y TODAS sintamos tu cercanía, y que esta PROXIMIDAD nos acerque a los demá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571680" y="53578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7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5 Imagen" descr="galilea66w.jpg"/>
          <p:cNvPicPr/>
          <p:nvPr/>
        </p:nvPicPr>
        <p:blipFill>
          <a:blip r:embed="rId2"/>
          <a:stretch/>
        </p:blipFill>
        <p:spPr>
          <a:xfrm>
            <a:off x="-11501280" y="198360"/>
            <a:ext cx="32746680" cy="6516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285840" y="160200"/>
            <a:ext cx="8286840" cy="1007640"/>
          </a:xfrm>
          <a:prstGeom prst="rect">
            <a:avLst/>
          </a:prstGeom>
          <a:solidFill>
            <a:srgbClr val="29292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</a:rPr>
              <a:t>Galilea, donde Jesús reúne el Nuevo PUEB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4920" y="4495680"/>
            <a:ext cx="861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</a:rPr>
              <a:t>¿Seguimos a Jesús en la Galilea de la vida ordinar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32 -0.00393 L 1.16424 0.00648 E">
                                      <p:cBhvr>
                                        <p:cTn id="47" dur="30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228600"/>
            <a:ext cx="8501040" cy="596052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7, 36-8, 3 En aquel tiempo, un fariseo rogaba a Jesús que fuera a comer con él. Jesús, entrando en casa del fariseo, se recostó a la mesa.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14200" y="6143760"/>
            <a:ext cx="36784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stas de Magd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4" descr="C:\Documents and Settings\st benet\Mis documentos\Mis imágenes\bíblics\galilea\resized_magdalaw.jpg"/>
          <p:cNvPicPr/>
          <p:nvPr/>
        </p:nvPicPr>
        <p:blipFill>
          <a:blip r:embed="rId2"/>
          <a:stretch/>
        </p:blipFill>
        <p:spPr>
          <a:xfrm>
            <a:off x="2214720" y="71280"/>
            <a:ext cx="6929280" cy="5386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214200" y="285840"/>
            <a:ext cx="3357720" cy="49698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unque seáis “fariseos” y pecadores, quiero sentarme en vuestra me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42920" y="5484960"/>
            <a:ext cx="6500880" cy="122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¿Por qué ponéis distancias entre vosotros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152280"/>
            <a:ext cx="8915400" cy="667764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una mujer de la ciudad, una pecadora, al enterarse de que estaba comiendo en casa del fariseo, vino con un frasco de perfume y, colocándose detrás junto a sus pies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6" descr="C:\Documents and Settings\st benet\Mis documentos\Mis imágenes\20060203163516.jpg"/>
          <p:cNvPicPr/>
          <p:nvPr/>
        </p:nvPicPr>
        <p:blipFill>
          <a:blip r:embed="rId2"/>
          <a:stretch/>
        </p:blipFill>
        <p:spPr>
          <a:xfrm>
            <a:off x="214200" y="166680"/>
            <a:ext cx="2820960" cy="5334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3571920" y="2089080"/>
            <a:ext cx="4929120" cy="25318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 fariseo no ve su pecado, ella llora el propio derramando el mejor PERFU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714680" y="5105520"/>
            <a:ext cx="72151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 te acusas, Dios pasa por alto tu pecado </a:t>
            </a:r>
            <a:r>
              <a:rPr b="1" lang="en-US" sz="4000" spc="-1" strike="noStrike">
                <a:solidFill>
                  <a:srgbClr val="fa620e"/>
                </a:solidFill>
                <a:latin typeface="Arial"/>
              </a:rPr>
              <a:t>(1a lectu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8120" y="357120"/>
            <a:ext cx="5881680" cy="62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Jarrita de alabastro del s.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04920" y="142920"/>
            <a:ext cx="8610480" cy="64947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lorando, se puso a regarle los pies con sus lágrimas, se los enjugaba con sus cabellos, los cubría de besos y se los ungía con el perfume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5 Imagen" descr="cornouRupnik15wtw.jpg"/>
          <p:cNvPicPr/>
          <p:nvPr/>
        </p:nvPicPr>
        <p:blipFill>
          <a:blip r:embed="rId2"/>
          <a:stretch/>
        </p:blipFill>
        <p:spPr>
          <a:xfrm>
            <a:off x="2928960" y="71280"/>
            <a:ext cx="6000840" cy="6667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142920" y="1643040"/>
            <a:ext cx="29811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Feliz de sentirse perdonado </a:t>
            </a:r>
            <a:r>
              <a:rPr b="1" lang="en-US" sz="4000" spc="-1" strike="noStrike">
                <a:solidFill>
                  <a:srgbClr val="fa620e"/>
                </a:solidFill>
                <a:latin typeface="Arial Unicode MS"/>
              </a:rPr>
              <a:t>(salm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1280" y="142920"/>
            <a:ext cx="621540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 mal se vuelve en ella un CORAZÓN nue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Usuario</cp:lastModifiedBy>
  <dcterms:modified xsi:type="dcterms:W3CDTF">2010-06-08T14:26:25Z</dcterms:modified>
  <cp:revision>205</cp:revision>
  <dc:subject>stbenet@benedictinescat.com</dc:subject>
  <dc:title>evangelio</dc:title>
</cp:coreProperties>
</file>