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PLUGIN.WAV" ContentType="audio/x-wav"/>
  <Override PartName="/ppt/media/chimes.wav" ContentType="audio/x-wav"/>
  <Override PartName="/ppt/media/image6.jpeg" ContentType="image/jpeg"/>
  <Override PartName="/ppt/media/image14.jpeg" ContentType="image/jpeg"/>
  <Override PartName="/ppt/media/image2.png" ContentType="image/png"/>
  <Override PartName="/ppt/media/9CorQui%20tollis%20peccata%20mundiw.wav" ContentType="audio/x-wav"/>
  <Override PartName="/ppt/media/image13.jpeg" ContentType="image/jpeg"/>
  <Override PartName="/ppt/media/image4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074-AECE-4BE5-8A26-34945383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876-BE36-4487-9110-23F6974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680-126E-472D-9098-FAD1F52C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EE9-E895-4842-8D43-60E9ACFD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B9C-F58F-416A-B300-2B8F040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69B-ADC8-48AB-ADB9-6593D9FA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FB3-9C6F-457A-A706-14DA1F7C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E1F-BB34-4EEE-BDEB-F29B81B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424-70F8-41AD-ACA4-575B3A7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FD7-2B1D-4549-A382-AAF1722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D4A-73CA-40A6-9296-ECC11B8B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EFA-E912-40FE-A23C-B62CAAA4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EEE3-0DF1-4907-B969-DF9370D19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9CorQui%20tollis%20peccata%20mundi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1214280" y="0"/>
            <a:ext cx="607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scuchemos con devoción “qui tollis peccata mundi” de Ba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571680" y="100008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4400" y="257184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1143000" y="10000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782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782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94400" y="257184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9CorQui%20tollis%20peccata%20mund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15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17" dur="8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9" dur="1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1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3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228600" y="214200"/>
            <a:ext cx="868680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ver esto, el fariseo que lo había invitado se dijo: "Si este fuera profeta, sabría quién es esta mujer que lo está tocando y lo que es: una pecadora.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4 Imagen" descr="magdala_sinagoga2t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533680" y="0"/>
            <a:ext cx="6610320" cy="6305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71280" y="6072120"/>
            <a:ext cx="884412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Ella hace del perdón un culto sagrad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2920" y="142920"/>
            <a:ext cx="2928960" cy="2714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El fariseo hace del culto un privilegi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1280" y="4143240"/>
            <a:ext cx="2286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De la sinagoga (Magdal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42920" y="380880"/>
            <a:ext cx="9001080" cy="61898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tomó la palabra y le dijo: "Simón, tengo algo que decirte." Él respondió: "Dímelo, maestro." Jesús le dijo: "Un prestamista tenía dos deudores; uno le debía quinientos denarios y el otro cincuenta. Como no tenían con qué pagar, los perdonó a los dos. ¿Cuál de los dos lo amará más?" Simón contesto: "Supongo que aquel a quien le perdonó más." Jesús le dijo: "Has juzgado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ctamente."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5 Imagen" descr="Imagen3FraA.jpg"/>
          <p:cNvPicPr/>
          <p:nvPr/>
        </p:nvPicPr>
        <p:blipFill>
          <a:blip r:embed="rId2"/>
          <a:stretch/>
        </p:blipFill>
        <p:spPr>
          <a:xfrm>
            <a:off x="2571840" y="1714680"/>
            <a:ext cx="6286320" cy="5000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2920" y="357120"/>
            <a:ext cx="2286000" cy="47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Unicode MS"/>
              </a:rPr>
              <a:t>Y el misterio de una fidelidad que va más allá de la muer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71840" y="214200"/>
            <a:ext cx="650088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conté la historia del que AMA, porque se sabe perdo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80880" y="152280"/>
            <a:ext cx="8501040" cy="64962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, volviéndose a la mujer, dijo a Simón: "¿Ves a esta mujer? Cuando yo entré en tu casa, no me pusiste agua para los pies; ella, en cambio, me ha lavado los pies con sus lágrimas y me los ha enjugado con su pelo. Tú no me besaste; ella, en cambio, desde que entró, no ha dejado de besarme los pies. Tú no me ungiste la cabeza con ungüento; ella, en cambio, me ha ungido los pies con perfum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7 Imagen" descr="cristRupnik11w.jpg"/>
          <p:cNvPicPr/>
          <p:nvPr/>
        </p:nvPicPr>
        <p:blipFill>
          <a:blip r:embed="rId2"/>
          <a:stretch/>
        </p:blipFill>
        <p:spPr>
          <a:xfrm>
            <a:off x="928800" y="857160"/>
            <a:ext cx="6643440" cy="6000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1280" y="77760"/>
            <a:ext cx="61437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 sintió Mi BON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0" y="5688000"/>
            <a:ext cx="457200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Es Cristo quien vive en mi </a:t>
            </a:r>
            <a:r>
              <a:rPr b="1" lang="en-US" sz="3500" spc="-1" strike="noStrike">
                <a:solidFill>
                  <a:srgbClr val="fa620e"/>
                </a:solidFill>
                <a:latin typeface="Arial Unicode MS"/>
              </a:rPr>
              <a:t>(2a lectur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80880" y="42840"/>
            <a:ext cx="8763120" cy="6814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 eso te digo: sus muchos pecados están perdonados, porque tiene mucho amor; pero al que poco se le perdona, poco ama." 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5" descr="C:\Documents and Settings\st benet\Mis documentos\Mis imágenes\bíblics\sepul-cru-resu\resized_resumagcw.jpg"/>
          <p:cNvPicPr/>
          <p:nvPr/>
        </p:nvPicPr>
        <p:blipFill>
          <a:blip r:embed="rId2"/>
          <a:stretch/>
        </p:blipFill>
        <p:spPr>
          <a:xfrm>
            <a:off x="4071960" y="0"/>
            <a:ext cx="4780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0" y="4267080"/>
            <a:ext cx="40719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Porque el AMOR nunca se aca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1371600"/>
            <a:ext cx="285732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l perdón fue encuentropasc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28600" y="152280"/>
            <a:ext cx="8610480" cy="66744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a ella le dijo: "Tus pecados están perdonados." Los demás invitados empezaron a decir entre sí: "¿Quién es éste, que hasta perdona pecados?" Pero Jesús dijo a la mujer: "Tu fe te ha salvado, vete en paz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5 Imagen" descr="Tamie1t.jpg"/>
          <p:cNvPicPr/>
          <p:nvPr/>
        </p:nvPicPr>
        <p:blipFill>
          <a:blip r:embed="rId2"/>
          <a:stretch/>
        </p:blipFill>
        <p:spPr>
          <a:xfrm>
            <a:off x="2500200" y="71280"/>
            <a:ext cx="657252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3857760" y="5929200"/>
            <a:ext cx="5072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 Unicode MS"/>
              </a:rPr>
              <a:t>Esta Fe os sal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57120" y="2314440"/>
            <a:ext cx="328608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La misericordia es el gran MILAGRO que os doy de parte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4287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  <a:ea typeface="Arial"/>
              </a:rPr>
              <a:t>Después de inaugurar su ministerio, y de haber sido rechazado por los dirigentes judíos Lc 4,16 -5,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00040" y="1643040"/>
            <a:ext cx="8072640" cy="1922400"/>
          </a:xfrm>
          <a:prstGeom prst="rect">
            <a:avLst/>
          </a:prstGeom>
          <a:solidFill>
            <a:srgbClr val="017904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cc00"/>
                </a:solidFill>
                <a:latin typeface="Arial"/>
                <a:ea typeface="Arial"/>
              </a:rPr>
              <a:t>Jesús convoca un Nuevo Pueblo, aglutinado por su PALABR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cc00"/>
                </a:solidFill>
                <a:latin typeface="Arial"/>
                <a:ea typeface="Arial"/>
              </a:rPr>
              <a:t>Lc 5,12 – 6,21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8760" y="4000680"/>
            <a:ext cx="8501040" cy="222696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coge 12 apósto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Les explica su doc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17904"/>
                </a:solidFill>
                <a:latin typeface="Arial"/>
                <a:ea typeface="Arial"/>
              </a:rPr>
              <a:t>Una pecadora y otras mujeres van con Jesús (ho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edica el secreto del Reino en una pará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Y dice que ellos son sus HERMANOS y MAD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04920" y="228600"/>
            <a:ext cx="845820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pués de esto iba caminando de ciudad en ciudad y de pueblo en pueblo, predicando el Evangelio del reino de Dios;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4 Imagen" descr="gelboewt.jpg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5195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1280" y="5638680"/>
            <a:ext cx="907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 Unicode MS"/>
              </a:rPr>
              <a:t>Mil gracias derramando pasó por estos sotos con presura” (Juan de la Cru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1280" y="104760"/>
            <a:ext cx="75726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sta es la Buena Nueva del Reino que he pred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4876920"/>
            <a:ext cx="1857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8858160" cy="1312920"/>
          </a:xfrm>
          <a:prstGeom prst="rect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ucas se fija en la presencia de las mujeres que van con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4920" y="1447920"/>
            <a:ext cx="8643960" cy="5119200"/>
          </a:xfrm>
          <a:prstGeom prst="rect">
            <a:avLst/>
          </a:prstGeom>
          <a:solidFill>
            <a:srgbClr val="ffcc66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nacimiento de Jesús es anunciado a María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Encuentro de María con Isabel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Ana en el Templo, con Simeón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 viuda de Nain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Marta y María invitan a Jesús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 pecadora unge a Jesús  </a:t>
            </a:r>
            <a:r>
              <a:rPr b="1" lang="es-ES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hoy)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s mujeres siguen a Jesús  </a:t>
            </a:r>
            <a:r>
              <a:rPr b="1" lang="es-ES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hoy)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mento de las mujeres camino del calvario</a:t>
            </a:r>
            <a:br>
              <a:rPr sz="3000"/>
            </a:br>
            <a:r>
              <a:rPr b="1" lang="es-ES" sz="3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        </a:t>
            </a:r>
            <a:r>
              <a:rPr b="1" lang="es-ES" sz="2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Añadido a lo que tienen los otros evange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14240" y="571680"/>
            <a:ext cx="784872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acompañaban los Doce y algunas mujeres que él había curado de malos espíritus y enfermedades: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5 Imagen" descr="Samaritanacewc.jpg"/>
          <p:cNvPicPr/>
          <p:nvPr/>
        </p:nvPicPr>
        <p:blipFill>
          <a:blip r:embed="rId2"/>
          <a:stretch/>
        </p:blipFill>
        <p:spPr>
          <a:xfrm>
            <a:off x="1546200" y="928800"/>
            <a:ext cx="759780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71280" y="928800"/>
            <a:ext cx="267192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Las excluidas de aquél tiempo viven la Libertad de Dio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149400"/>
            <a:ext cx="914400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También ellas siguen al Mae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152280" y="228600"/>
            <a:ext cx="8653680" cy="66776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ría la Magdalena, de la que habían salido siete demonios; Juana, mujer de Cusa, intendente de Herodes; Susana y otras muchas que le ayudaban con sus biene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 Imagen" descr="jesusidonest.jpg"/>
          <p:cNvPicPr/>
          <p:nvPr/>
        </p:nvPicPr>
        <p:blipFill>
          <a:blip r:embed="rId2"/>
          <a:stretch/>
        </p:blipFill>
        <p:spPr>
          <a:xfrm>
            <a:off x="3429000" y="1428840"/>
            <a:ext cx="5510160" cy="5429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57120" y="1643040"/>
            <a:ext cx="29955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verdadero Amor no es superf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142920"/>
            <a:ext cx="59292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en ama descubre el corazón del o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57160" y="785880"/>
            <a:ext cx="7500960" cy="4968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Haz, Señor, que TODOS y TODAS sintamos tu cercanía, y que esta PROXIMIDAD nos acerque a los dem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571680" y="53578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5 Imagen" descr="galilea66w.jpg"/>
          <p:cNvPicPr/>
          <p:nvPr/>
        </p:nvPicPr>
        <p:blipFill>
          <a:blip r:embed="rId2"/>
          <a:stretch/>
        </p:blipFill>
        <p:spPr>
          <a:xfrm>
            <a:off x="-11501280" y="198360"/>
            <a:ext cx="32746680" cy="651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85840" y="160200"/>
            <a:ext cx="8286840" cy="1007640"/>
          </a:xfrm>
          <a:prstGeom prst="rect">
            <a:avLst/>
          </a:prstGeom>
          <a:solidFill>
            <a:srgbClr val="29292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Galilea, donde Jesús reúne el Nuevo PUEB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4495680"/>
            <a:ext cx="861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¿Seguimos a Jesús en la Galilea de la vida ordinar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32 -0.00393 L 1.16424 0.00648 E">
                                      <p:cBhvr>
                                        <p:cTn id="47" dur="30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228600"/>
            <a:ext cx="850104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7, 36-8, 3 En aquel tiempo, un fariseo rogaba a Jesús que fuera a comer con él. Jesús, entrando en casa del fariseo, se recostó a la mesa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14200" y="6143760"/>
            <a:ext cx="3678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stas de Magd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4" descr="C:\Documents and Settings\st benet\Mis documentos\Mis imágenes\bíblics\galilea\resized_magdalaw.jpg"/>
          <p:cNvPicPr/>
          <p:nvPr/>
        </p:nvPicPr>
        <p:blipFill>
          <a:blip r:embed="rId2"/>
          <a:stretch/>
        </p:blipFill>
        <p:spPr>
          <a:xfrm>
            <a:off x="2214720" y="71280"/>
            <a:ext cx="6929280" cy="5386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14200" y="285840"/>
            <a:ext cx="3357720" cy="4969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nque seáis “fariseos” y pecadores, quiero sentarme en vuestra m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2920" y="5484960"/>
            <a:ext cx="650088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¿Por qué ponéis distancias entre vosotros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152280"/>
            <a:ext cx="8915400" cy="66776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una mujer de la ciudad, una pecadora, al enterarse de que estaba comiendo en casa del fariseo, vino con un frasco de perfume y, colocándose detrás junto a sus pi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C:\Documents and Settings\st benet\Mis documentos\Mis imágenes\20060203163516.jpg"/>
          <p:cNvPicPr/>
          <p:nvPr/>
        </p:nvPicPr>
        <p:blipFill>
          <a:blip r:embed="rId2"/>
          <a:stretch/>
        </p:blipFill>
        <p:spPr>
          <a:xfrm>
            <a:off x="214200" y="166680"/>
            <a:ext cx="2820960" cy="5334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3571920" y="2089080"/>
            <a:ext cx="492912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fariseo no ve su pecado, ella llora el propio derramando el mejor PERFU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14680" y="5105520"/>
            <a:ext cx="7215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 te acusas, Dios pasa por alto tu pecado </a:t>
            </a:r>
            <a:r>
              <a:rPr b="1" lang="en-US" sz="4000" spc="-1" strike="noStrike">
                <a:solidFill>
                  <a:srgbClr val="fa620e"/>
                </a:solidFill>
                <a:latin typeface="Arial"/>
              </a:rPr>
              <a:t>(1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357120"/>
            <a:ext cx="5881680" cy="62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Jarrita de alabastro del s.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142920"/>
            <a:ext cx="861048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orando, se puso a regarle los pies con sus lágrimas, se los enjugaba con sus cabellos, los cubría de besos y se los ungía con el perfume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5 Imagen" descr="cornouRupnik15wtw.jpg"/>
          <p:cNvPicPr/>
          <p:nvPr/>
        </p:nvPicPr>
        <p:blipFill>
          <a:blip r:embed="rId2"/>
          <a:stretch/>
        </p:blipFill>
        <p:spPr>
          <a:xfrm>
            <a:off x="2928960" y="71280"/>
            <a:ext cx="6000840" cy="6667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42920" y="1643040"/>
            <a:ext cx="29811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Feliz de sentirse perdonado </a:t>
            </a:r>
            <a:r>
              <a:rPr b="1" lang="en-US" sz="4000" spc="-1" strike="noStrike">
                <a:solidFill>
                  <a:srgbClr val="fa620e"/>
                </a:solidFill>
                <a:latin typeface="Arial Unicode MS"/>
              </a:rPr>
              <a:t>(sal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1280" y="142920"/>
            <a:ext cx="62154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mal se vuelve en ella un CORAZÓN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6-08T14:26:25Z</dcterms:modified>
  <cp:revision>205</cp:revision>
  <dc:subject>stbenet@benedictinescat.com</dc:subject>
  <dc:title>evangelio</dc:title>
</cp:coreProperties>
</file>