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Coucou.wav" ContentType="audio/x-wav"/>
  <Override PartName="/ppt/media/image1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F280-1EF1-4309-8E6C-601815443E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C636-BCB7-41F7-82F9-EEF5FA6C0B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9F9C-93CA-4264-8E1F-B36F466453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7F4B-C0C6-4737-ACAD-D21FC526F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230-3E2F-4466-96BE-688DC65651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4EF3-ED5E-46A7-A240-98C63ABDB8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E78-AAEE-4649-9A81-365FBBF9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1AB-9BEE-4413-8836-9BAD5BAF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E7C-DD5A-436C-842B-08D89554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987-9FAC-4FD7-BAC2-E2DFF553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9D7-486F-46B4-84EA-A7F562D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0F5-346C-412B-ADAB-09DE6EE6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903-FB1C-472E-B85C-7BC0FF3B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538-25D6-4576-8133-649BCBC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E43-5E2D-4A22-9400-DBB330A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654-3011-4EFF-ADFA-8360BE8C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FA7-B073-451D-A156-FB0FD56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FE8-98D7-4476-8471-086E6219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5396-B7AB-4B20-BE94-E5E3280F38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oucou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eader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746136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 flipV="1">
            <a:off x="228600" y="151920"/>
            <a:ext cx="0" cy="396252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28600" y="152280"/>
            <a:ext cx="8763120" cy="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8991720" y="152280"/>
            <a:ext cx="0" cy="655344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4114440" y="6705720"/>
            <a:ext cx="4876920" cy="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71680" y="285840"/>
            <a:ext cx="7922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ffffff"/>
                </a:solidFill>
                <a:latin typeface="Arial"/>
                <a:ea typeface="宋体"/>
              </a:rPr>
              <a:t>Pequeñas astuci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ffffff"/>
                </a:solidFill>
                <a:latin typeface="Arial"/>
                <a:ea typeface="宋体"/>
              </a:rPr>
              <a:t>para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ffffff"/>
                </a:solidFill>
                <a:latin typeface="Arial"/>
                <a:ea typeface="宋体"/>
              </a:rPr>
              <a:t>2011-201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ano - Clyderman Richard.mp3" descr=""/>
          <p:cNvPicPr/>
          <p:nvPr/>
        </p:nvPicPr>
        <p:blipFill>
          <a:blip r:embed="rId2"/>
          <a:stretch/>
        </p:blipFill>
        <p:spPr>
          <a:xfrm>
            <a:off x="3851280" y="6021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5" name="春之声圆舞曲.mp3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12960" y="5516640"/>
            <a:ext cx="19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Haz clic para continu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  <p:sndAc>
      <p:stSnd>
        <p:snd r:embed="rId4" name="Couco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6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4d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Echinocereus reichenbachii"/>
          <p:cNvPicPr/>
          <p:nvPr/>
        </p:nvPicPr>
        <p:blipFill>
          <a:blip r:embed="rId1"/>
          <a:stretch/>
        </p:blipFill>
        <p:spPr>
          <a:xfrm>
            <a:off x="1143000" y="114480"/>
            <a:ext cx="6858000" cy="6743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219320" y="6324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reichenbach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3480" y="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z un desayuno de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4359240"/>
            <a:ext cx="374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Un almuerzo de Príncip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1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una cena de Pob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Oroya peruviana"/>
          <p:cNvPicPr/>
          <p:nvPr/>
        </p:nvPicPr>
        <p:blipFill>
          <a:blip r:embed="rId1"/>
          <a:stretch/>
        </p:blipFill>
        <p:spPr>
          <a:xfrm>
            <a:off x="2352600" y="142920"/>
            <a:ext cx="6791400" cy="6715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76212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oya peruv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79280" y="38160"/>
            <a:ext cx="9026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serva tiempo para la meditación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oración. Esto nos 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energía neces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ara hacer frente al estr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uotidian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vid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Escobaria minima"/>
          <p:cNvPicPr/>
          <p:nvPr/>
        </p:nvPicPr>
        <p:blipFill>
          <a:blip r:embed="rId1"/>
          <a:stretch/>
        </p:blipFill>
        <p:spPr>
          <a:xfrm>
            <a:off x="304920" y="790560"/>
            <a:ext cx="8572320" cy="6067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80880" y="6392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min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92200" y="254160"/>
            <a:ext cx="362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ueña incluso despier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Rebutia pallida"/>
          <p:cNvPicPr/>
          <p:nvPr/>
        </p:nvPicPr>
        <p:blipFill>
          <a:blip r:embed="rId1"/>
          <a:stretch/>
        </p:blipFill>
        <p:spPr>
          <a:xfrm>
            <a:off x="928800" y="114480"/>
            <a:ext cx="7448400" cy="6743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28600" y="639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all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8760" y="115920"/>
            <a:ext cx="880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47840" y="0"/>
            <a:ext cx="51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onríe y Ríe todavía 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scobaria wissmannii"/>
          <p:cNvPicPr/>
          <p:nvPr/>
        </p:nvPicPr>
        <p:blipFill>
          <a:blip r:embed="rId1"/>
          <a:stretch/>
        </p:blipFill>
        <p:spPr>
          <a:xfrm>
            <a:off x="571680" y="104760"/>
            <a:ext cx="8572320" cy="6753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152280" y="5257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wissman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tenta cada día hacer reir, al menos, a 3 perso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ammillaria albiflora"/>
          <p:cNvPicPr/>
          <p:nvPr/>
        </p:nvPicPr>
        <p:blipFill>
          <a:blip r:embed="rId1"/>
          <a:stretch/>
        </p:blipFill>
        <p:spPr>
          <a:xfrm>
            <a:off x="609480" y="114480"/>
            <a:ext cx="7896240" cy="67435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295280" y="6400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albifl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95280" y="0"/>
            <a:ext cx="83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gastes tu energía en palabras inút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Echinocereus klapperi"/>
          <p:cNvPicPr/>
          <p:nvPr/>
        </p:nvPicPr>
        <p:blipFill>
          <a:blip r:embed="rId1"/>
          <a:stretch/>
        </p:blipFill>
        <p:spPr>
          <a:xfrm>
            <a:off x="900000" y="114480"/>
            <a:ext cx="7258320" cy="6743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066680" y="63165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klapp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08000" y="0"/>
            <a:ext cx="90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tengas pensamientos negativos sobre las co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no puedas contro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292720" y="4365720"/>
            <a:ext cx="372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 preferible mirar el lado positivo de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itu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b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Echinocereus polyacanthus"/>
          <p:cNvPicPr/>
          <p:nvPr/>
        </p:nvPicPr>
        <p:blipFill>
          <a:blip r:embed="rId1"/>
          <a:stretch/>
        </p:blipFill>
        <p:spPr>
          <a:xfrm>
            <a:off x="785880" y="0"/>
            <a:ext cx="8358120" cy="6734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219320" y="63928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oly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asa todo el tiempo que puedas con las person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 más de 70 añ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de menos de 6.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Neowerdermannia vorwerkii"/>
          <p:cNvPicPr/>
          <p:nvPr/>
        </p:nvPicPr>
        <p:blipFill>
          <a:blip r:embed="rId1"/>
          <a:stretch/>
        </p:blipFill>
        <p:spPr>
          <a:xfrm>
            <a:off x="2200320" y="114480"/>
            <a:ext cx="6943680" cy="6743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Neowerdermannia vorwerk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4000" y="18900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vida es demasiado corta para pasar el tiempo odiando a la gent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Matucana krahnii"/>
          <p:cNvPicPr/>
          <p:nvPr/>
        </p:nvPicPr>
        <p:blipFill>
          <a:blip r:embed="rId1"/>
          <a:stretch/>
        </p:blipFill>
        <p:spPr>
          <a:xfrm>
            <a:off x="814320" y="57240"/>
            <a:ext cx="7515360" cy="6743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8580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tucana krah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0240" y="254160"/>
            <a:ext cx="38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te tomes en serio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1484280"/>
            <a:ext cx="187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adie                lo 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ochemiea poselgeri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152280" y="6400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chemiea posel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99080" y="398520"/>
            <a:ext cx="679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z 10-30 minutos diarios de march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sonríe mientras cami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iscocactus pugionacanthus"/>
          <p:cNvPicPr/>
          <p:nvPr/>
        </p:nvPicPr>
        <p:blipFill>
          <a:blip r:embed="rId1"/>
          <a:stretch/>
        </p:blipFill>
        <p:spPr>
          <a:xfrm>
            <a:off x="2438280" y="114480"/>
            <a:ext cx="5857920" cy="6743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0" y="6392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pugion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08000" y="0"/>
            <a:ext cx="823284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lvida los fracasos del pasado. No recuerdes a los otros sus viejos                                    error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sirve más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ara destruir la                                      felicidad presente.</a:t>
            </a:r>
            <a:r>
              <a:rPr b="1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Astrophytum coahuilense"/>
          <p:cNvPicPr/>
          <p:nvPr/>
        </p:nvPicPr>
        <p:blipFill>
          <a:blip r:embed="rId1"/>
          <a:stretch/>
        </p:blipFill>
        <p:spPr>
          <a:xfrm>
            <a:off x="2514600" y="114480"/>
            <a:ext cx="6305400" cy="6743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457200" y="6392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coahuil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3360" y="-33480"/>
            <a:ext cx="61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noce que la vida es una escu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que tú estás aquí para apren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os problemas for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arte de 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colariz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parec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desaparec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o el álgeb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ero las lecci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aprendas 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rvir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 lo largo de la v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e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Echinocereus subinermis"/>
          <p:cNvPicPr/>
          <p:nvPr/>
        </p:nvPicPr>
        <p:blipFill>
          <a:blip r:embed="rId1"/>
          <a:stretch/>
        </p:blipFill>
        <p:spPr>
          <a:xfrm>
            <a:off x="0" y="447840"/>
            <a:ext cx="8953560" cy="6410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838080" y="624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subinerm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00240" y="111240"/>
            <a:ext cx="47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te justifiques sin ces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 acuerdo o na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Echinomastus durangensis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0" y="632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mastus durangen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79280" y="11592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compares tu vida con la de ot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tienes ni ide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o puede 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Ferobergia hybride"/>
          <p:cNvPicPr/>
          <p:nvPr/>
        </p:nvPicPr>
        <p:blipFill>
          <a:blip r:embed="rId1"/>
          <a:stretch/>
        </p:blipFill>
        <p:spPr>
          <a:xfrm>
            <a:off x="1362240" y="114480"/>
            <a:ext cx="7781760" cy="6743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0" y="639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Ferobergia hybr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76200" y="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z la paz con el pasado para vivir   plenamente el pres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Lobivia cinnabari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248520" y="65451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cinnabari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¿No le prestas atención al trabaj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importa, tus verdaderos amig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tarán siempre all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3a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Lobivia peclardiana"/>
          <p:cNvPicPr/>
          <p:nvPr/>
        </p:nvPicPr>
        <p:blipFill>
          <a:blip r:embed="rId1"/>
          <a:stretch/>
        </p:blipFill>
        <p:spPr>
          <a:xfrm>
            <a:off x="755640" y="114480"/>
            <a:ext cx="7629480" cy="6743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28600" y="6477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peclard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76200" y="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prende a  perdon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6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ammillaria slevinii"/>
          <p:cNvPicPr/>
          <p:nvPr/>
        </p:nvPicPr>
        <p:blipFill>
          <a:blip r:embed="rId1"/>
          <a:stretch/>
        </p:blipFill>
        <p:spPr>
          <a:xfrm>
            <a:off x="1066680" y="114480"/>
            <a:ext cx="7039080" cy="674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80880" y="6469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slevi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31840" y="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oco importa lo que la gente piense de tí.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es 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Copiapoa tenuissima"/>
          <p:cNvPicPr/>
          <p:nvPr/>
        </p:nvPicPr>
        <p:blipFill>
          <a:blip r:embed="rId1"/>
          <a:stretch/>
        </p:blipFill>
        <p:spPr>
          <a:xfrm>
            <a:off x="1981080" y="114480"/>
            <a:ext cx="6524640" cy="6743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1522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piapoa tenuiss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56960" y="182520"/>
            <a:ext cx="3393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or difícil que s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a situació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podrá m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mejor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Ortegocactus macdougallii"/>
          <p:cNvPicPr/>
          <p:nvPr/>
        </p:nvPicPr>
        <p:blipFill>
          <a:blip r:embed="rId1"/>
          <a:stretch/>
        </p:blipFill>
        <p:spPr>
          <a:xfrm>
            <a:off x="1657440" y="114480"/>
            <a:ext cx="7486560" cy="6743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0" y="6240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tegocactus macdougall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8760" y="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spréndete de todo lo que es inútil para no guard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ás que lo mejor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2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Echinocereus pectinatus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429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4920" y="632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ectin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76200" y="381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da día permanece sentado 10 minutos en completo silenci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5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Parodia spaniosa"/>
          <p:cNvPicPr/>
          <p:nvPr/>
        </p:nvPicPr>
        <p:blipFill>
          <a:blip r:embed="rId1"/>
          <a:stretch/>
        </p:blipFill>
        <p:spPr>
          <a:xfrm>
            <a:off x="1219320" y="114480"/>
            <a:ext cx="7924680" cy="6743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28600" y="639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8760" y="189000"/>
            <a:ext cx="50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e seas envidio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es más que una pérd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 ti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Strombocactus pulcherrim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2860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31840" y="115920"/>
            <a:ext cx="46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o mejor está por ven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53" name="Picture 9" descr="http://blogimages.bloggen.be/cactussen/123-c789d26835de9486a04e844c78eab23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376200" y="11592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oco importa como te sientas. Levántate, arréglate y sal.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blogimages.bloggen.be/cactussen/128-80d41187d544e909890aa283e65b83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519120" y="115920"/>
            <a:ext cx="80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Vive plenamente respetando tus lími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9" descr="http://blogimages.bloggen.be/cactussen/4-fec39180376a2e585d6ba77a848c0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4140360" y="115920"/>
            <a:ext cx="4319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50920" y="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res feliz... ¡Demuéstral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9" descr="http://blogimages.bloggen.be/cactussen/226-3fd123d66749aed47864a66230bee7c7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435640" y="115920"/>
            <a:ext cx="35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Haz cosas         bue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http://blogimages.bloggen.be/cactussen/139-5126bfa8c5978396d86bee4fbe22b8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-5760" y="0"/>
            <a:ext cx="61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lama con frecuencia a tu familia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http://blogimages.bloggen.be/cactussen/172-31cfca5a481d7a1c8f5efae284226a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3924360" y="3816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da día , lle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lgo bueno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os demá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67" name="Picture 9" descr="http://blogimages.bloggen.be/cactussen/229-fc83c2f7eb0633c09dfc9676479cd1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-2880" y="0"/>
            <a:ext cx="43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o dudes en enviar e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 los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ie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ZoneTexte 5"/>
          <p:cNvSpPr/>
          <p:nvPr/>
        </p:nvSpPr>
        <p:spPr>
          <a:xfrm>
            <a:off x="7715160" y="5786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 I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oryphantha wohlschlageri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676520" y="6316560"/>
            <a:ext cx="2438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ryphantha wohlschla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79280" y="4724280"/>
            <a:ext cx="353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uerme al menos  7 horas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Lobivia tiegeliana"/>
          <p:cNvPicPr/>
          <p:nvPr/>
        </p:nvPicPr>
        <p:blipFill>
          <a:blip r:embed="rId1"/>
          <a:stretch/>
        </p:blipFill>
        <p:spPr>
          <a:xfrm>
            <a:off x="0" y="515880"/>
            <a:ext cx="8964720" cy="6342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701028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tiegel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8760" y="38160"/>
            <a:ext cx="85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Respeta la regla de las 3 E : Energia,       Entusiasm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y Escuch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Astrophytum super kabuto"/>
          <p:cNvPicPr/>
          <p:nvPr/>
        </p:nvPicPr>
        <p:blipFill>
          <a:blip r:embed="rId1"/>
          <a:stretch/>
        </p:blipFill>
        <p:spPr>
          <a:xfrm>
            <a:off x="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super kabu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15160" y="18252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iviértete con frecuencia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ebutia poecilantha"/>
          <p:cNvPicPr/>
          <p:nvPr/>
        </p:nvPicPr>
        <p:blipFill>
          <a:blip r:embed="rId1"/>
          <a:stretch/>
        </p:blipFill>
        <p:spPr>
          <a:xfrm>
            <a:off x="19044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52280" y="654516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oecilanth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92200" y="182520"/>
            <a:ext cx="80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ee todavía más que el año pasado.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Lobivia robus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28600" y="6324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robu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3120" y="38160"/>
            <a:ext cx="231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ebe mu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gua.</a:t>
            </a:r>
            <a:r>
              <a:rPr b="1" lang="en-AU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scocactus horstii"/>
          <p:cNvPicPr/>
          <p:nvPr/>
        </p:nvPicPr>
        <p:blipFill>
          <a:blip r:embed="rId1"/>
          <a:stretch/>
        </p:blipFill>
        <p:spPr>
          <a:xfrm>
            <a:off x="1542960" y="71280"/>
            <a:ext cx="6058080" cy="6715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90720" y="62406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horst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0920" y="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e frutas y legumbres biocultivadas mejor que cualquier                                               alimento indust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1:06:53Z</dcterms:created>
  <dc:creator>jb</dc:creator>
  <dc:description/>
  <dc:language>en-US</dc:language>
  <cp:lastModifiedBy>Faustino</cp:lastModifiedBy>
  <dcterms:modified xsi:type="dcterms:W3CDTF">2011-12-07T18:46:30Z</dcterms:modified>
  <cp:revision>63</cp:revision>
  <dc:subject/>
  <dc:title>Présentation PowerPoint</dc:title>
</cp:coreProperties>
</file>