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Coucou.wav" ContentType="audio/x-wav"/>
  <Override PartName="/ppt/media/image1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2F66-B081-43F3-AD5E-CBAADC24E7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A389-C81F-4CDC-AC09-BB16B3429C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AB7-F45E-4130-A047-444346A5D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E5A-452D-418C-BFB2-D527474EC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DC8-D41B-401A-B8BE-F0C3C7EF0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4F83-18F4-4D08-BD71-87075EB2C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EC0-7E00-492F-BB9F-F3A57E6D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F13-425C-428C-AB3D-F941DE3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5AD-2AEA-43D3-A4AC-97A5552A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615-4A8C-4720-97C7-7FDDDCA7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FEE-97DA-43F9-904F-8ADCE26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8F8-4997-4930-81F2-C7BBF6C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6DE-4F77-43A3-913D-FE089F2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87C-8948-473C-9AAA-2B451C1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CEB-199A-4005-8F9A-4C08471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611-BC26-4E6E-8A66-F2B0339B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DCD-4813-4867-93FD-60E0878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509-EE18-4C64-A2A9-CC47AFB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8E4-A854-435C-9567-E5D4BE02A6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oucou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V="1">
            <a:off x="228600" y="151920"/>
            <a:ext cx="0" cy="396252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28600" y="152280"/>
            <a:ext cx="87631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991720" y="152280"/>
            <a:ext cx="0" cy="655344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4114440" y="6705720"/>
            <a:ext cx="48769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71680" y="285840"/>
            <a:ext cx="7922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Pequeñas astuci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par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2011-201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5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2960" y="551664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Haz clic para continu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4" name="Couc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6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14300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3480" y="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un desayuno de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Un almuerzo de Príncip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una cena de Pob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79280" y="38160"/>
            <a:ext cx="9026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serva tiempo para la meditación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oración. Esto nos 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energía neces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a hacer frente al es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uotidian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vid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92200" y="254160"/>
            <a:ext cx="362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ueña incluso despier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Rebutia pallida"/>
          <p:cNvPicPr/>
          <p:nvPr/>
        </p:nvPicPr>
        <p:blipFill>
          <a:blip r:embed="rId1"/>
          <a:stretch/>
        </p:blipFill>
        <p:spPr>
          <a:xfrm>
            <a:off x="92880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7840" y="0"/>
            <a:ext cx="51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nríe y Ríe todaví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tenta cada día hacer reir, al menos, a 3 perso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5280" y="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gastes tu energía en palabras inút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Echinocereus klapperi"/>
          <p:cNvPicPr/>
          <p:nvPr/>
        </p:nvPicPr>
        <p:blipFill>
          <a:blip r:embed="rId1"/>
          <a:stretch/>
        </p:blipFill>
        <p:spPr>
          <a:xfrm>
            <a:off x="900000" y="114480"/>
            <a:ext cx="7258320" cy="674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08000" y="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ngas pensamientos negativos sobre las co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no puedas contro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92720" y="4365720"/>
            <a:ext cx="372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 preferible mirar el lado positivo de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it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Echinocereus polyacanthus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734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sa todo el tiempo que puedas con las person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más de 70 añ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de menos de 6.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890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vida es demasiado corta para pasar el tiempo odiando a la gent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0240" y="254160"/>
            <a:ext cx="38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 tomes en serio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484280"/>
            <a:ext cx="187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adie                lo 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99080" y="398520"/>
            <a:ext cx="679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10-30 minutos diarios de march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sonríe mientras cam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08000" y="0"/>
            <a:ext cx="823284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vida los fracasos del pasado. No recuerdes a los otros sus viejos                                    erro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sirve más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a destruir la                                      felicidad presente.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3360" y="-33480"/>
            <a:ext cx="61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noce que la vida es una escu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que tú estás aquí para apren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s problemas fo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te de 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colar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parec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desaparec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o el álgeb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ero las lecci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rendas 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r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lo largo de l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00240" y="11124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 justifiques sin ce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acuerdo o n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115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compares tu vida con la de 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ienes ni ide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o puede 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la paz con el pasado para vivir   plenamente el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¿No le prestas atención al trabaj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importa, tus verdaderos amig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rán siempre all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Lobivia peclardiana"/>
          <p:cNvPicPr/>
          <p:nvPr/>
        </p:nvPicPr>
        <p:blipFill>
          <a:blip r:embed="rId1"/>
          <a:stretch/>
        </p:blipFill>
        <p:spPr>
          <a:xfrm>
            <a:off x="75564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76200" y="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prende a  perdon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31840" y="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co importa lo que la gente piense de tí.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es 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56960" y="182520"/>
            <a:ext cx="3393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r difícil que s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situac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podrá m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mejor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657440" y="114480"/>
            <a:ext cx="7486560" cy="6743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8760" y="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préndete de todo lo que es inútil para no guar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ás que lo mejor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7620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ía permanece sentado 10 minutos en completo silenci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8760" y="18900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e seas envidio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es más que una pérd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31840" y="115920"/>
            <a:ext cx="46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 mejor está por ven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53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co importa como te sientas. Levántate, arréglate y sal.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ive plenamente respetando tus lími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res feliz... ¡Demuéstral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435640" y="11592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cosas         bue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-5760" y="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lama con frecuencia a tu familia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924360" y="3816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ía , ll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go buen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s de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7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-2880" y="0"/>
            <a:ext cx="43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dudes en enviar 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los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ie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ZoneTexte 5"/>
          <p:cNvSpPr/>
          <p:nvPr/>
        </p:nvSpPr>
        <p:spPr>
          <a:xfrm>
            <a:off x="7715160" y="578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I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9280" y="4724280"/>
            <a:ext cx="35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uerme al menos  7 horas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8760" y="38160"/>
            <a:ext cx="85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speta la regla de las 3 E : Energia,       Entusiasm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Escu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15160" y="18252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iviértete con frecuencia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92200" y="1825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ee todavía más que el año pasado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3120" y="38160"/>
            <a:ext cx="231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be mu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gua.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e frutas y legumbres biocultivadas mejor que cualquier                                               alimento indus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06:53Z</dcterms:created>
  <dc:creator>jb</dc:creator>
  <dc:description/>
  <dc:language>en-US</dc:language>
  <cp:lastModifiedBy>Faustino</cp:lastModifiedBy>
  <dcterms:modified xsi:type="dcterms:W3CDTF">2011-12-07T18:46:30Z</dcterms:modified>
  <cp:revision>63</cp:revision>
  <dc:subject/>
  <dc:title>Présentation PowerPoint</dc:title>
</cp:coreProperties>
</file>