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Quietude_04.wav" ContentType="audio/x-wav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130-B2FA-418C-AE7F-1CC3DDDB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A40-CAAF-4CC8-B0FA-73619BE2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2C6-DD3A-463C-9E11-724A58CE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426-B29A-4CC1-A822-F0740B4C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801-8089-4754-B7F8-9CABF7DF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BD6-F2AC-4D0A-82A7-F45E207A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666-B794-4248-AD05-61CEC28C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B04-7F8B-4272-B3CF-F84EBDA0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ECF-DD27-4FAA-9722-D719BC55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1B0-9B28-47CD-85FE-66655A04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7B9-E117-44DF-BE04-1514DAA0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20F-4830-40B4-87C7-C7C9A039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E548-4833-4342-8103-88FEB3B979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Quietude_04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773360"/>
            <a:ext cx="7200720" cy="34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bb68d"/>
                    </a:gs>
                    <a:gs pos="50000">
                      <a:srgbClr val="663300"/>
                    </a:gs>
                    <a:gs pos="100000">
                      <a:srgbClr val="cbb68d"/>
                    </a:gs>
                  </a:gsLst>
                  <a:lin ang="13500000"/>
                </a:gradFill>
                <a:latin typeface="Impuls BT"/>
              </a:rPr>
              <a:t>¡Hola.......soy Jesús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bb68d"/>
                  </a:gs>
                  <a:gs pos="50000">
                    <a:srgbClr val="663300"/>
                  </a:gs>
                  <a:gs pos="100000">
                    <a:srgbClr val="cbb68d"/>
                  </a:gs>
                </a:gsLst>
                <a:lin ang="13500000"/>
              </a:gradFill>
              <a:latin typeface="Impuls BT"/>
              <a:ea typeface="Impuls B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551664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1700280"/>
            <a:ext cx="244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otra persona de tu infelicidad, cuando tú dejas de sonreír y asumes que no hay motivos para reír, cuando el mundo está repleto de cosas maravillosas, cuando te olvidas hasta de Mí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1628640"/>
            <a:ext cx="25210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, </a:t>
            </a:r>
            <a:r>
              <a:rPr b="0" lang="pt-BR" sz="2200" spc="-1" strike="noStrike">
                <a:solidFill>
                  <a:srgbClr val="663300"/>
                </a:solidFill>
                <a:latin typeface="Tempus Sans ITC"/>
              </a:rPr>
              <a:t>Yo soy Jesús, aquél que Dios dio para morir en tu lugar en la cruz del calvario, en sacrifcio, para que los pecados del mundo fuesen perdonad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628640"/>
            <a:ext cx="252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700280"/>
            <a:ext cx="253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Ya que me dejaron hablar diretamente contigo, me gustaría  recordarte, que estoy a tu lado siempre, aun cuando tú crees estar totalmente solo y abandonado, hasta en este momento Yo estoy agarrando tu  man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62864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1844640"/>
            <a:ext cx="266400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, Yo estoy  consolando a tu corazón, Yo estoy mirándote, y por amarte  demasiado, me quedo triste con tu tristeza, pero, como Yo sé que tú naciste para adorar  a mi Padre que está en los Cielos,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162864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700280"/>
            <a:ext cx="2657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le agradezco a Él la oportunidad bendita de conocerte y cuidar de ti, porque tú eres realmente muy especial para Mí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Soy Jesús creo en ti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- Ora, alaba, agradece, Yo estoy aquí contigo, oyéndo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162864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1773360"/>
            <a:ext cx="3025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"Santo Dios, Señor mío, celoso guardador, si a mí se me confió el conocerte, rige mi vida,  guárdame e ilumíname Amén!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162864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1628640"/>
            <a:ext cx="28101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Si sientes en tu corazón, manda este mensaje a tus amigo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Muchos olvidan que tienen un amigo fiel a su lado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¡</a:t>
            </a:r>
            <a:r>
              <a:rPr b="1" lang="pt-BR" sz="2400" spc="-1" strike="noStrike">
                <a:solidFill>
                  <a:srgbClr val="663300"/>
                </a:solidFill>
                <a:latin typeface="Tempus Sans ITC"/>
              </a:rPr>
              <a:t>JESÚS</a:t>
            </a: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 es el mejor </a:t>
            </a:r>
            <a:r>
              <a:rPr b="1" lang="pt-BR" sz="2400" spc="-1" strike="noStrike">
                <a:solidFill>
                  <a:srgbClr val="663300"/>
                </a:solidFill>
                <a:latin typeface="Tempus Sans ITC"/>
              </a:rPr>
              <a:t>Amigo</a:t>
            </a: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 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900"/>
                            </p:stCondLst>
                            <p:childTnLst>
                              <p:par>
                                <p:cTn id="1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100"/>
                            </p:stCondLst>
                            <p:childTnLst>
                              <p:par>
                                <p:cTn id="1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162864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1773360"/>
            <a:ext cx="2879640" cy="35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63300"/>
                </a:solidFill>
                <a:latin typeface="Tempus Sans ITC"/>
              </a:rPr>
              <a:t>Que tengas un lindo día lleno de Paz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663300"/>
                </a:solidFill>
                <a:latin typeface="Tempus Sans ITC"/>
              </a:rPr>
              <a:t>Hoy </a:t>
            </a:r>
            <a:fld id="{C024085B-A971-4D8A-87ED-491AAEFAADFD}" type="datetime2">
              <a:rPr b="0" lang="es-UY" sz="2000" spc="-1" strike="noStrike">
                <a:solidFill>
                  <a:srgbClr val="663300"/>
                </a:solidFill>
                <a:latin typeface="Tempus Sans ITC"/>
              </a:rPr>
              <a:t>miércoles, 29 de julio de 20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2495-6DE2-4E57-8184-219A8D265863}" type="datetime13">
              <a:rPr b="0" lang="es-UY" sz="2000" spc="-1" strike="noStrike">
                <a:solidFill>
                  <a:srgbClr val="663300"/>
                </a:solidFill>
                <a:latin typeface="Tempus Sans ITC"/>
              </a:rPr>
              <a:t>07:20:19 a.m.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63300"/>
                </a:solidFill>
                <a:latin typeface="Tempus Sans ITC"/>
              </a:rPr>
              <a:t>  </a:t>
            </a:r>
            <a:r>
              <a:rPr b="0" lang="es-UY" sz="2400" spc="-1" strike="noStrike">
                <a:solidFill>
                  <a:srgbClr val="663300"/>
                </a:solidFill>
                <a:latin typeface="Tempus Sans ITC"/>
              </a:rPr>
              <a:t>Y vive cada dí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63300"/>
                </a:solidFill>
                <a:latin typeface="Tempus Sans ITC"/>
              </a:rPr>
              <a:t>Confiando  en  </a:t>
            </a:r>
            <a:r>
              <a:rPr b="1" lang="es-UY" sz="2400" spc="-1" strike="noStrike">
                <a:solidFill>
                  <a:srgbClr val="663300"/>
                </a:solidFill>
                <a:latin typeface="Tempus Sans ITC"/>
              </a:rPr>
              <a:t>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1773360"/>
            <a:ext cx="31669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663300"/>
                </a:solidFill>
                <a:latin typeface="Tempus Sans ITC"/>
              </a:rPr>
              <a:t>Yo estoy a tu lado y soy aquél que nunca pierde la fe en tus sueñ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663300"/>
                </a:solidFill>
                <a:latin typeface="Tempus Sans ITC"/>
              </a:rPr>
              <a:t>Soy Yo quien a veces altero tu itinerario, y hasta atraso tus horarios para evitar accidentes o 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663300"/>
                </a:solidFill>
                <a:latin typeface="Tempus Sans ITC"/>
              </a:rPr>
              <a:t>desagrada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060640"/>
            <a:ext cx="259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echnical"/>
              </a:rPr>
              <a:t>Sí, soy Yo quien habla a tu oido aquellas "inspiraciones" que tú crees que acabaste de tener como "gran idea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1268280"/>
            <a:ext cx="2808360" cy="41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Soy Yo quien te causa aquellos arrepíos cuando te aproximas a lugares o situaciones que te van a colocar en pelig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1360000">
            <a:off x="667800" y="1484280"/>
            <a:ext cx="3167280" cy="5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1773360"/>
            <a:ext cx="25923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Y soy Yo quien llora por ti cuando tú con  tu terquedad insistes en hacer todo al contrario sólo para desafiar al  mu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1773360"/>
            <a:ext cx="2736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Cuántas noches pasé en la cabecera de tu cama velando por tu salud, cuidando de tu fiebre y renovando 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empus Sans ITC"/>
              </a:rPr>
              <a:t>energí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42920" y="6308640"/>
            <a:ext cx="1295640" cy="14472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1700280"/>
            <a:ext cx="27385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¿</a:t>
            </a: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Cuántos días Yo te sujeté para que tú no entrases en aquel ómnibus, carro y hasta av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Tempus Sans ITC"/>
                <a:ea typeface="Times New Roman"/>
              </a:rPr>
              <a:t>¿por </a:t>
            </a: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cuántas calles oscuras Yo te guié con segurida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No sé, ya perdí la cuenta, y eso no impor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700280"/>
            <a:ext cx="267012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663300"/>
                </a:solidFill>
                <a:latin typeface="Tempus Sans ITC"/>
              </a:rPr>
              <a:t>Lo que realmente importa, y lo que me deja triste y preocupado, es cuando tú asumes la postura de víctima del mundo, cuando tú no crees en tu capacidad para resolver los problemas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diez mandamientos, Los Lámina por Grant"/>
          <p:cNvPicPr/>
          <p:nvPr/>
        </p:nvPicPr>
        <p:blipFill>
          <a:blip r:embed="rId2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4360" y="1773360"/>
            <a:ext cx="3166920" cy="32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1628640"/>
            <a:ext cx="309564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b68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1360000">
            <a:off x="669960" y="1482840"/>
            <a:ext cx="316692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1461400">
            <a:off x="755640" y="4946400"/>
            <a:ext cx="3094200" cy="2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bb68d"/>
              </a:gs>
              <a:gs pos="100000">
                <a:srgbClr val="ffffff"/>
              </a:gs>
            </a:gsLst>
            <a:lin ang="136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060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1628640"/>
            <a:ext cx="26704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empus Sans ITC"/>
              </a:rPr>
              <a:t>, </a:t>
            </a:r>
            <a:r>
              <a:rPr b="0" lang="pt-BR" sz="2200" spc="-1" strike="noStrike">
                <a:solidFill>
                  <a:srgbClr val="663300"/>
                </a:solidFill>
                <a:latin typeface="Tempus Sans ITC"/>
              </a:rPr>
              <a:t>cuando tú aceptas las situaciones como insolubles,   cuando tú paras de "luchar" y simplemente reclamas de todo y de todos , cuando tú desistes de ser feliz y culpas 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26920" y="6093000"/>
            <a:ext cx="1295640" cy="14436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4606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663300"/>
              </a:solidFill>
              <a:latin typeface="Freehand591 BT"/>
              <a:ea typeface="Freehand591 B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1:57:08Z</dcterms:created>
  <dc:creator>Rosana F.Carniel</dc:creator>
  <dc:description/>
  <dc:language>en-US</dc:language>
  <cp:lastModifiedBy>Maria Elena Carranza Arteta</cp:lastModifiedBy>
  <dcterms:modified xsi:type="dcterms:W3CDTF">2007-09-16T03:03:50Z</dcterms:modified>
  <cp:revision>50</cp:revision>
  <dc:subject>www.misericordia.com.br</dc:subject>
  <dc:title>Quero falar contigo...</dc:title>
</cp:coreProperties>
</file>