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Quietude_04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812-A851-46E8-8888-EB20D623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75F-A77C-436C-95B4-9CB836B9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1A7-315E-44B6-A6A2-3E9DAB85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ACA-9106-4289-A347-37FE0DF9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725-6205-4FD8-A732-0466EFF3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610-580D-4348-BDAD-D632CCBE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B66-7A43-4BDB-ADDD-247E31FE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6E9-798C-4165-B823-726E7F48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B08-AAF1-4B83-9F62-95843920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E1E-BB41-410C-8381-C26948D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597-AC23-4796-9430-5FDF363A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C46-6674-4962-BEEC-67AAA99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1300-07A7-4BCA-AD4B-B2D0307CEC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Quietude_0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773360"/>
            <a:ext cx="7200720" cy="34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bb68d"/>
                    </a:gs>
                    <a:gs pos="50000">
                      <a:srgbClr val="663300"/>
                    </a:gs>
                    <a:gs pos="100000">
                      <a:srgbClr val="cbb68d"/>
                    </a:gs>
                  </a:gsLst>
                  <a:lin ang="13500000"/>
                </a:gradFill>
                <a:latin typeface="Impuls BT"/>
              </a:rPr>
              <a:t>¡Hola.......soy Jesú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bb68d"/>
                  </a:gs>
                  <a:gs pos="50000">
                    <a:srgbClr val="663300"/>
                  </a:gs>
                  <a:gs pos="100000">
                    <a:srgbClr val="cbb68d"/>
                  </a:gs>
                </a:gsLst>
                <a:lin ang="13500000"/>
              </a:gradFill>
              <a:latin typeface="Impuls BT"/>
              <a:ea typeface="Impuls B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551664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700280"/>
            <a:ext cx="244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otra persona de tu infelicidad, cuando tú dejas de sonreír y asumes que no hay motivos para reír, cuando el mundo está repleto de cosas maravillosas, cuando te olvidas hasta de M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628640"/>
            <a:ext cx="2521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Yo soy Jesús, aquél que Dios dio para morir en tu lugar en la cruz del calvario, en sacrifcio, para que los pecados del mundo fuesen perdonad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628640"/>
            <a:ext cx="252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700280"/>
            <a:ext cx="253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Ya que me dejaron hablar diretamente contigo, me gustaría  recordarte, que estoy a tu lado siempre, aun cuando tú crees estar totalmente solo y abandonado, hasta en este momento Yo estoy agarrando tu  ma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1844640"/>
            <a:ext cx="266400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Yo estoy  consolando a tu corazón, Yo estoy mirándote, y por amarte  demasiado, me quedo triste con tu tristeza, pero, como Yo sé que tú naciste para adorar  a mi Padre que está en los Cielos,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700280"/>
            <a:ext cx="2657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le agradezco a Él la oportunidad bendita de conocerte y cuidar de ti, porque tú eres realmente muy especial para M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Soy Jesús creo en ti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- Ora, alaba, agradece, Yo estoy aquí contigo, oyéndo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1773360"/>
            <a:ext cx="3025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"Santo Dios, Señor mío, celoso guardador, si a mí se me confió el conocerte, rige mi vida,  guárdame e ilumíname Amén!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1628640"/>
            <a:ext cx="28101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Si sientes en tu corazón, manda este mensaje a tus amigo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Muchos olvidan que tienen un amigo fiel a su lad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¡</a:t>
            </a:r>
            <a:r>
              <a:rPr b="1" lang="pt-BR" sz="2400" spc="-1" strike="noStrike">
                <a:solidFill>
                  <a:srgbClr val="663300"/>
                </a:solidFill>
                <a:latin typeface="Tempus Sans ITC"/>
              </a:rPr>
              <a:t>JESÚS</a:t>
            </a: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 es el mejor </a:t>
            </a:r>
            <a:r>
              <a:rPr b="1" lang="pt-BR" sz="2400" spc="-1" strike="noStrike">
                <a:solidFill>
                  <a:srgbClr val="663300"/>
                </a:solidFill>
                <a:latin typeface="Tempus Sans ITC"/>
              </a:rPr>
              <a:t>Amigo</a:t>
            </a: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 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9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100"/>
                            </p:stCondLst>
                            <p:childTnLst>
                              <p:par>
                                <p:cTn id="1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1773360"/>
            <a:ext cx="287964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Tempus Sans ITC"/>
              </a:rPr>
              <a:t>Que tengas un lindo día lleno de Paz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663300"/>
                </a:solidFill>
                <a:latin typeface="Tempus Sans ITC"/>
              </a:rPr>
              <a:t>Hoy </a:t>
            </a:r>
            <a:fld id="{4D839333-489E-4F2E-A7C3-9313B4F586FF}" type="datetime2">
              <a:rPr b="0" lang="es-UY" sz="2000" spc="-1" strike="noStrike">
                <a:solidFill>
                  <a:srgbClr val="663300"/>
                </a:solidFill>
                <a:latin typeface="Tempus Sans ITC"/>
              </a:rPr>
              <a:t>viernes, 31 de julio de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AC84-45EB-43B5-A8AD-F7D75E50D8C5}" type="datetime13">
              <a:rPr b="0" lang="es-UY" sz="2000" spc="-1" strike="noStrike">
                <a:solidFill>
                  <a:srgbClr val="663300"/>
                </a:solidFill>
                <a:latin typeface="Tempus Sans ITC"/>
              </a:rPr>
              <a:t>04:46:07 p.m.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Tempus Sans ITC"/>
              </a:rPr>
              <a:t>  </a:t>
            </a:r>
            <a:r>
              <a:rPr b="0" lang="es-UY" sz="2400" spc="-1" strike="noStrike">
                <a:solidFill>
                  <a:srgbClr val="663300"/>
                </a:solidFill>
                <a:latin typeface="Tempus Sans ITC"/>
              </a:rPr>
              <a:t>Y vive cada dí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Tempus Sans ITC"/>
              </a:rPr>
              <a:t>Confiando  en  </a:t>
            </a:r>
            <a:r>
              <a:rPr b="1" lang="es-UY" sz="2400" spc="-1" strike="noStrike">
                <a:solidFill>
                  <a:srgbClr val="663300"/>
                </a:solidFill>
                <a:latin typeface="Tempus Sans ITC"/>
              </a:rPr>
              <a:t>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773360"/>
            <a:ext cx="31669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Yo estoy a tu lado y soy aquél que nunca pierde la fe en tus sueñ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Soy Yo quien a veces altero tu itinerario, y hasta atraso tus horarios para evitar accidentes o 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desagrad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060640"/>
            <a:ext cx="259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chnical"/>
              </a:rPr>
              <a:t>Sí, soy Yo quien habla a tu oido aquellas "inspiraciones" que tú crees que acabaste de tener como "gran idea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268280"/>
            <a:ext cx="2808360" cy="41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Soy Yo quien te causa aquellos arrepíos cuando te aproximas a lugares o situaciones que te van a colocar en pelig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360000">
            <a:off x="667800" y="1484280"/>
            <a:ext cx="3167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1773360"/>
            <a:ext cx="2592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Y soy Yo quien llora por ti cuando tú con  tu terquedad insistes en hacer todo al contrario sólo para desafiar al  mu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773360"/>
            <a:ext cx="2736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Cuántas noches pasé en la cabecera de tu cama velando por tu salud, cuidando de tu fiebre y renovando 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energ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42920" y="6308640"/>
            <a:ext cx="1295640" cy="144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700280"/>
            <a:ext cx="27385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¿</a:t>
            </a: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Cuántos días Yo te sujeté para que tú no entrases en aquel ómnibus, carro y hasta av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¿por </a:t>
            </a: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cuántas calles oscuras Yo te guié con segurida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No sé, ya perdí la cuenta, y eso no impor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700280"/>
            <a:ext cx="267012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663300"/>
                </a:solidFill>
                <a:latin typeface="Tempus Sans ITC"/>
              </a:rPr>
              <a:t>Lo que realmente importa, y lo que me deja triste y preocupado, es cuando tú asumes la postura de víctima del mundo, cuando tú no crees en tu capacidad para resolver los problemas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1628640"/>
            <a:ext cx="26704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cuando tú aceptas las situaciones como insolubles,   cuando tú paras de "luchar" y simplemente reclamas de todo y de todos , cuando tú desistes de ser feliz y culpas 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1:57:08Z</dcterms:created>
  <dc:creator>Rosana F.Carniel</dc:creator>
  <dc:description/>
  <dc:language>en-US</dc:language>
  <cp:lastModifiedBy>Maria Elena Carranza Arteta</cp:lastModifiedBy>
  <dcterms:modified xsi:type="dcterms:W3CDTF">2007-09-16T03:03:50Z</dcterms:modified>
  <cp:revision>50</cp:revision>
  <dc:subject>www.misericordia.com.br</dc:subject>
  <dc:title>Quero falar contigo...</dc:title>
</cp:coreProperties>
</file>