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07%20Memory.wav" ContentType="audio/x-wav"/>
  <Override PartName="/ppt/media/image14.jpeg" ContentType="image/jpeg"/>
  <Override PartName="/ppt/media/image13.jpeg" ContentType="image/jpeg"/>
  <Override PartName="/ppt/media/image1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AE4-DC1D-444C-AAD0-CFDA6392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8418-DF77-4AAA-A2A4-00A77E6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C0-E455-4994-9257-5091BEA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026-3232-4FB9-A037-F0C7A952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181-F140-4B06-863A-23FD1A5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204-2F0C-4C99-9C6E-5EABF5C6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AA9-F267-4EB7-991B-FA92C2B8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D60-D240-4F46-B710-81353B3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64B-B598-43B3-95F2-BECBF3C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2A9-BD8C-402D-8D4B-62AD454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B88-5BC7-4AE6-A978-C815E0B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6A8-ED49-4B85-9362-9EF8001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4699-5A8A-45AD-8238-EACF5974E3F7}" type="datetime2">
              <a:rPr b="0" lang="fr-CA" sz="1400" spc="-1" strike="noStrike">
                <a:solidFill>
                  <a:srgbClr val="000000"/>
                </a:solidFill>
                <a:latin typeface="Arial"/>
              </a:rPr>
              <a:t>mercredi 29 juillet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62E3-E48B-422D-9C78-B493297B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07%20Memor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13372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35053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nformal Roman"/>
              </a:rPr>
              <a:t>LOS AMIGOS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nformal Roman"/>
              <a:ea typeface="Informal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    </a:t>
            </a:r>
            <a:fld id="{BC4B0174-D82E-4810-9D71-91EFE583C538}" type="datetime3">
              <a:rPr b="1" lang="fr-CA" sz="1800" spc="-1" strike="noStrike">
                <a:solidFill>
                  <a:srgbClr val="ffffff"/>
                </a:solidFill>
                <a:latin typeface="Arial"/>
              </a:rPr>
              <a:t>29 juillet 2026</a:t>
            </a:fld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  --   </a:t>
            </a:r>
            <a:fld id="{997DFC06-BA87-4B3C-B23D-44228C18A8E3}" type="datetime11">
              <a:rPr b="1" lang="fr-CA" sz="1800" spc="-1" strike="noStrike">
                <a:solidFill>
                  <a:srgbClr val="ffffff"/>
                </a:solidFill>
                <a:latin typeface="Arial"/>
              </a:rPr>
              <a:t>07:17:00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72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in"/>
    <p:sndAc>
      <p:stSnd>
        <p:snd r:embed="rId2" name="07%20Memo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36141_nubes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1734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Pasados los 50 años de vida, he aquí lo que aprendi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cumulonimbus[1] (3).jpg"/>
          <p:cNvPicPr/>
          <p:nvPr/>
        </p:nvPicPr>
        <p:blipFill>
          <a:blip r:embed="rId1"/>
          <a:stretch/>
        </p:blipFill>
        <p:spPr>
          <a:xfrm>
            <a:off x="-252360" y="-82440"/>
            <a:ext cx="10369440" cy="705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7560" y="1102320"/>
            <a:ext cx="697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tiempo pa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 vida contin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 distancia sep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niños cre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</a:t>
            </a: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m</a:t>
            </a: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pleos van y vien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amor se debil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s personas no hacen lo que deberían hac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El corazón se rom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padres mu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os colegas olvidan los fav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Las carreras termi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cloud-05[1].jpg"/>
          <p:cNvPicPr/>
          <p:nvPr/>
        </p:nvPicPr>
        <p:blipFill>
          <a:blip r:embed="rId1"/>
          <a:stretch/>
        </p:blipFill>
        <p:spPr>
          <a:xfrm>
            <a:off x="-396720" y="-55440"/>
            <a:ext cx="10585440" cy="7084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017880"/>
            <a:ext cx="9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, los verdaderos amigos siempre están ahí, no importa a cuánto tiempo o a cuantos kilómetros se encuent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20060827142322_03%20cocodrilo%20buscando%20a%20garfio%20en%20un%20mar%20de%20nubes[1].jpg"/>
          <p:cNvPicPr/>
          <p:nvPr/>
        </p:nvPicPr>
        <p:blipFill>
          <a:blip r:embed="rId1"/>
          <a:stretch/>
        </p:blipFill>
        <p:spPr>
          <a:xfrm>
            <a:off x="0" y="-22860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8368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 haciendo barra por ti, interviniendo a tu favor, esperándote de brazos abiertos o bendiciendo tu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05_cunim_city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42876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Cuando iniciamos esta aventura llamada VIDA, no sabíamos de las increíbles alegrías o tristezas que estaban del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morning-clouds1[1].jpg"/>
          <p:cNvPicPr/>
          <p:nvPr/>
        </p:nvPicPr>
        <p:blipFill>
          <a:blip r:embed="rId1"/>
          <a:srcRect l="0" t="0" r="0" b="2754"/>
          <a:stretch/>
        </p:blipFill>
        <p:spPr>
          <a:xfrm>
            <a:off x="0" y="0"/>
            <a:ext cx="9685440" cy="706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6021360"/>
            <a:ext cx="82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f7"/>
                </a:solidFill>
                <a:latin typeface="Arial"/>
              </a:rPr>
              <a:t>No sabíamos de cuanto necesitaríamos unos de o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clouds-11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283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Remite este texto a todos los amigos que ayudan a dar sentido a tu vid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 Imagen" descr="040224_fumee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95640" y="324648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Yo ya lo hice! ,,,,,,,,,,,,,,,,,,,,,,,,,,,,,,,,,,,,,,,,,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19_stacked_lenticular[1].jpg"/>
          <p:cNvPicPr/>
          <p:nvPr/>
        </p:nvPicPr>
        <p:blipFill>
          <a:blip r:embed="rId1"/>
          <a:stretch/>
        </p:blipFill>
        <p:spPr>
          <a:xfrm>
            <a:off x="0" y="0"/>
            <a:ext cx="9225000" cy="7245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907920"/>
            <a:ext cx="7488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iquer pour faire avanc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tre le 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advTm="6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Cumulus1[1].jpg"/>
          <p:cNvPicPr/>
          <p:nvPr/>
        </p:nvPicPr>
        <p:blipFill>
          <a:blip r:embed="rId1"/>
          <a:srcRect l="0" t="0" r="0" b="5779"/>
          <a:stretch/>
        </p:blipFill>
        <p:spPr>
          <a:xfrm>
            <a:off x="-181080" y="0"/>
            <a:ext cx="1029816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73040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 bebiendo jugo helado durante una visita a su pad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800px-Cirren_von_Cumulonimbus-Amboss_und_Cu%26S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1628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Mientras conversaba sobre la vida, el matrimonio, las responsabilidades y las obligaciones de las personas adultas; el padre revolvía pensativamente los cubos de hielo de su vaso y lanzó una mirada clara y sobria hacia su h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14-fotos-nubes[1].jpg"/>
          <p:cNvPicPr/>
          <p:nvPr/>
        </p:nvPicPr>
        <p:blipFill>
          <a:blip r:embed="rId1"/>
          <a:stretch/>
        </p:blipFill>
        <p:spPr>
          <a:xfrm>
            <a:off x="0" y="-227160"/>
            <a:ext cx="9540720" cy="715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4337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"Nunca olvides a tus amigos", ¡aconsejó!, "Serán más importantes en la medida en que envejezca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nubes_ws_7205[1].jpg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53006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 tu siempre necesitarás de amigos. Recuerda ocasionalmente salir con ellos, realiza actividades con ellos, telefonéalos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349707253_92ece4e723_o[1]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487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"¡Que extraño consejo!" pensó el joven. "Acabo de ingresar al mundo de los casados, soy adulto y con seguridad mi esposa y la familia que iniciaremos ¡serán todo lo que necesito para dar sentido a mi vida!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BeamClouds[1].jpg"/>
          <p:cNvPicPr/>
          <p:nvPr/>
        </p:nvPicPr>
        <p:blipFill>
          <a:blip r:embed="rId1"/>
          <a:srcRect l="0" t="0" r="0" b="5720"/>
          <a:stretch/>
        </p:blipFill>
        <p:spPr>
          <a:xfrm>
            <a:off x="0" y="0"/>
            <a:ext cx="9360000" cy="7029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38934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f7"/>
                </a:solidFill>
                <a:latin typeface="Arial"/>
              </a:rPr>
              <a:t>Con todo, él obedeció a su papá; mantuvo contacto con sus amigos y anualmente aumentaba el número de ellos. Con el pasar de los años, él fue comprendiendo que su padre sabía de lo que habla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cumulonimbus[1].jpg"/>
          <p:cNvPicPr/>
          <p:nvPr/>
        </p:nvPicPr>
        <p:blipFill>
          <a:blip r:embed="rId1"/>
          <a:stretch/>
        </p:blipFill>
        <p:spPr>
          <a:xfrm>
            <a:off x="0" y="-228600"/>
            <a:ext cx="9612360" cy="720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2968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 los amigos resultaron baluartes de su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5:32:34Z</dcterms:created>
  <dc:creator/>
  <dc:description>musical pleasure</dc:description>
  <dc:language>en-US</dc:language>
  <cp:lastModifiedBy>WinuE</cp:lastModifiedBy>
  <dcterms:modified xsi:type="dcterms:W3CDTF">2009-11-01T16:26:26Z</dcterms:modified>
  <cp:revision>2</cp:revision>
  <dc:subject/>
  <dc:title>Diapositiva 1</dc:title>
</cp:coreProperties>
</file>