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gif" ContentType="image/gif"/>
  <Override PartName="/ppt/media/image2.jpeg" ContentType="image/jpeg"/>
  <Override PartName="/ppt/media/image16.jpeg" ContentType="image/jpeg"/>
  <Override PartName="/ppt/media/image15.jpeg" ContentType="image/jpeg"/>
  <Override PartName="/ppt/media/07%20Memory.wav" ContentType="audio/x-wav"/>
  <Override PartName="/ppt/media/image14.jpeg" ContentType="image/jpeg"/>
  <Override PartName="/ppt/media/image13.jpeg" ContentType="image/jpeg"/>
  <Override PartName="/ppt/media/image1.gif" ContentType="image/gi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A71D-BA5E-4191-A40B-21F34F012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0661-FC64-4C17-A62F-DFC2BE62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B53F-E0F1-4E8F-A98E-08D8456D0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C39F-F83D-4219-97FA-A3AB928E4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3C99-48A6-458C-B0D4-D00C4D00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7801-F529-4E58-BBC8-79C4CC03C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D49D-B756-481D-AD5E-070D0405C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3E3B-F478-492E-BB51-9A5889D44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69B0-122A-43B4-B170-F4CAFE789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EB41-E15F-419E-A274-900483D1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5EB8-1556-46DE-BEF0-FDF16188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4131-6A74-4B1F-BDB1-3B61C157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E2246-277D-41BF-9CA7-3EEB918FE589}" type="datetime2">
              <a:rPr b="0" lang="fr-CA" sz="1400" spc="-1" strike="noStrike">
                <a:solidFill>
                  <a:srgbClr val="000000"/>
                </a:solidFill>
                <a:latin typeface="Arial"/>
              </a:rPr>
              <a:t>vendredi 31 juillet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1EA28-6808-498A-86F6-4117D3689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07%20Memory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2133720" cy="1981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447920" y="3505320"/>
            <a:ext cx="61722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nformal Roman"/>
              </a:rPr>
              <a:t>LOS AMIGOS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nformal Roman"/>
              <a:ea typeface="Informal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438280" y="57913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ff"/>
                </a:solidFill>
                <a:latin typeface="Arial"/>
              </a:rPr>
              <a:t>    </a:t>
            </a:r>
            <a:fld id="{A96A64F9-784A-4E8A-842E-0314804A43B8}" type="datetime3">
              <a:rPr b="1" lang="fr-CA" sz="1800" spc="-1" strike="noStrike">
                <a:solidFill>
                  <a:srgbClr val="ffffff"/>
                </a:solidFill>
                <a:latin typeface="Arial"/>
              </a:rPr>
              <a:t>31 juillet 2026</a:t>
            </a:fld>
            <a:r>
              <a:rPr b="1" lang="fr-CA" sz="1800" spc="-1" strike="noStrike">
                <a:solidFill>
                  <a:srgbClr val="ffffff"/>
                </a:solidFill>
                <a:latin typeface="Arial"/>
              </a:rPr>
              <a:t>  --   </a:t>
            </a:r>
            <a:fld id="{6F8A0C60-F419-4CEB-95AB-34BDE0848F52}" type="datetime11">
              <a:rPr b="1" lang="fr-CA" sz="1800" spc="-1" strike="noStrike">
                <a:solidFill>
                  <a:srgbClr val="ffffff"/>
                </a:solidFill>
                <a:latin typeface="Arial"/>
              </a:rPr>
              <a:t>16:42:40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543800" y="61722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zoom dir="in"/>
    <p:sndAc>
      <p:stSnd>
        <p:snd r:embed="rId2" name="07%20Memory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500"/>
                            </p:stCondLst>
                            <p:childTnLst>
                              <p:par>
                                <p:cTn id="18" nodeType="afterEffect" fill="hold" presetClass="entr" presetID="4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5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1 Imagen" descr="136141_nubes1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50920" y="317340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bf7"/>
                </a:solidFill>
                <a:latin typeface="Arial"/>
              </a:rPr>
              <a:t>Pasados los 50 años de vida, he aquí lo que aprendió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1 Imagen" descr="cumulonimbus[1] (3).jpg"/>
          <p:cNvPicPr/>
          <p:nvPr/>
        </p:nvPicPr>
        <p:blipFill>
          <a:blip r:embed="rId1"/>
          <a:stretch/>
        </p:blipFill>
        <p:spPr>
          <a:xfrm>
            <a:off x="-252360" y="-82440"/>
            <a:ext cx="10369440" cy="7056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087560" y="1102320"/>
            <a:ext cx="69706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bf7"/>
                </a:solidFill>
                <a:latin typeface="Arial"/>
              </a:rPr>
              <a:t>El tiempo pas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bf7"/>
                </a:solidFill>
                <a:latin typeface="Arial"/>
              </a:rPr>
              <a:t>La vida continú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bf7"/>
                </a:solidFill>
                <a:latin typeface="Arial"/>
              </a:rPr>
              <a:t>La distancia separ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bf7"/>
                </a:solidFill>
                <a:latin typeface="Arial"/>
              </a:rPr>
              <a:t>Los niños crec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bf7"/>
                </a:solidFill>
                <a:latin typeface="Arial"/>
              </a:rPr>
              <a:t>Los </a:t>
            </a:r>
            <a:r>
              <a:rPr b="1" lang="en-US" sz="2400" spc="-1" strike="noStrike">
                <a:solidFill>
                  <a:srgbClr val="fffbf7"/>
                </a:solidFill>
                <a:latin typeface="Arial"/>
              </a:rPr>
              <a:t>em</a:t>
            </a:r>
            <a:r>
              <a:rPr b="1" lang="en-US" sz="2400" spc="-1" strike="noStrike">
                <a:solidFill>
                  <a:srgbClr val="fffbf7"/>
                </a:solidFill>
                <a:latin typeface="Arial"/>
              </a:rPr>
              <a:t>pleos van y vien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bf7"/>
                </a:solidFill>
                <a:latin typeface="Arial"/>
              </a:rPr>
              <a:t>El amor se debili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bf7"/>
                </a:solidFill>
                <a:latin typeface="Arial"/>
              </a:rPr>
              <a:t>Las personas no hacen lo que deberían hac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bf7"/>
                </a:solidFill>
                <a:latin typeface="Arial"/>
              </a:rPr>
              <a:t>El corazón se romp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bf7"/>
                </a:solidFill>
                <a:latin typeface="Arial"/>
              </a:rPr>
              <a:t>Los padres muer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bf7"/>
                </a:solidFill>
                <a:latin typeface="Arial"/>
              </a:rPr>
              <a:t>Los colegas olvidan los favor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bf7"/>
                </a:solidFill>
                <a:latin typeface="Arial"/>
              </a:rPr>
              <a:t>Las carreras termin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1 Imagen" descr="cloud-05[1].jpg"/>
          <p:cNvPicPr/>
          <p:nvPr/>
        </p:nvPicPr>
        <p:blipFill>
          <a:blip r:embed="rId1"/>
          <a:stretch/>
        </p:blipFill>
        <p:spPr>
          <a:xfrm>
            <a:off x="-396720" y="-55440"/>
            <a:ext cx="10585440" cy="7084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3017880"/>
            <a:ext cx="97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s, los verdaderos amigos siempre están ahí, no importa a cuánto tiempo o a cuantos kilómetros se encuentr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1 Imagen" descr="20060827142322_03%20cocodrilo%20buscando%20a%20garfio%20en%20un%20mar%20de%20nubes[1].jpg"/>
          <p:cNvPicPr/>
          <p:nvPr/>
        </p:nvPicPr>
        <p:blipFill>
          <a:blip r:embed="rId1"/>
          <a:stretch/>
        </p:blipFill>
        <p:spPr>
          <a:xfrm>
            <a:off x="0" y="-228600"/>
            <a:ext cx="9540720" cy="7156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50920" y="283680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amigo nunca está más distante que el alcance de una necesidad, haciendo barra por ti, interviniendo a tu favor, esperándote de brazos abiertos o bendiciendo tu vi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1 Imagen" descr="05_cunim_city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24000" y="428760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bf7"/>
                </a:solidFill>
                <a:latin typeface="Arial"/>
              </a:rPr>
              <a:t>Cuando iniciamos esta aventura llamada VIDA, no sabíamos de las increíbles alegrías o tristezas que estaban delan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1 Imagen" descr="morning-clouds1[1].jpg"/>
          <p:cNvPicPr/>
          <p:nvPr/>
        </p:nvPicPr>
        <p:blipFill>
          <a:blip r:embed="rId1"/>
          <a:srcRect l="0" t="0" r="0" b="2754"/>
          <a:stretch/>
        </p:blipFill>
        <p:spPr>
          <a:xfrm>
            <a:off x="0" y="0"/>
            <a:ext cx="9685440" cy="70642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826920" y="6021360"/>
            <a:ext cx="82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bf7"/>
                </a:solidFill>
                <a:latin typeface="Arial"/>
              </a:rPr>
              <a:t>No sabíamos de cuanto necesitaríamos unos de otr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1 Imagen" descr="clouds-11[1].gif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24000" y="283356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bf7"/>
                </a:solidFill>
                <a:latin typeface="Arial"/>
              </a:rPr>
              <a:t>Remite este texto a todos los amigos que ayudan a dar sentido a tu vida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1 Imagen" descr="040224_fumee[1].gif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195640" y="3246480"/>
            <a:ext cx="643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¡Yo ya lo hice! ,,,,,,,,,,,,,,,,,,,,,,,,,,,,,,,,,,,,,,,,,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 Imagen" descr="19_stacked_lenticular[1].jpg"/>
          <p:cNvPicPr/>
          <p:nvPr/>
        </p:nvPicPr>
        <p:blipFill>
          <a:blip r:embed="rId1"/>
          <a:stretch/>
        </p:blipFill>
        <p:spPr>
          <a:xfrm>
            <a:off x="0" y="0"/>
            <a:ext cx="9225000" cy="7245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900000" y="907920"/>
            <a:ext cx="7488360" cy="34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liquer pour faire avance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ttre le so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ransition advTm="6000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1 Imagen" descr="Cumulus1[1].jpg"/>
          <p:cNvPicPr/>
          <p:nvPr/>
        </p:nvPicPr>
        <p:blipFill>
          <a:blip r:embed="rId1"/>
          <a:srcRect l="0" t="0" r="0" b="5779"/>
          <a:stretch/>
        </p:blipFill>
        <p:spPr>
          <a:xfrm>
            <a:off x="-181080" y="0"/>
            <a:ext cx="10298160" cy="7029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84360" y="4730400"/>
            <a:ext cx="84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ce muchísimos años, un joven recién casado estaba sentado en un sofá en un día caluroso y húmedo, bebiendo jugo helado durante una visita a su pad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 Imagen" descr="800px-Cirren_von_Cumulonimbus-Amboss_und_Cu%26Sc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9640" y="162864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bf7"/>
                </a:solidFill>
                <a:latin typeface="Arial"/>
              </a:rPr>
              <a:t>Mientras conversaba sobre la vida, el matrimonio, las responsabilidades y las obligaciones de las personas adultas; el padre revolvía pensativamente los cubos de hielo de su vaso y lanzó una mirada clara y sobria hacia su hij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1 Imagen" descr="14-fotos-nubes[1].jpg"/>
          <p:cNvPicPr/>
          <p:nvPr/>
        </p:nvPicPr>
        <p:blipFill>
          <a:blip r:embed="rId1"/>
          <a:stretch/>
        </p:blipFill>
        <p:spPr>
          <a:xfrm>
            <a:off x="0" y="-227160"/>
            <a:ext cx="9540720" cy="7155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50920" y="433728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"Nunca olvides a tus amigos", ¡aconsejó!, "Serán más importantes en la medida en que envejezcas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1 Imagen" descr="nubes_ws_7205[1].jpg"/>
          <p:cNvPicPr/>
          <p:nvPr/>
        </p:nvPicPr>
        <p:blipFill>
          <a:blip r:embed="rId1"/>
          <a:stretch/>
        </p:blipFill>
        <p:spPr>
          <a:xfrm>
            <a:off x="0" y="0"/>
            <a:ext cx="9396360" cy="7101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79280" y="5300640"/>
            <a:ext cx="896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Independientemente de cuanto ames a tu familia y los hijos que por ventura vayas a tener, tu siempre necesitarás de amigos. Recuerda ocasionalmente salir con ellos, realiza actividades con ellos, telefonéalos...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1 Imagen" descr="349707253_92ece4e723_o[1].jpg"/>
          <p:cNvPicPr/>
          <p:nvPr/>
        </p:nvPicPr>
        <p:blipFill>
          <a:blip r:embed="rId1"/>
          <a:stretch/>
        </p:blipFill>
        <p:spPr>
          <a:xfrm>
            <a:off x="-324000" y="0"/>
            <a:ext cx="9468000" cy="7101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248760"/>
            <a:ext cx="88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bf7"/>
                </a:solidFill>
                <a:latin typeface="Arial"/>
              </a:rPr>
              <a:t>"¡Que extraño consejo!" pensó el joven. "Acabo de ingresar al mundo de los casados, soy adulto y con seguridad mi esposa y la familia que iniciaremos ¡serán todo lo que necesito para dar sentido a mi vida!"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1 Imagen" descr="BeamClouds[1].jpg"/>
          <p:cNvPicPr/>
          <p:nvPr/>
        </p:nvPicPr>
        <p:blipFill>
          <a:blip r:embed="rId1"/>
          <a:srcRect l="0" t="0" r="0" b="5720"/>
          <a:stretch/>
        </p:blipFill>
        <p:spPr>
          <a:xfrm>
            <a:off x="0" y="0"/>
            <a:ext cx="9360000" cy="7029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79280" y="3893400"/>
            <a:ext cx="896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bf7"/>
                </a:solidFill>
                <a:latin typeface="Arial"/>
              </a:rPr>
              <a:t>Con todo, él obedeció a su papá; mantuvo contacto con sus amigos y anualmente aumentaba el número de ellos. Con el pasar de los años, él fue comprendiendo que su padre sabía de lo que hablab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1 Imagen" descr="cumulonimbus[1].jpg"/>
          <p:cNvPicPr/>
          <p:nvPr/>
        </p:nvPicPr>
        <p:blipFill>
          <a:blip r:embed="rId1"/>
          <a:stretch/>
        </p:blipFill>
        <p:spPr>
          <a:xfrm>
            <a:off x="0" y="-228600"/>
            <a:ext cx="9612360" cy="7209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24000" y="329688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 la medida en que el tiempo y la naturaleza realizan sus designios y misterios en un hombre, los amigos resultaron baluartes de su vi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1T15:32:34Z</dcterms:created>
  <dc:creator/>
  <dc:description>musical pleasure</dc:description>
  <dc:language>en-US</dc:language>
  <cp:lastModifiedBy>WinuE</cp:lastModifiedBy>
  <dcterms:modified xsi:type="dcterms:W3CDTF">2009-11-01T16:26:26Z</dcterms:modified>
  <cp:revision>2</cp:revision>
  <dc:subject/>
  <dc:title>Diapositiva 1</dc:title>
</cp:coreProperties>
</file>