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charles%20chaplin%20-%20terrys%20theme.wav" ContentType="audio/x-wav"/>
  <Override PartName="/ppt/media/image12.jpeg" ContentType="image/jpeg"/>
  <Override PartName="/ppt/media/image7.jpeg" ContentType="image/jpeg"/>
  <Override PartName="/ppt/media/image15.gif" ContentType="image/gif"/>
  <Override PartName="/ppt/media/image19.jpeg" ContentType="image/jpeg"/>
  <Override PartName="/ppt/media/image18.jpeg" ContentType="image/jpeg"/>
  <Override PartName="/ppt/media/image17.jpeg" ContentType="image/jpeg"/>
  <Override PartName="/ppt/media/image16.gif" ContentType="image/gif"/>
  <Override PartName="/ppt/media/image14.jpeg" ContentType="image/jpeg"/>
  <Override PartName="/ppt/media/image1.wmf" ContentType="image/x-wmf"/>
  <Override PartName="/ppt/media/image11.jpeg" ContentType="image/jpeg"/>
  <Override PartName="/ppt/media/image9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77D8-FFB0-4705-BB27-F4F8DB345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2EA7-952A-4577-B208-5EE49731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9807-9D1E-46BC-B62F-B8AC0C6E8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FE23-8B81-4C4B-92D1-FB00229CB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0DE0-7626-4F74-A8E1-8B9D8F12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CC79-2A0F-4C93-86F1-B2FB001C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492D-DBAC-4A56-8BE7-F0308713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BF87-BE0A-48E2-AB36-CB646251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8A8B-0D93-4325-B4D3-C82C4372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CD85-9253-4297-8019-61AE7A6D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02A8-ECFD-4DBA-9DB7-6B1E56CE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F0F6-3569-46CB-86EA-0DDAA8F8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6A17-6CA0-4CE5-A476-95AD4A1E4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audio" Target="../media/charles%20chaplin%20-%20terrys%20theme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4221000"/>
            <a:ext cx="9144000" cy="244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16000" y="4581360"/>
            <a:ext cx="9144000" cy="2303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6000" y="3716280"/>
            <a:ext cx="914400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50920" y="5805360"/>
            <a:ext cx="9936000" cy="1052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2556000" y="3284640"/>
            <a:ext cx="39621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ffcc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a confianza  en  Dios</a:t>
            </a:r>
            <a:endParaRPr b="0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ffcc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317080" y="6308640"/>
            <a:ext cx="647640" cy="36036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99"/>
                </a:solidFill>
                <a:latin typeface="Arial"/>
              </a:rPr>
              <a:t>cli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random/>
    <p:sndAc>
      <p:stSnd>
        <p:snd r:embed="rId6" name="charles%20chaplin%20-%20terrys%20them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25720" y="684720"/>
            <a:ext cx="578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 nada sea capaz de quitarte tu paz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i la fatiga psíquic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i tus fallas morales..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71640" y="1231920"/>
            <a:ext cx="3111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erva siempre sobre tu rostr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dulce sonris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lejo de la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Señor continuam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 diri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0" b="69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55640" y="1120320"/>
            <a:ext cx="223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Y en el fondo de tu alm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oloc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antes que nad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omo fu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de energí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y criterio de verda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todo aquello que te ll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de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Arial"/>
              </a:rPr>
              <a:t>Paz de Dios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724360" y="1916280"/>
            <a:ext cx="285840" cy="1047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211640" y="4076640"/>
            <a:ext cx="152280" cy="1382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cc00"/>
                </a:solidFill>
                <a:latin typeface="Arial"/>
              </a:rPr>
              <a:t>Recuerd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cc00"/>
                </a:solidFill>
                <a:latin typeface="Arial"/>
              </a:rPr>
              <a:t>Cuanto te reprime o inquieta es FALSO y desaparecerá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99cc00"/>
                </a:solidFill>
                <a:latin typeface="Arial"/>
              </a:rPr>
              <a:t>Es PASAJER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cc00"/>
                </a:solidFill>
                <a:latin typeface="Arial"/>
              </a:rPr>
              <a:t>Te lo aseguro en nombre de las Leyes de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99cc00"/>
                </a:solidFill>
                <a:latin typeface="Arial"/>
              </a:rPr>
              <a:t>y de las Promesas de D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3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3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3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3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30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0" b="2763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4920" y="4091040"/>
            <a:ext cx="4103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r es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ando te sient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esadumbrado y triste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¡ Sólo Adora y Confía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4" dur="2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4920" y="747720"/>
            <a:ext cx="910908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Dios nos pone prueba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éstas son para purificarn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y probarnos a nosotros mism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de todo lo que somos capaces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como Hijos Benditos de D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¡Así que amemos lo que Dios ha querido hoy para nosotro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 Teilhard de Chardi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4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47640" y="579960"/>
            <a:ext cx="459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spués de una época sombrí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mpecé a respirar espiritualmente con norm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l descubrir este tex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Teilhard de Chardi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948360" y="692280"/>
            <a:ext cx="1206720" cy="1512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729840" y="220500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bbe0e3"/>
                </a:solidFill>
                <a:latin typeface="Arial"/>
              </a:rPr>
              <a:t>Teilhard de Chard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3795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61240" y="1697040"/>
            <a:ext cx="3381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o te inquie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r las dificulta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 la vid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r sus altibaj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r sus decepcio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r su porvenir m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 menos sombrío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128040" y="270720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¡Quiere… lo que Dios quiere para ti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" dur="2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080" y="830880"/>
            <a:ext cx="634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frécel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n medio de inquietudes y dificultad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l sacrificio de tu alma sencilla qu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e a tod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cepta los designios de su Providencia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2165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79280" y="3951720"/>
            <a:ext cx="624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co impor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 te consideres un frustrad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 Dios te considera plenamente rea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u gust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 Plan Divino para Ti, es perfecto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590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27280" y="1554480"/>
            <a:ext cx="358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preocúpa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fiando ciegam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 ese D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 te quiere para S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 que está en 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nque jamás lo ve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3280" y="1197000"/>
            <a:ext cx="3908520" cy="3600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2060640"/>
            <a:ext cx="4562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iensa que está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 sus man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nto más firmemente agarrad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anto más decaído y tr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 encuentre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176920" y="1433160"/>
            <a:ext cx="224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¡Vive feliz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¡Te lo suplic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23:42:06Z</dcterms:created>
  <dc:creator/>
  <dc:description>plpsop@Yahoo.es</dc:description>
  <dc:language>en-US</dc:language>
  <cp:lastModifiedBy>Raymundo Enríquez Cuevas</cp:lastModifiedBy>
  <dcterms:modified xsi:type="dcterms:W3CDTF">2008-08-05T20:19:58Z</dcterms:modified>
  <cp:revision>33</cp:revision>
  <dc:subject/>
  <dc:title>Confía en Dios</dc:title>
</cp:coreProperties>
</file>