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harles%20chaplin%20-%20terrys%20theme.wav" ContentType="audio/x-wav"/>
  <Override PartName="/ppt/media/image12.jpeg" ContentType="image/jpeg"/>
  <Override PartName="/ppt/media/image7.jpeg" ContentType="image/jpeg"/>
  <Override PartName="/ppt/media/image15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A31-F30B-47EE-8BB4-F2F458BA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67C-2759-42F0-A048-D518873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EE2-9419-4496-BB50-4C27970A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320-BC3A-4391-B310-60A008A4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ECF-D74C-429B-86B9-F270787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6C5-B6B3-46C5-8A24-F8558715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E93-BD91-4D21-B189-6390038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138-2431-4556-A366-C5AEEBE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FBB-BC32-4127-9BE2-35B6C4FA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274-0C08-4127-AE9E-71E6E83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DED-589E-441E-82E2-8339F8B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B62-DBA9-4C63-8FFD-D61A380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63D1-1F20-4CF2-8340-AF837CF81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audio" Target="../media/charles%20chaplin%20-%20terrys%20them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6000" y="4581360"/>
            <a:ext cx="9144000" cy="230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6000" y="3716280"/>
            <a:ext cx="914400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5805360"/>
            <a:ext cx="9936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3284640"/>
            <a:ext cx="396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confianza  en  Dios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317080" y="6308640"/>
            <a:ext cx="647640" cy="360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  <p:sndAc>
      <p:stSnd>
        <p:snd r:embed="rId6" name="charles%20chaplin%20-%20terrys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25720" y="684720"/>
            <a:ext cx="578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 nada sea capaz de quitarte tu pa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 la fatiga psíqu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 tus fallas morales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1231920"/>
            <a:ext cx="311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a siempre sobre tu rost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dulce sonri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jo de l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ñor continu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diri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6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120320"/>
            <a:ext cx="22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Y en el fondo de tu al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lo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tes que na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mo fu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 ener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y criterio de verda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odo aquello que te l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Paz de Dio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85840" cy="10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211640" y="4076640"/>
            <a:ext cx="152280" cy="13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Recuer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Cuanto te reprime o inquieta es FALSO y desaparecerá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Es PASAJE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Te lo aseguro en nombre de las Leyes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y de las Promesas de D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3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3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3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3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3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2763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920" y="409104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 e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ndo te sie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esadumbrado y trist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¡ Sólo Adora y Confí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4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920" y="747720"/>
            <a:ext cx="91090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os nos pone prueb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éstas son para purificar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y probarnos a nosotros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 todo lo que somos capac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mo Hijos Benditos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¡Así que amemos lo que Dios ha querido hoy para nosotr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Teilhard de Chard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79960"/>
            <a:ext cx="45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ués de una época sombrí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pecé a respirar espiritualmente con n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descubrir este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Teilhard de Chard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1206720" cy="151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29840" y="2205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be0e3"/>
                </a:solidFill>
                <a:latin typeface="Arial"/>
              </a:rPr>
              <a:t>Teilhard de Ch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379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61240" y="1697040"/>
            <a:ext cx="338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 te inqui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las dificult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la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sus altibaj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sus decepc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su porvenir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menos sombrí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8040" y="270720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¡Quiere… lo que Dios quiere para ti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080" y="830880"/>
            <a:ext cx="634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réce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medio de inquietudes y dificulta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 sacrificio de tu alma sencilla 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e a to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epta los designios de su Providenci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216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79280" y="3951720"/>
            <a:ext cx="624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co impo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 te consideres un frustra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Dios te considera plenamente re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 gus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Plan Divino para Ti, es perfect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59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27280" y="1554480"/>
            <a:ext cx="35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reocúp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ando cieg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ese 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 te quiere para S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que está en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nque jamás lo v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90852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2060640"/>
            <a:ext cx="456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ensa que est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sus man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to más firmemente agarr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nto más decaído y tr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 encuent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76920" y="1433160"/>
            <a:ext cx="22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¡Vive feli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¡Te lo suplic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42:06Z</dcterms:created>
  <dc:creator/>
  <dc:description>plpsop@Yahoo.es</dc:description>
  <dc:language>en-US</dc:language>
  <cp:lastModifiedBy>Raymundo Enríquez Cuevas</cp:lastModifiedBy>
  <dcterms:modified xsi:type="dcterms:W3CDTF">2008-08-05T20:19:58Z</dcterms:modified>
  <cp:revision>33</cp:revision>
  <dc:subject/>
  <dc:title>Confía en Dios</dc:title>
</cp:coreProperties>
</file>