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Vai%20trabalhar%20vagabund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56B-2703-4915-89E9-799ED6E6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3DA-7EE3-4B36-BF24-CAE782C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E54-CD97-4075-8DAD-17B65C3D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5D7-1EB3-494C-8B04-FE68DC77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584-9828-4227-AD59-A37CD48B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F0C-FDB9-42D0-925F-E0340883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4F1-6187-4779-B8C7-006E7945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2DD-E5C3-4D14-9E26-C02BFB7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910-CF77-400D-93D6-CE208770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75C-9238-4880-8D3E-14D3F3C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DAE-F404-41BB-BCF8-B6251B7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B5C-AC0C-4035-9177-64A21E4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5E1B-C28C-4E45-A29C-5B33FD018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Vai%20trabalhar%20vagabundo.wav"/><Relationship Id="rId3" Type="http://schemas.openxmlformats.org/officeDocument/2006/relationships/audio" Target="../media/Vai%20trabalhar%20vagabundo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360" y="3860640"/>
            <a:ext cx="18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is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59120" y="3449520"/>
            <a:ext cx="131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3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Aceler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S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Frena –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(D)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Turbo</a:t>
            </a:r>
            <a:br>
              <a:rPr sz="2800"/>
            </a:b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 Inic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878120"/>
            <a:ext cx="7543800" cy="4898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280" y="3573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QUE HACES??.....LA PUTA MADRE!!!......  QUERES JUGAR???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!!!!!NOOOO!!!!!   PONETE  A  TRABAJAR ATORR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6301" r="0" b="0"/>
          <a:stretch/>
        </p:blipFill>
        <p:spPr>
          <a:xfrm>
            <a:off x="1219320" y="939960"/>
            <a:ext cx="6933960" cy="526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SEGURO QUE YA HABIAS PUESTO LOS DEDITOS EN LAS LETRAS...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Brock"/>
              </a:rPr>
              <a:t> QUE PELOTUDO !!!...........PONETE A LABURAR Y DEJATE DE JODE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ai%20trabalhar%20vagabun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ai%20trabalhar%20vagabun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4:12:07Z</dcterms:created>
  <dc:creator>Raphael R Vieira</dc:creator>
  <dc:description/>
  <dc:language>en-US</dc:language>
  <cp:lastModifiedBy>rsanchez</cp:lastModifiedBy>
  <dcterms:modified xsi:type="dcterms:W3CDTF">2009-02-23T23:03:49Z</dcterms:modified>
  <cp:revision>16</cp:revision>
  <dc:subject>Jogos</dc:subject>
  <dc:title>Quer relaxar?</dc:title>
</cp:coreProperties>
</file>