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Vai%20trabalhar%20vagabundo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15C-5D40-4498-A473-D075DE41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EDB-185A-464C-B027-7A1CC6A5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839-5D9E-4096-87BA-2E829E51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251-D953-4829-BC0F-04794217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876-8995-4061-8B91-A65A6737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754-1D4A-4418-A11D-08048321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AFD-620A-483E-9297-F975503B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861-6DD8-44DA-AD14-ABFC00CF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4DC-038E-4645-90FC-E511ACF9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3F8-5038-4F7D-829D-9A7BA685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79B-5981-4CFF-BDD7-40371C7C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A6A-749D-48BB-9032-BA640EC7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1BCE-2AB9-4AB8-82B3-928A71F93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Vai%20trabalhar%20vagabundo.wav"/><Relationship Id="rId3" Type="http://schemas.openxmlformats.org/officeDocument/2006/relationships/audio" Target="../media/Vai%20trabalhar%20vagabundo.wav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3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A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Aceler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S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Fren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D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Turbo</a:t>
            </a:r>
            <a:br>
              <a:rPr sz="2800"/>
            </a:b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Inic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878120"/>
            <a:ext cx="7543800" cy="4898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92360" y="3860640"/>
            <a:ext cx="187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ist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3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A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Aceler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S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Fren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D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Turbo</a:t>
            </a:r>
            <a:br>
              <a:rPr sz="2800"/>
            </a:b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Inic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878120"/>
            <a:ext cx="7543800" cy="489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59120" y="3449520"/>
            <a:ext cx="131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357336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3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A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Aceler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S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Fren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D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Turbo</a:t>
            </a:r>
            <a:br>
              <a:rPr sz="2800"/>
            </a:b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Inic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878120"/>
            <a:ext cx="7543800" cy="4898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67280" y="357336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3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A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Aceler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S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Fren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D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Turbo</a:t>
            </a:r>
            <a:br>
              <a:rPr sz="2800"/>
            </a:b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Inic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878120"/>
            <a:ext cx="7543800" cy="4898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7280" y="357336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3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A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Aceler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S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Fren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D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Turbo</a:t>
            </a:r>
            <a:br>
              <a:rPr sz="2800"/>
            </a:b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Inic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878120"/>
            <a:ext cx="7543800" cy="4898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067280" y="357336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3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A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Aceler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S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Fren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D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Turbo</a:t>
            </a:r>
            <a:br>
              <a:rPr sz="2800"/>
            </a:b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Inic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878120"/>
            <a:ext cx="7543800" cy="4898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280" y="357336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91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Brock"/>
              </a:rPr>
              <a:t>QUE HACES??.....LA PUTA MADRE!!!......  QUERES JUGAR???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Brock"/>
              </a:rPr>
              <a:t>!!!!!NOOOO!!!!!   PONETE  A  TRABAJAR ATORR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6301" r="0" b="0"/>
          <a:stretch/>
        </p:blipFill>
        <p:spPr>
          <a:xfrm>
            <a:off x="1219320" y="939960"/>
            <a:ext cx="6933960" cy="5265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Brock"/>
              </a:rPr>
              <a:t>SEGURO QUE YA HABIAS PUESTO LOS DEDITOS EN LAS LETRAS... 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Brock"/>
              </a:rPr>
              <a:t> QUE PELOTUDO !!!...........PONETE A LABURAR Y DEJATE DE JODER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ai%20trabalhar%20vagabun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ai%20trabalhar%20vagabun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4:12:07Z</dcterms:created>
  <dc:creator>Raphael R Vieira</dc:creator>
  <dc:description/>
  <dc:language>en-US</dc:language>
  <cp:lastModifiedBy>rsanchez</cp:lastModifiedBy>
  <dcterms:modified xsi:type="dcterms:W3CDTF">2009-02-23T23:03:49Z</dcterms:modified>
  <cp:revision>16</cp:revision>
  <dc:subject>Jogos</dc:subject>
  <dc:title>Quer relaxar?</dc:title>
</cp:coreProperties>
</file>