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69D-4173-4756-9DC3-C299C174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C33-2119-4C9F-986C-A29AB267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CA4-4797-437C-83E1-DDF25448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68B-15A1-4993-B7A3-C2854141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C187-75F8-4BD0-9D35-2FAFC3AD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7A7-A645-4FBC-A9A2-EB170D2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7A5F-F24A-49FA-9F1F-A9F50C61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59A-6FA0-47AC-BA85-CBFB45D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079-8745-4D27-B384-322C33F4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5E9-6D15-41A2-8E46-B473C27E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F1F-3B67-486F-A7C8-DF54F0C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BE1-648F-4895-81F3-2080B56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06A-10E2-476E-8F9A-B5D42FE5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AEB-F373-4EDA-8C96-E75FFD1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B200-CDA1-4EFD-BEFE-118509D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835B-A330-48E1-A8E0-EC3512E9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1C4-1047-4398-8882-2C5992FD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5BA-A9D2-4857-AE61-D9E88E6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5B4-CC19-46D8-BFDE-705347D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561-F9BA-4C1B-8419-4FB902E0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B3D-5546-4A18-B92C-AA01F1B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126-5D53-4773-ADEC-A66DAA3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AD9-C1C6-48CE-938A-A8E3D987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DB6-5C7B-40A4-BF71-77582BA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F97-42D2-4F63-A60B-85C789CEEC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290-1934-4ADF-BEBA-549C655ABAD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7280" y="1468440"/>
            <a:ext cx="6985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sto parece una imagen normal de japoneses, en una la plantación de arroz normal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ara la creación de las imágenes, los agricultores no usan tinta 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n cambio, utilizan las plantas de arroz de color diferentes, que han sido estratégicamente dispuestas y cultivadas en los campos de arroz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76000" y="549000"/>
            <a:ext cx="6465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uando avanza el verano y las plantas crecen, las ilustraciones detalladas comienzan a emerger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9094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549720"/>
            <a:ext cx="777708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Un guerrero Sengoku a caballo ha sido creado a partir de cientos de miles de plantas de arroz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Los colores son creados por el uso de variedades diferentes. Esta foto fue tomada en Inakadate, Japón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2680" y="-85680"/>
            <a:ext cx="60386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1446480"/>
            <a:ext cx="720108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Napoleón a caballo puede ser visto desde el cielo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Ha sido plantado con precisión y planeado durante meses por los granjeros de esta localidad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0920" y="1341360"/>
            <a:ext cx="569916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Un personaje de ficción, el guerrero y su mujer, cuyas vidas forman parte de series de televisión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551880"/>
            <a:ext cx="717876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ste año, varias obras de arte han aparecido en el arroz de otras zonas agrícolas de Japón, 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omo la imagen de Doraemon y los ciervos bailarines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os agricultores crean los murales de la siembra  utilizando el arroz un poco morado y amarillo Kodaimai junto con sus hojas verde del local Tsugaru-hojas, una variedad romana, para crear los patrones de color en el tiempo entre la siembra y la cosecha en septiembre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32000" y="925560"/>
            <a:ext cx="651492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Desde el nivel del suelo, los diseños son invisibles, y los espectadores tienen que subir a la torre del castillo de la aldea para obtener una visión de la obra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792360"/>
            <a:ext cx="806616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rcando  la imagen, la colocación cuidadosa de los miles de plantas de arroz en los arrozales pueden ser vistos.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ste arte  se inició en 1993 como un proyecto de revitalización local, una idea que surgió de las reuniones de los comités de aldea.</a:t>
            </a:r>
            <a:br>
              <a:rPr sz="3200"/>
            </a:b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as diferentes variedades de plantas de arroz crecen junto a las otras para crear obras maestras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260280"/>
            <a:ext cx="777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los primeros nueve años, los trabajadores de las aldeas y agricultores locales ampliaron un diseño simple del Monte Iwaki cada año. Pero sus ideas se fueron haciendo más complicadas y atrajo más la atención. empezaron a utilizar computadoras  para diseñar con precisión cada parcela de plantación de las cuatro variedades de arroz de diferentes colores que llevan las imágenes de la vid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68360" y="1844640"/>
            <a:ext cx="455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aeaea"/>
                </a:solidFill>
                <a:latin typeface="Verdana"/>
              </a:rPr>
              <a:t>A medida que va creciendo el arroz, aparece una imagen en la plantació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1006200"/>
            <a:ext cx="76438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s impresionante el arte de los cultivos que ha surgido a través de los campos de arroz en Japón, pero esto no es una creación extraterrestre. Los diseños han sido hábilmente sembrados.</a:t>
            </a:r>
            <a:br>
              <a:rPr sz="24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2:15:42Z</dcterms:created>
  <dc:creator>rogelio.sepulveda</dc:creator>
  <dc:description/>
  <dc:language>en-US</dc:language>
  <cp:lastModifiedBy>rogelio.sepulveda</cp:lastModifiedBy>
  <dcterms:modified xsi:type="dcterms:W3CDTF">2010-04-21T14:22:28Z</dcterms:modified>
  <cp:revision>3</cp:revision>
  <dc:subject/>
  <dc:title>Diapositiva 1</dc:title>
</cp:coreProperties>
</file>