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FC6-4A37-4BB8-8CCB-43002D64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93F-B673-4776-B731-1C5E3AA0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F71-89CA-45CA-8778-B4B5E72C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85B-6605-4860-A05D-21580DB0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97D7-BB74-480E-9DE2-A0CB18CD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00B8-5639-4F09-A7DF-09FF056B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9DD2-072C-4DBE-BE58-C90C6210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D8F1-A731-43AC-8886-4FA046E7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1EDC-A477-4E2D-96E1-084B5C5B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5DEC-F500-448C-B83D-36027905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CB5A-7F0B-4289-A72C-EF41CD28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B02-B9E4-45DF-A811-89874A08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5CC4-5D28-473C-8B3B-0F8869D4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9A4E-BD25-4119-B1F3-AF8764D7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A34D-6CFC-4612-B39B-56C2B4C4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503A-65AF-4A3F-9616-37080025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38D5-182C-486F-903B-4CCAACB1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E6D-71FC-46BE-814F-16229ACF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2AA-9EED-49CF-A88B-4284D269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FF2-8656-4DA5-AEEC-BEFA5867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C5E-CEC4-4BE1-BE3C-B235F5A7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E26-9DCB-4B53-8941-9D92D1A0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F8C-EF02-4AE6-B9C2-555B697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857-AA8D-4053-A8DD-A5FB5A5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5D63-A6E4-4132-AB8B-4EFF6111E3C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D0DC-E081-463F-86F0-02683DE3D2D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7280" y="1468440"/>
            <a:ext cx="6985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sto parece una imagen normal de japoneses, en una la plantación de arroz normal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69228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Para la creación de las imágenes, los agricultores no usan tinta .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n cambio, utilizan las plantas de arroz de color diferentes, que han sido estratégicamente dispuestas y cultivadas en los campos de arroz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76000" y="54900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uando avanza el verano y las plantas crecen, las ilustraciones detalladas comienzan a emerger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90944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549720"/>
            <a:ext cx="777708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Un guerrero Sengoku a caballo ha sido creado a partir de cientos de miles de plantas de arroz.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Los colores son creados por el uso de variedades diferentes. Esta foto fue tomada en Inakadate, Japón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2680" y="-85680"/>
            <a:ext cx="60386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7280" y="1446480"/>
            <a:ext cx="720108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Napoleón a caballo puede ser visto desde el cielo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Ha sido plantado con precisión y planeado durante meses por los granjeros de esta localidad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50920" y="1341360"/>
            <a:ext cx="569916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Un personaje de ficción, el guerrero y su mujer, cuyas vidas forman parte de series de televisión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551880"/>
            <a:ext cx="717876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ste año, varias obras de arte han aparecido en el arroz de otras zonas agrícolas de Japón,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omo la imagen de Doraemon y los ciervos bailarines.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os agricultores crean los murales de la siembra  utilizando el arroz un poco morado y amarillo Kodaimai junto con sus hojas verde del local Tsugaru-hojas, una variedad romana, para crear los patrones de color en el tiempo entre la siembra y la cosecha en septiembre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32000" y="925560"/>
            <a:ext cx="651492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Desde el nivel del suelo, los diseños son invisibles, y los espectadores tienen que subir a la torre del castillo de la aldea para obtener una visión de la obra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792360"/>
            <a:ext cx="806616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rcando  la imagen, la colocación cuidadosa de los miles de plantas de arroz en los arrozales pueden ser vistos.</a:t>
            </a:r>
            <a:br>
              <a:rPr sz="3200"/>
            </a:b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ste arte  se inició en 1993 como un proyecto de revitalización local, una idea que surgió de las reuniones de los comités de aldea.</a:t>
            </a:r>
            <a:br>
              <a:rPr sz="3200"/>
            </a:b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Las diferentes variedades de plantas de arroz crecen junto a las otras para crear obras maestras.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26920" y="260280"/>
            <a:ext cx="777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los primeros nueve años, los trabajadores de las aldeas y agricultores locales ampliaron un diseño simple del Monte Iwaki cada año. Pero sus ideas se fueron haciendo más complicadas y atrajo más la atención. empezaron a utilizar computadoras  para diseñar con precisión cada parcela de plantación de las cuatro variedades de arroz de diferentes colores que llevan las imágenes de la vid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68360" y="1844640"/>
            <a:ext cx="4551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aeaea"/>
                </a:solidFill>
                <a:latin typeface="Verdana"/>
              </a:rPr>
              <a:t>A medida que va creciendo el arroz, aparece una imagen en la plantació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6920" y="1006200"/>
            <a:ext cx="764388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s impresionante el arte de los cultivos que ha surgido a través de los campos de arroz en Japón, pero esto no es una creación extraterrestre. Los diseños han sido hábilmente sembrados.</a:t>
            </a:r>
            <a:br>
              <a:rPr sz="24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2:15:42Z</dcterms:created>
  <dc:creator>rogelio.sepulveda</dc:creator>
  <dc:description/>
  <dc:language>en-US</dc:language>
  <cp:lastModifiedBy>rogelio.sepulveda</cp:lastModifiedBy>
  <dcterms:modified xsi:type="dcterms:W3CDTF">2010-04-21T14:22:28Z</dcterms:modified>
  <cp:revision>3</cp:revision>
  <dc:subject/>
  <dc:title>Diapositiva 1</dc:title>
</cp:coreProperties>
</file>