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nt%20ocells%20P.Casals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D7E-CC73-4136-87E2-EF17ABD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7C4-D7F5-4DC3-A595-C8B4D2A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2F8-4B99-4170-AF41-5B9AE30A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5A9-46D3-4130-AB87-D5B6877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629-DC8F-49B3-B1B6-9417408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825-D82E-4BD7-AC01-F710A935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F03-453C-4CB2-86F3-B5892B7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F10-3179-494A-AE50-3528146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53D-2BC4-4CD0-ADFB-E0A8847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B70-3DED-4722-9462-D6E4063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442-40E4-4225-95D7-6E0F30C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022-8F16-45FD-8CB9-E26128D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E0F4-33D8-4516-9307-3A1AA8AF7B9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nt%20ocells%20P.Casals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entreculturas.org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es.wikipedia.org/wiki/The_Elders#Miembros" TargetMode="External"/><Relationship Id="rId4" Type="http://schemas.openxmlformats.org/officeDocument/2006/relationships/hyperlink" Target="http://es.wikipedia.org/wiki/The_Elders#Miembros" TargetMode="External"/><Relationship Id="rId5" Type="http://schemas.openxmlformats.org/officeDocument/2006/relationships/hyperlink" Target="http://es.wikipedia.org/wiki/The_Elders#Miembros" TargetMode="External"/><Relationship Id="rId6" Type="http://schemas.openxmlformats.org/officeDocument/2006/relationships/hyperlink" Target="http://es.wikipedia.org/wiki/The_Elders#Miembros" TargetMode="External"/><Relationship Id="rId7" Type="http://schemas.openxmlformats.org/officeDocument/2006/relationships/hyperlink" Target="http://es.wikipedia.org/wiki/The_Elders#Miembros" TargetMode="External"/><Relationship Id="rId8" Type="http://schemas.openxmlformats.org/officeDocument/2006/relationships/hyperlink" Target="http://es.wikipedia.org/wiki/The_Elders#Miembros" TargetMode="External"/><Relationship Id="rId9" Type="http://schemas.openxmlformats.org/officeDocument/2006/relationships/hyperlink" Target="http://es.wikipedia.org/wiki/The_Elders#Miembros" TargetMode="External"/><Relationship Id="rId10" Type="http://schemas.openxmlformats.org/officeDocument/2006/relationships/hyperlink" Target="http://es.wikipedia.org/wiki/The_Elders#Miembros" TargetMode="External"/><Relationship Id="rId11" Type="http://schemas.openxmlformats.org/officeDocument/2006/relationships/hyperlink" Target="http://es.wikipedia.org/wiki/The_Elders#Miembros" TargetMode="External"/><Relationship Id="rId12" Type="http://schemas.openxmlformats.org/officeDocument/2006/relationships/hyperlink" Target="http://es.wikipedia.org/wiki/The_Elders#Miembros" TargetMode="External"/><Relationship Id="rId13" Type="http://schemas.openxmlformats.org/officeDocument/2006/relationships/hyperlink" Target="http://es.wikipedia.org/wiki/The_Elders#Miembros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981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bebff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beb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270828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3429000"/>
            <a:ext cx="914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d82b5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d82b5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b3f67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b3f67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95280" y="114300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94400" y="2727360"/>
            <a:ext cx="894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REINO ESTÁ ENTRE V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581280"/>
            <a:ext cx="824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393ff"/>
                </a:solidFill>
                <a:latin typeface="Arial Black"/>
              </a:rPr>
              <a:t>no tengas miedo pequeño rebañ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393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5715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139520" y="130320"/>
            <a:ext cx="168804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50133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3333cc"/>
                </a:solidFill>
                <a:latin typeface="Arial"/>
              </a:rPr>
              <a:t>HIJO, TODO LO MÍO ES TUY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0"/>
            <a:ext cx="42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Arial"/>
              </a:rPr>
              <a:t>Música: “Cant del ocells” (popular catala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cant%20ocells%20P.Casa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09480"/>
            <a:ext cx="8280360" cy="5456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ía la luz verdadera que, al venir al mundo, alumbra a todo hombre. En el mundo estaba, y el mundo fue hecho por medio de Él, y el mundo no le conoció.  A lo suyo vino, y los suyos no le recibieron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565360"/>
            <a:ext cx="367200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es un ases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5877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en lo ama ha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46560" y="-866880"/>
            <a:ext cx="4897440" cy="6095880"/>
            <a:chOff x="4246560" y="-866880"/>
            <a:chExt cx="4897440" cy="60958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390920" y="-866880"/>
              <a:ext cx="457200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246560" y="-866880"/>
              <a:ext cx="4897440" cy="86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0920" y="47242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ntreculturas.org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imes New Roman"/>
              </a:rPr>
              <a:t>Más de mil millones no tienen posibilidad de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304920"/>
            <a:ext cx="828036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todos los que le recibieron, les dio el derecho de llegar a ser hijos de Dios, es decir, a los que creen en su nombre,  que no nacieron de sangre, ni de la voluntad de la carne, ni de la voluntad del hombre, sino de Dios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0240"/>
            <a:ext cx="8820000" cy="6827760"/>
            <a:chOff x="0" y="30240"/>
            <a:chExt cx="8820000" cy="682776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0" y="30240"/>
              <a:ext cx="882000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564000" y="3645000"/>
              <a:ext cx="5256000" cy="165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87640" y="3429000"/>
            <a:ext cx="615636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reniega del hermano es el anticris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869000"/>
            <a:ext cx="590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Navidad resuena el mandamient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828036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Verbo se hizo carne, y habitó entre nosotros, y vimos su gloria, gloria como del unigénito del Padre, lleno de gracia y de verdad.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129440" cy="49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851440"/>
            <a:ext cx="2303280" cy="1007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efugiados ruande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89000"/>
            <a:ext cx="8748720" cy="12826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Plantando la tienda entre nosotros, </a:t>
            </a:r>
            <a:br>
              <a:rPr sz="3900"/>
            </a:b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Dios es el primero de amarn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1557360"/>
            <a:ext cx="212256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is hijos de Dios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os ayudáis unos a 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04640"/>
            <a:ext cx="845820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uan dio testimonio de Él y clamó, diciendo: Éste era del que yo decía: "El que viene después de mí, es antes de mí, porque era primero que yo."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421000"/>
            <a:ext cx="2519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mar es pasar de muerte 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32000" y="2292480"/>
            <a:ext cx="5688000" cy="43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6000" y="260280"/>
            <a:ext cx="720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que ve, ¿como puede decir que ama a Dios que no 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35164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ues de su plenitud todos hemos recibido, y gracia sobre gracia. Porque la ley fue dada por medio de Moisés; la gracia y la verdad fueron hechas realidad por medio de Jesucristo. Nadie ha visto jamás a Dios; el unigénito Dios, que está en el seno del Padre, Él le ha dado a conoc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51240" y="1839960"/>
            <a:ext cx="6692760" cy="5018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333360"/>
            <a:ext cx="280836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da a todos el ser HIJOS en su Hi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33360"/>
            <a:ext cx="532764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El Amor se ha manifestado enviando al mundo su Hijo único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907920"/>
            <a:ext cx="8497800" cy="585468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a Palabra eterna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C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os padres de Jesús lo encuentran en la Casa del PAD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700" spc="-1" strike="noStrike">
                <a:solidFill>
                  <a:srgbClr val="3333cc"/>
                </a:solidFill>
                <a:latin typeface="Arial"/>
              </a:rPr>
              <a:t>Como el Día de Navidad meditamos la Palabra de Dios que viene al mun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ientras ora, el Padre revela al Hijo am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l año (ciclo C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 manifiesta su gloria en la fiesta de Caná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15920"/>
            <a:ext cx="85327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076640"/>
            <a:ext cx="684360" cy="486000"/>
          </a:xfrm>
          <a:prstGeom prst="rightArrow">
            <a:avLst>
              <a:gd name="adj1" fmla="val 50000"/>
              <a:gd name="adj2" fmla="val 352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4640"/>
            <a:ext cx="7201080" cy="5400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1341360"/>
            <a:ext cx="5472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Haz, Señor, que la Navidad sea VIDA ETERNA para los hombres y mujeres de ho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732720" y="5013360"/>
            <a:ext cx="1584360" cy="15285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013360"/>
            <a:ext cx="9144000" cy="1403640"/>
          </a:xfrm>
          <a:prstGeom prst="rect">
            <a:avLst/>
          </a:prstGeom>
          <a:gradFill rotWithShape="0">
            <a:gsLst>
              <a:gs pos="0">
                <a:srgbClr val="782402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1197000"/>
            <a:ext cx="6554880" cy="2531880"/>
          </a:xfrm>
          <a:prstGeom prst="rect">
            <a:avLst/>
          </a:prstGeom>
          <a:solidFill>
            <a:srgbClr val="cc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comentarios son del mismo Juan en su 1ª carta a los cristianos de TODO EL MU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860640"/>
            <a:ext cx="6553080" cy="131292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carta en NAVIDAD se hace Lumin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57200"/>
            <a:ext cx="8280360" cy="55792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1:1-18 En el principio existía el Verbo, y el Verbo estaba con Dios, y el Verbo era Dios. Él estaba en el principio con Dios.  Todas las cosas fueron hechas por medio de Él, y sin Él nada de lo que ha sido hecho, fue hecho. En Él estaba la vida, y la vida era la luz de los hombr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6000" y="189000"/>
            <a:ext cx="666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IO es la Palabra de Vida que se nos ha manifestado, puro rega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5373720"/>
            <a:ext cx="5327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unciamos lo que hemos visto y oído?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457200"/>
            <a:ext cx="7848360" cy="6951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 luz brilla en las tinieblas, y las tinieblas no la comprendieron. 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19280" y="755640"/>
            <a:ext cx="7489800" cy="59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260280"/>
            <a:ext cx="489744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LUZ y en El no hay oscur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773360"/>
            <a:ext cx="33112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ndamos provocando tinieblas, somos mentiro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304920"/>
            <a:ext cx="77756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no al mundo un hombre enviado por Dios, cuyo nombre era Juan. Éste vino como testigo, para testificar de la luz, a fin de que todos creyeran por medio de él. No era él la luz, sino que vino para dar testimonio de la luz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3678120" cy="551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76720" y="333360"/>
            <a:ext cx="3529080" cy="37508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victoria que vence el mundo es nuestra Fe en un futuro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221000"/>
            <a:ext cx="485928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verdaderos profetas  han nacido de Dios y actúan justam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0064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Desmond Tutu</a:t>
            </a:r>
            <a:br>
              <a:rPr sz="2800"/>
            </a:b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:/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es.wikipedia.org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ki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The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_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Elders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#</a:t>
            </a:r>
            <a:r>
              <a:rPr b="0" lang="ca-ES" sz="2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Miem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5:49:42Z</dcterms:created>
  <dc:creator>.</dc:creator>
  <dc:description/>
  <dc:language>en-US</dc:language>
  <cp:lastModifiedBy>Usuario</cp:lastModifiedBy>
  <dcterms:modified xsi:type="dcterms:W3CDTF">2010-01-01T21:12:35Z</dcterms:modified>
  <cp:revision>94</cp:revision>
  <dc:subject/>
  <dc:title>Presentación de PowerPoint</dc:title>
</cp:coreProperties>
</file>