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Afrque%202.wav" ContentType="audio/x-wav"/>
  <Override PartName="/ppt/media/image12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4.jpeg" ContentType="image/jpeg"/>
  <Override PartName="/ppt/media/image13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636-D6A1-4760-A472-74E54157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F57-EA92-4963-8A0F-70A0CD12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809-A7AF-42D6-92A6-6A8CB936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302-3859-4F93-8901-A560AF5A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500-C19E-421F-BB50-F9810EAA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B25-F77C-4DAA-9496-AA4D172E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E5D-AA20-411D-AD64-7A69D262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DD4-12EA-4DC1-80C9-98306523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DAF-7B9F-4D4B-BE70-10FCCC85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9B7-C06F-464D-9658-D1114C6F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95B-7F94-4D63-B2E2-455A495B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76D-12D3-47D9-B48E-5422CB8B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2A27-6035-4260-9296-B9B6AD37898A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Afrque%202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solite en </a:t>
            </a: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Afri</a:t>
            </a: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95640" y="5229360"/>
            <a:ext cx="1584360" cy="838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299088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06600" y="0"/>
            <a:ext cx="6129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0"/>
            <a:ext cx="9136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2440"/>
            <a:ext cx="9144000" cy="669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6880" y="0"/>
            <a:ext cx="84884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3880" y="0"/>
            <a:ext cx="5554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36800" y="0"/>
            <a:ext cx="7070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44840" y="0"/>
            <a:ext cx="4052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27000"/>
            <a:ext cx="7337160" cy="683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04920" y="0"/>
            <a:ext cx="6732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0"/>
            <a:ext cx="5010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19000"/>
            <a:ext cx="9144000" cy="5218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44600" y="0"/>
            <a:ext cx="645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84120"/>
            <a:ext cx="9144000" cy="6087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97000"/>
            <a:ext cx="9144000" cy="4834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0"/>
            <a:ext cx="5156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282680" y="148428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F I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421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01960" y="0"/>
            <a:ext cx="513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12:47:19Z</dcterms:created>
  <dc:creator>pour diaporamas-a-la-con.com</dc:creator>
  <dc:description/>
  <dc:language>en-US</dc:language>
  <cp:lastModifiedBy>Monnier</cp:lastModifiedBy>
  <dcterms:modified xsi:type="dcterms:W3CDTF">2010-10-14T20:47:13Z</dcterms:modified>
  <cp:revision>4</cp:revision>
  <dc:subject/>
  <dc:title>Africa</dc:title>
</cp:coreProperties>
</file>