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Afrque%202.wav" ContentType="audio/x-wav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AFC-4BD3-4E77-AA1E-69DE8EEC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020-8EFC-4406-BD7A-58900EE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6AB-4567-4AB2-996B-D6936957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A3F-7C74-4E09-8E4A-75F1F03C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305-217D-41ED-9184-F942606F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C79-D546-4B23-938E-9E67A775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FCA-B76F-4B7C-B3EB-D625C95D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3AE-0552-4AA9-97AE-56D140A2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10C-15BB-4B65-B014-A980176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B53-EC97-47DB-B2C1-ECE801A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564-32C0-47E7-BB01-E06D05D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0DB-071F-4D9B-8E02-185357E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7649-E429-439D-B697-EB1878E2C56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Afrque%202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solite en </a:t>
            </a:r>
            <a:r>
              <a:rPr b="0" lang="hu-HU" sz="4400" spc="-1" strike="noStrike">
                <a:solidFill>
                  <a:srgbClr val="ffffff"/>
                </a:solidFill>
                <a:latin typeface="Arial"/>
              </a:rPr>
              <a:t>Afri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5640" y="5229360"/>
            <a:ext cx="158436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99088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06600" y="0"/>
            <a:ext cx="6129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2440"/>
            <a:ext cx="9144000" cy="669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6880" y="0"/>
            <a:ext cx="8488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3880" y="0"/>
            <a:ext cx="5554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36800" y="0"/>
            <a:ext cx="7070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4840" y="0"/>
            <a:ext cx="4052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7000"/>
            <a:ext cx="7337160" cy="683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0"/>
            <a:ext cx="6732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0"/>
            <a:ext cx="5010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19000"/>
            <a:ext cx="9144000" cy="5218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44600" y="0"/>
            <a:ext cx="645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4120"/>
            <a:ext cx="9144000" cy="608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97000"/>
            <a:ext cx="9144000" cy="4834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0"/>
            <a:ext cx="5156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282680" y="148428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F I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421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01960" y="0"/>
            <a:ext cx="513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2:47:19Z</dcterms:created>
  <dc:creator>pour diaporamas-a-la-con.com</dc:creator>
  <dc:description/>
  <dc:language>en-US</dc:language>
  <cp:lastModifiedBy>Monnier</cp:lastModifiedBy>
  <dcterms:modified xsi:type="dcterms:W3CDTF">2010-10-14T20:47:13Z</dcterms:modified>
  <cp:revision>4</cp:revision>
  <dc:subject/>
  <dc:title>Africa</dc:title>
</cp:coreProperties>
</file>