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Endlesslove.wav" ContentType="audio/x-wav"/>
  <Override PartName="/ppt/media/image4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231-36F4-4970-9A17-3914109E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2BB-728E-4BAD-B8F7-2A3873EE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8F78-09A8-4EDC-A9FF-491536FF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E6CA-A246-4B5A-900F-C6C4FFF7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618-89D7-438C-97BF-FBFA9429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357-288E-40A0-BF11-744D44B4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507-AA8A-4D0C-B874-00A2C9C5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1E7-63AC-4C76-A42F-4C6BA6DC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E77-68D1-4C36-A0F5-199A42C5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2A8-8EFC-477B-A23B-C98ADA9E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2429-7F78-4038-AB50-AADBC85C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190-6DDE-4773-8943-2AD0F74A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A664-B3EA-43E3-9237-1C1D25378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Endlesslov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50440" y="3487680"/>
            <a:ext cx="47451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Signature"/>
              </a:rPr>
              <a:t>Juan 3:16</a:t>
            </a:r>
            <a:r>
              <a:rPr b="0" lang="en-US" sz="5400" spc="-1" strike="noStrike">
                <a:solidFill>
                  <a:srgbClr val="ff0000"/>
                </a:solidFill>
                <a:latin typeface="Signature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43200" y="4811760"/>
            <a:ext cx="5486400" cy="247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70800" y="442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4" name="Endlesslo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927000"/>
            <a:ext cx="8158320" cy="545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¿Saben? Yo tampoco lo entiendo exactamen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Como fue que Dios estuvo dispue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 mandar a su único Hijo a morir por mí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como fue que Jesús estuvo dispuesto a el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No comprendo la agonía del Pad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de toda la Corte Celestial al presenci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l sufrimiento de la pasión y muerte de Jesú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No entiendo la intensidad del AMOR de Jesús por m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ue lo mantuvo en su camino hacia la cruz hasta el f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o no lo entien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ero de lo que si estoy seguro… es de que ha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UE ESTA VIDA VALGA LA PENA VIVIR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QUE NUESTRA MISIÓN DEBE SER CUMPLIDA!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2286000"/>
            <a:ext cx="8820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Juan 3:1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"Porque de tal manera amó Dios al mund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 ha dado a su Hijo Unigénit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a que todo aquel que en Él cre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 se pierda más tenga vida eterna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1390680"/>
            <a:ext cx="8381880" cy="411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i no te avergüenza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asa este mensaje a todos tus amigos y seres que am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n agradecimiento por todas las cosas maravillos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con las que día a día Dios nos bend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 una oración por la persona que te la env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otra por las personas a quienes se la estas envia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n pocas horas habrás hec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ue una multitud de personas oren por o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Hay muchas personas que necesitan recibir este mensaj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a lo mejor de ti, y envíalo a todos los que pue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2286000"/>
            <a:ext cx="8381880" cy="350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00000"/>
                </a:solidFill>
                <a:latin typeface="Garamond"/>
              </a:rPr>
              <a:t> 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DIOS TE BENDI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MAÑ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Y  SIEMP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27000" y="5056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000000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63640" y="620280"/>
            <a:ext cx="82803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Antes de quejarte, cuenta tus bendiciones</a:t>
            </a:r>
            <a:r>
              <a:rPr b="1" lang="es-CR" sz="13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1300"/>
            </a:br>
            <a:r>
              <a:rPr b="1" lang="es-CR" sz="1300" spc="-1" strike="noStrike">
                <a:solidFill>
                  <a:srgbClr val="000000"/>
                </a:solidFill>
                <a:latin typeface="Verdana"/>
                <a:ea typeface="Tahoma"/>
              </a:rPr>
              <a:t>  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Verdana"/>
                <a:ea typeface="Tahoma"/>
              </a:rPr>
              <a:t>  </a:t>
            </a:r>
            <a:r>
              <a:rPr b="1" lang="en-US" sz="23100" spc="-1" strike="noStrike">
                <a:solidFill>
                  <a:srgbClr val="000000"/>
                </a:solidFill>
                <a:latin typeface="Verdana"/>
                <a:ea typeface="Tahoma"/>
              </a:rPr>
              <a:t> 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  <a:ea typeface="Tahoma"/>
              </a:rPr>
              <a:t>                                                                                            </a:t>
            </a:r>
            <a:r>
              <a:rPr b="1" lang="es-E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697800" cy="489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-27000" y="5056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0200" y="555480"/>
            <a:ext cx="817416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n la ciudad de Chicag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una noche de invierno soplaba un fuerte v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Un niñito vendía periódicos en un rincó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tratando de guarecerse del frío inclem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almente, no vendía much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lo que intentaba era no congelarse de frí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Vio a un policía se le acercó y le preguntó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eñor: ¿Sabrá usted de algún refugio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onde un niño pueda dormir esta noch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Normalmente duermo en una caja de cart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ue guardo en el callejó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ero es que esta noche hace demasiado frío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me gustaría estar en un lugar cálido.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6840" y="1844640"/>
            <a:ext cx="877716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policía miró al chico y le dij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aja por esta calle, hasta una casa blanca, toca la puer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 cuando te abran solamente di: “Juan 3:16”, y te dejarán pas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niño obedeció, llegó a la casa y tocó a la puer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gentil señora abrió la puert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niño la miró y le dij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uan 3:16”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838080"/>
            <a:ext cx="8158320" cy="533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señora le contes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- ”Pasa hijo mío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 toma de la mano y lo sienta en una mecedo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erca de una vieja chimenea que estaba encendi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señora sale de la habi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 el chico piensa por un breve instan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"La verdad es que no entiendo eso de Juan 3:16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ro parece que en verdad puede hacer que un chico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 caliente en una noche fría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453960"/>
            <a:ext cx="8381880" cy="55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 rato, la señora regresa y le pregunta al ch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- ¿Quisieras come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chico respondió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pancito no me vendría mal, hace días que no 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 no me vendría nada mal un poco de p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señora tomo al niño de la mano, lo llevó a la coc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 lo sentó a una mesa llena de exquisitos manj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chico comió y comió hasta que ya no pudo m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 entonces pensó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"La verdad es que sigo sin entender a Juan 3:16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ro es seguro que llena un estomago hambriento"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692280"/>
            <a:ext cx="8381880" cy="545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l terminar, la señora tomó al chico de la m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lo llevó al bañ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onde lo esperaba una tina llena agua tib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olorosas burbuj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ientras el chico se sumergía en la tina, pensab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"La verdad es que ahora menos entiendo a Juan 3:16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ero ya sé que este puede dejar bien limpio a un chico su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n verdad yo nunca había tomado un baño de verdad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n toda mi vi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l único baño que recuerdo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fue la vez que me metí debajo del hidrante de los bomb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un día que estos lo abrier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dejaron caer el agua por la calle".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404640"/>
            <a:ext cx="8686800" cy="39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La señora regresó por el chic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lo llevó a una habitación, lo vistió con un pij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lo acostó en una inmensa cama con una almohada de plum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Lo cubrió con una espesa colcha, lo besó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le deseo dulces sueños, apagó la luz y sali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l chico, bien abrigado en la cama veí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 través de la ventana, la nieve caer y pensó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"La verdad es que Juan 3:16 puede hacer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ue un chico cansado pueda descansar..."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1557360"/>
            <a:ext cx="838188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 la mañana siguiente, la señora regresó con ropa limp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 lo llevó ante la misma mesa de la noche anteri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lena de ricos manjares para el desayuno, después de com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señora lo sentó en la misma mecedora de la noche a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 tomó en sus manos una vieja Biblia. Se sentó frente a é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e miró a los ojos y con una dulce voz le dij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- ¿Entiendes a Juan 3:16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 señora, anoche fue la primera vez en mi vida que oí sobre el… cuando el policía me dijo que se lo dijera a us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16000" y="1773360"/>
            <a:ext cx="69120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señora abrió la Biblia; la abrió en Juan 3:1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 comenzó a explicarle, al niño, acerca de Jesú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hí, frente a esa vieja chimenea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chico entregó su corazón y su vida a Jesú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 tiempo que pensab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"Juan 3:16... Quizás no lo entiend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ro hace que un chico perdido se sienta segur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 sienta amado"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03:55:37Z</dcterms:created>
  <dc:creator>Nicanor, Miguel</dc:creator>
  <dc:description/>
  <dc:language>en-US</dc:language>
  <cp:lastModifiedBy>Nicanor, Miguel</cp:lastModifiedBy>
  <dcterms:modified xsi:type="dcterms:W3CDTF">2005-09-23T04:25:16Z</dcterms:modified>
  <cp:revision>2</cp:revision>
  <dc:subject/>
  <dc:title>Diapositiva 1</dc:title>
</cp:coreProperties>
</file>