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Endlesslove.wav" ContentType="audio/x-wav"/>
  <Override PartName="/ppt/media/image4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7CF-1EDD-479A-B100-99ACACF5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12E-8E72-434B-A6C7-4D54914B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FA5-88A2-4655-8092-DCF4365F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A6E-F9DA-4A1A-B250-D18F3B5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B73-2B46-44D0-AAF5-67A2E537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50F-85BD-4626-AF8D-6FA21413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325-0CE4-4954-9843-CD2ABF4F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3EA-02C1-4DDE-AC3A-CADB5B1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B7F-2978-4888-B58D-BE0077D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614-91CB-46EC-9E83-0F6151D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39B-8AD8-47A8-B702-9080D4A2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0CB-C229-4E8A-B56E-B9F3985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3278-6BC9-4AFA-827C-5A4DB7DB7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ndlesslov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50440" y="3487680"/>
            <a:ext cx="47451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ignature"/>
              </a:rPr>
              <a:t>Juan 3:16</a:t>
            </a:r>
            <a:r>
              <a:rPr b="0" lang="en-US" sz="5400" spc="-1" strike="noStrike">
                <a:solidFill>
                  <a:srgbClr val="ff0000"/>
                </a:solidFill>
                <a:latin typeface="Signatur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43200" y="4811760"/>
            <a:ext cx="5486400" cy="24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70800" y="44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Endless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927000"/>
            <a:ext cx="8158320" cy="545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Saben? Yo tampoco lo entiendo exactame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omo fue que Dios estuvo dispu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mandar a su único Hijo a morir por mí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como fue que Jesús estuvo dispuesto a el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 comprendo la agonía del Pad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de toda la Corte Celestial al presenc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sufrimiento de la pasión y muerte de Jesú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 entiendo la intensidad del AMOR de Jesús por m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lo mantuvo en su camino hacia la cruz hasta el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o no lo entie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ero de lo que si estoy seguro… es de que ha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ESTA VIDA VALGA LA PENA VIVI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QUE NUESTRA MISIÓN DEBE SER CUMPLIDA!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2286000"/>
            <a:ext cx="8820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uan 3:1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"Porque de tal manera amó Dios al mun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 ha dado a su Hijo Unigéni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a que todo aquel que en Él cre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 se pierda más tenga vida eterna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1390680"/>
            <a:ext cx="83818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i no te avergüenza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asa este mensaje a todos tus amigos y seres que a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agradecimiento por todas las cosas maravillos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on las que día a día Dios nos bend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 una oración por la persona que te la env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otra por las personas a quienes se la estas envia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pocas horas habrás h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una multitud de personas oren por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y muchas personas que necesitan recibir este mensaj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a lo mejor de ti, y envíalo a todos los que pue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2286000"/>
            <a:ext cx="8381880" cy="35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DIOS TE BENDI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Y  SI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27000" y="5056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63640" y="620280"/>
            <a:ext cx="82803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ntes de quejarte, cuenta tus bendiciones</a:t>
            </a:r>
            <a:r>
              <a:rPr b="1" lang="es-CR" sz="13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1300"/>
            </a:br>
            <a:r>
              <a:rPr b="1" lang="es-CR" sz="1300" spc="-1" strike="noStrike">
                <a:solidFill>
                  <a:srgbClr val="000000"/>
                </a:solidFill>
                <a:latin typeface="Verdana"/>
                <a:ea typeface="Tahoma"/>
              </a:rPr>
              <a:t>  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Verdana"/>
                <a:ea typeface="Tahoma"/>
              </a:rPr>
              <a:t>  </a:t>
            </a:r>
            <a:r>
              <a:rPr b="1" lang="en-US" sz="23100" spc="-1" strike="noStrike">
                <a:solidFill>
                  <a:srgbClr val="000000"/>
                </a:solidFill>
                <a:latin typeface="Verdana"/>
                <a:ea typeface="Tahoma"/>
              </a:rPr>
              <a:t> 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  <a:ea typeface="Tahoma"/>
              </a:rPr>
              <a:t>                                                                                            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97800" cy="489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27000" y="5056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0200" y="555480"/>
            <a:ext cx="817416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la ciudad de Chica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una noche de invierno soplaba un fuerte v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Un niñito vendía periódicos en un rinc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tratando de guarecerse del frío incle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almente, no vendía much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o que intentaba era no congelarse de frí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o a un policía se le acercó y le preguntó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ñor: ¿Sabrá usted de algún refugi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onde un niño pueda dormir esta noch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rmalmente duermo en una caja de cart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guardo en el callej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ero es que esta noche hace demasiado frí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me gustaría estar en un lugar cálido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6840" y="1844640"/>
            <a:ext cx="87771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policía miró al chico y le dij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ja por esta calle, hasta una casa blanca, toca la puer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cuando te abran solamente di: “Juan 3:16”, y te dejarán pas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niño obedeció, llegó a la casa y tocó a la puer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a gentil señora abrió la puer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niño la miró y le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uan 3:16”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838080"/>
            <a:ext cx="8158320" cy="533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le cont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 ”Pasa hijo mí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 toma de la mano y lo sienta en una mecedo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rca de una vieja chimenea que estaba encend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sale de la habi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el chico piensa por un breve instan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La verdad es que no entiendo eso de Juan 3:1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o parece que en verdad puede hacer que un chic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 caliente en una noche frí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53960"/>
            <a:ext cx="8381880" cy="55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rato, la señora regresa y le pregunta al ch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 ¿Quisieras com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chico respondió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 pancito no me vendría mal, hace días que no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no me vendría nada mal un poco de p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tomo al niño de la mano, lo llevó a la coc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lo sentó a una mesa llena de exquisitos manj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chico comió y comió hasta que ya no pudo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entonces pensó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La verdad es que sigo sin entender a Juan 3:1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o es seguro que llena un estomago hambriento"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692280"/>
            <a:ext cx="8381880" cy="545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l terminar, la señora tomó al chico de la m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lo llevó al bañ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onde lo esperaba una tina llena agua tib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olorosas burbuj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ientras el chico se sumergía en la tina, pensab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"La verdad es que ahora menos entiendo a Juan 3:1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ero ya sé que este puede dejar bien limpio a un chico su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verdad yo nunca había tomado un baño de verdad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toda mi v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único baño que recuerd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fue la vez que me metí debajo del hidrante de los bomb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un día que estos lo abrie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dejaron caer el agua por la calle"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04640"/>
            <a:ext cx="8686800" cy="39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a señora regresó por el ch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o llevó a una habitación, lo vistió con un pij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lo acostó en una inmensa cama con una almohada de plu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Lo cubrió con una espesa colcha, lo besó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y le deseo dulces sueños, apagó la luz y sali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chico, bien abrigado en la cama veí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través de la ventana, la nieve caer y pensó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"La verdad es que Juan 3:16 puede hacer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un chico cansado pueda descansar..."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557360"/>
            <a:ext cx="838188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la mañana siguiente, la señora regresó con ropa lim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lo llevó ante la misma mesa de la noche anteri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lena de ricos manjares para el desayuno, después de com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lo sentó en la misma mecedora de la noche an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tomó en sus manos una vieja Biblia. Se sentó frente a é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 miró a los ojos y con una dulce voz le dij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 ¿Entiendes a Juan 3:16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señora, anoche fue la primera vez en mi vida que oí sobre el… cuando el policía me dijo que se lo dijera a us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1773360"/>
            <a:ext cx="6912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 señora abrió la Biblia; la abrió en Juan 3: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comenzó a explicarle, al niño, acerca de Jesú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hí, frente a esa vieja chimenea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chico entregó su corazón y su vida a Jesú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 tiempo que pensab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"Juan 3:16... Quizás no lo entien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o hace que un chico perdido se sienta segu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 sienta amado"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03:55:37Z</dcterms:created>
  <dc:creator>Nicanor, Miguel</dc:creator>
  <dc:description/>
  <dc:language>en-US</dc:language>
  <cp:lastModifiedBy>Nicanor, Miguel</cp:lastModifiedBy>
  <dcterms:modified xsi:type="dcterms:W3CDTF">2005-09-23T04:25:16Z</dcterms:modified>
  <cp:revision>2</cp:revision>
  <dc:subject/>
  <dc:title>Diapositiva 1</dc:title>
</cp:coreProperties>
</file>