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9.gif" ContentType="image/gif"/>
  <Override PartName="/ppt/media/image12.gif" ContentType="image/gif"/>
  <Override PartName="/ppt/media/image3.jpeg" ContentType="image/jpeg"/>
  <Override PartName="/ppt/media/image7.gif" ContentType="image/gif"/>
  <Override PartName="/ppt/media/image5.jpeg" ContentType="image/jpeg"/>
  <Override PartName="/ppt/media/image18.gif" ContentType="image/gif"/>
  <Override PartName="/ppt/media/image17.gif" ContentType="image/gif"/>
  <Override PartName="/ppt/media/image2.jpeg" ContentType="image/jpeg"/>
  <Override PartName="/ppt/media/image16.gif" ContentType="image/gif"/>
  <Override PartName="/ppt/media/image15.gif" ContentType="image/gif"/>
  <Override PartName="/ppt/media/image13.gif" ContentType="image/gif"/>
  <Override PartName="/ppt/media/image4.jpeg" ContentType="image/jpeg"/>
  <Override PartName="/ppt/media/image8.gif" ContentType="image/gif"/>
  <Override PartName="/ppt/media/image1.jpeg" ContentType="image/jpeg"/>
  <Override PartName="/ppt/media/tuiste313.wav" ContentType="audio/x-wav"/>
  <Override PartName="/ppt/media/image14.gif" ContentType="image/gif"/>
  <Override PartName="/ppt/media/image6.gif" ContentType="image/gif"/>
  <Override PartName="/ppt/media/image1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4986-C5AC-409B-8BA2-B9F1CB38D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DDD4-60F5-446E-85DF-68C29D249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59B9-3A1F-418A-AFC3-FB726C049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6D7B-2023-4F6D-BCA8-6ACF0455E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49D9-4068-4EFF-88A1-8DFF3FDB5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76D4-3FFF-4B01-ABA8-E79E5C2C5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E95C-73CB-4138-BE8C-DBC1B57EB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A693-5597-4AD3-9C58-7698C9688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D4AA-A4A7-40A1-8972-9665A072B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BD97-4FF3-4E06-ADBB-3050006E2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C5A5-453D-4C85-BE7C-1AA8BD2C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21AA-09F8-4EA8-93E3-61A576684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DB811-F343-4C0A-BF19-6E123207401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uiste313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image" Target="../media/image17.gif"/><Relationship Id="rId5" Type="http://schemas.openxmlformats.org/officeDocument/2006/relationships/image" Target="../media/image18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4581000"/>
            <a:ext cx="81342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600" spc="-1" strike="noStrike">
                <a:solidFill>
                  <a:srgbClr val="006600"/>
                </a:solidFill>
                <a:latin typeface="VAGRounded BT"/>
              </a:rPr>
              <a:t>¿Conoces esta fábula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hormigacigarra1"/>
          <p:cNvPicPr/>
          <p:nvPr/>
        </p:nvPicPr>
        <p:blipFill>
          <a:blip r:embed="rId1"/>
          <a:stretch/>
        </p:blipFill>
        <p:spPr>
          <a:xfrm>
            <a:off x="1692360" y="765000"/>
            <a:ext cx="5705280" cy="356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8000" y="620640"/>
            <a:ext cx="8856720" cy="583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00"/>
                </a:solidFill>
                <a:latin typeface="VAGRounded BT"/>
              </a:rPr>
              <a:t>Moraleja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006600"/>
                </a:solidFill>
                <a:latin typeface="VAGRounded BT"/>
              </a:rPr>
              <a:t> </a:t>
            </a:r>
            <a:r>
              <a:rPr b="0" i="1" lang="es-ES" sz="2400" spc="-1" strike="noStrike">
                <a:solidFill>
                  <a:srgbClr val="006600"/>
                </a:solidFill>
                <a:latin typeface="VAGRounded BT"/>
              </a:rPr>
              <a:t>Aprovecha la vida, dosifica el trabajo y la diversión, pues trabajar demasiado sólo trae beneficios en las fábulas de La Fontaine.</a:t>
            </a:r>
            <a:br>
              <a:rPr sz="2400"/>
            </a:br>
            <a:br>
              <a:rPr sz="2400"/>
            </a:br>
            <a:r>
              <a:rPr b="0" i="1" lang="es-ES" sz="2400" spc="-1" strike="noStrike">
                <a:solidFill>
                  <a:srgbClr val="006600"/>
                </a:solidFill>
                <a:latin typeface="VAGRounded BT"/>
              </a:rPr>
              <a:t>Trabaja, pero disfruta de la vida que es única. </a:t>
            </a:r>
            <a:br>
              <a:rPr sz="2400"/>
            </a:br>
            <a:r>
              <a:rPr b="0" i="1" lang="es-ES" sz="2400" spc="-1" strike="noStrike">
                <a:solidFill>
                  <a:srgbClr val="006600"/>
                </a:solidFill>
                <a:latin typeface="VAGRounded BT"/>
              </a:rPr>
              <a:t>Si no encuentras a tu media naranja, no te desanimes, busca medio limón, pónle azúcar, aguardiente y hielo y sé feliz.</a:t>
            </a:r>
            <a:br>
              <a:rPr sz="2400"/>
            </a:br>
            <a:r>
              <a:rPr b="0" i="1" lang="es-ES" sz="2400" spc="-1" strike="noStrike">
                <a:solidFill>
                  <a:srgbClr val="006600"/>
                </a:solidFill>
                <a:latin typeface="VAGRounded BT"/>
              </a:rPr>
              <a:t> </a:t>
            </a:r>
            <a:br>
              <a:rPr sz="2400"/>
            </a:br>
            <a:r>
              <a:rPr b="0" i="1" lang="es-ES" sz="2400" spc="-1" strike="noStrike">
                <a:solidFill>
                  <a:srgbClr val="006600"/>
                </a:solidFill>
                <a:latin typeface="VAGRounded BT"/>
              </a:rPr>
              <a:t>Y recuerda: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i="1" lang="es-ES" sz="2400" spc="-1" strike="noStrike">
                <a:solidFill>
                  <a:srgbClr val="006600"/>
                </a:solidFill>
                <a:latin typeface="VAGRounded BT"/>
              </a:rPr>
              <a:t>¡</a:t>
            </a:r>
            <a:r>
              <a:rPr b="0" i="1" lang="es-ES" sz="3200" spc="-1" strike="noStrike">
                <a:solidFill>
                  <a:srgbClr val="006600"/>
                </a:solidFill>
                <a:latin typeface="VAGRounded BT"/>
              </a:rPr>
              <a:t>vivir para trabajar sólo hace feliz al jef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1790640" cy="15717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588000" y="4365720"/>
            <a:ext cx="209556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7993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VAGRounded BT"/>
              </a:rPr>
              <a:t>Que tengas un buen Día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403280" y="2997360"/>
            <a:ext cx="1305000" cy="1323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79280" y="4076640"/>
            <a:ext cx="1000080" cy="14763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7020000" y="4797360"/>
            <a:ext cx="1447560" cy="16477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2195640" y="4941720"/>
            <a:ext cx="1333440" cy="14954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3203640" y="2565360"/>
            <a:ext cx="333360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197000"/>
            <a:ext cx="7772400" cy="36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VAGRounded BT"/>
              </a:rPr>
              <a:t>Había una vez una</a:t>
            </a:r>
            <a:br>
              <a:rPr sz="2800"/>
            </a:br>
            <a:r>
              <a:rPr b="1" lang="en-US" sz="2800" spc="-1" strike="noStrike">
                <a:solidFill>
                  <a:srgbClr val="006600"/>
                </a:solidFill>
                <a:latin typeface="VAGRounded BT"/>
              </a:rPr>
              <a:t>Hormiguita y una Cigarra que eran muy amigas...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6600"/>
                </a:solidFill>
                <a:latin typeface="VAGRounded BT"/>
              </a:rPr>
              <a:t>Durante todo el otoño la Hormiguita trabajó sin  parar, almacenando comida para el invier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08"/>
          <p:cNvPicPr/>
          <p:nvPr/>
        </p:nvPicPr>
        <p:blipFill>
          <a:blip r:embed="rId1"/>
          <a:stretch/>
        </p:blipFill>
        <p:spPr>
          <a:xfrm>
            <a:off x="6300720" y="4724280"/>
            <a:ext cx="226692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VAGRounded BT"/>
              </a:rPr>
              <a:t>No aprovechó el sol, ni la brisa suave del atardecer, ni charló con los amigos tomando una cervecita después de un día de trabaj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04"/>
          <p:cNvPicPr/>
          <p:nvPr/>
        </p:nvPicPr>
        <p:blipFill>
          <a:blip r:embed="rId1"/>
          <a:stretch/>
        </p:blipFill>
        <p:spPr>
          <a:xfrm>
            <a:off x="2700360" y="3068640"/>
            <a:ext cx="3995640" cy="30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27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VAGRounded BT"/>
              </a:rPr>
              <a:t>Mientras, la Cigarra sólo andaba cantando con los amigos en los bares de la ciudad, sin desperdiciar ni un solo minuto. Cantó durante todo el otoño, bailó, aprovechó el sol y disfrutó muchísimo sin preocuparse por el mal tiempo que iba a lleg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12"/>
          <p:cNvPicPr/>
          <p:nvPr/>
        </p:nvPicPr>
        <p:blipFill>
          <a:blip r:embed="rId1"/>
          <a:stretch/>
        </p:blipFill>
        <p:spPr>
          <a:xfrm>
            <a:off x="4716360" y="3645000"/>
            <a:ext cx="34671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218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00"/>
                </a:solidFill>
                <a:latin typeface="VAGRounded BT"/>
              </a:rPr>
              <a:t>Pasados unos días empezó el frío. La Hormiguita, exhausta de tanto trabajar, se metió en su pobre guarida repleta hasta el techo de comi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26"/>
          <p:cNvPicPr/>
          <p:nvPr/>
        </p:nvPicPr>
        <p:blipFill>
          <a:blip r:embed="rId1"/>
          <a:stretch/>
        </p:blipFill>
        <p:spPr>
          <a:xfrm>
            <a:off x="1979640" y="2492280"/>
            <a:ext cx="5292720" cy="40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00"/>
                </a:solidFill>
                <a:latin typeface="VAGRounded BT"/>
              </a:rPr>
              <a:t>Pero alguien la llamó por su nombre desde afuera y cuando abrió la puerta se sorprendió al ver a su amiga Cigarra dentro de una Ferrari y con un valioso abrigo de pieles.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227640" y="5084640"/>
            <a:ext cx="590760" cy="533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619280" y="4005360"/>
            <a:ext cx="4572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8207280" cy="56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VAGRounded BT"/>
              </a:rPr>
              <a:t>La Cigarra le dice:</a:t>
            </a:r>
            <a:br>
              <a:rPr sz="2800"/>
            </a:br>
            <a:br>
              <a:rPr sz="2800"/>
            </a:br>
            <a:r>
              <a:rPr b="1" lang="es-ES" sz="2800" spc="-1" strike="noStrike">
                <a:solidFill>
                  <a:srgbClr val="006600"/>
                </a:solidFill>
                <a:latin typeface="VAGRounded BT"/>
              </a:rPr>
              <a:t>-</a:t>
            </a:r>
            <a:r>
              <a:rPr b="1" i="1" lang="es-ES" sz="2800" spc="-1" strike="noStrike">
                <a:solidFill>
                  <a:srgbClr val="006600"/>
                </a:solidFill>
                <a:latin typeface="VAGRounded BT"/>
              </a:rPr>
              <a:t>Hola amiga! Voy a pasar el invierno en Paris. ¿Podrías cuidar de mi casa?</a:t>
            </a:r>
            <a:br>
              <a:rPr sz="2800"/>
            </a:br>
            <a:br>
              <a:rPr sz="2800"/>
            </a:br>
            <a:r>
              <a:rPr b="1" lang="es-ES" sz="2800" spc="-1" strike="noStrike">
                <a:solidFill>
                  <a:srgbClr val="006600"/>
                </a:solidFill>
                <a:latin typeface="VAGRounded BT"/>
              </a:rPr>
              <a:t> La  Hormiguita respondió:</a:t>
            </a:r>
            <a:br>
              <a:rPr sz="2800"/>
            </a:br>
            <a:br>
              <a:rPr sz="2800"/>
            </a:br>
            <a:r>
              <a:rPr b="1" lang="es-ES" sz="2800" spc="-1" strike="noStrike">
                <a:solidFill>
                  <a:srgbClr val="006600"/>
                </a:solidFill>
                <a:latin typeface="VAGRounded BT"/>
              </a:rPr>
              <a:t>-</a:t>
            </a:r>
            <a:r>
              <a:rPr b="1" i="1" lang="es-ES" sz="2800" spc="-1" strike="noStrike">
                <a:solidFill>
                  <a:srgbClr val="006600"/>
                </a:solidFill>
                <a:latin typeface="VAGRounded BT"/>
              </a:rPr>
              <a:t>Sí claro! Desde luego. </a:t>
            </a:r>
            <a:br>
              <a:rPr sz="2800"/>
            </a:br>
            <a:r>
              <a:rPr b="1" i="1" lang="es-ES" sz="2800" spc="-1" strike="noStrike">
                <a:solidFill>
                  <a:srgbClr val="006600"/>
                </a:solidFill>
                <a:latin typeface="VAGRounded BT"/>
              </a:rPr>
              <a:t>Pero, ¿qué ocurrió? ¿Dónde conseguiste el dinero para ir a Paris, comprar este  Ferrari y ese abrigo tan bonito y caro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58560" y="764640"/>
            <a:ext cx="7054920" cy="50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00"/>
                </a:solidFill>
                <a:latin typeface="VAGRounded BT"/>
              </a:rPr>
              <a:t>Y la  Cigarra respondió: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006600"/>
                </a:solidFill>
                <a:latin typeface="VAGRounded BT"/>
              </a:rPr>
              <a:t> -</a:t>
            </a:r>
            <a:r>
              <a:rPr b="0" i="1" lang="es-ES" sz="2800" spc="-1" strike="noStrike">
                <a:solidFill>
                  <a:srgbClr val="006600"/>
                </a:solidFill>
                <a:latin typeface="VAGRounded BT"/>
              </a:rPr>
              <a:t> estaba cantando en un bar la semana  pasada y a un productor le </a:t>
            </a:r>
            <a:br>
              <a:rPr sz="2800"/>
            </a:br>
            <a:r>
              <a:rPr b="0" i="1" lang="es-ES" sz="2800" spc="-1" strike="noStrike">
                <a:solidFill>
                  <a:srgbClr val="006600"/>
                </a:solidFill>
                <a:latin typeface="VAGRounded BT"/>
              </a:rPr>
              <a:t>gustó mi voz.</a:t>
            </a:r>
            <a:br>
              <a:rPr sz="2800"/>
            </a:br>
            <a:r>
              <a:rPr b="0" i="1" lang="es-ES" sz="2800" spc="-1" strike="noStrike">
                <a:solidFill>
                  <a:srgbClr val="006600"/>
                </a:solidFill>
                <a:latin typeface="VAGRounded BT"/>
              </a:rPr>
              <a:t>Firmé un contrato para  hacer shows en París.</a:t>
            </a:r>
            <a:br>
              <a:rPr sz="2800"/>
            </a:br>
            <a:r>
              <a:rPr b="0" i="1" lang="es-ES" sz="2800" spc="-1" strike="noStrike">
                <a:solidFill>
                  <a:srgbClr val="006600"/>
                </a:solidFill>
                <a:latin typeface="VAGRounded BT"/>
              </a:rPr>
              <a:t>A propósito, ¿necesitas algo de allí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308720" y="5229360"/>
            <a:ext cx="1009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00"/>
                </a:solidFill>
                <a:latin typeface="VAGRounded BT"/>
              </a:rPr>
              <a:t>- Si, dijo la Hormiguita.</a:t>
            </a:r>
            <a:br>
              <a:rPr sz="3200"/>
            </a:br>
            <a:br>
              <a:rPr sz="3200"/>
            </a:br>
            <a:r>
              <a:rPr b="0" lang="es-ES" sz="3200" spc="-1" strike="noStrike">
                <a:solidFill>
                  <a:srgbClr val="006600"/>
                </a:solidFill>
                <a:latin typeface="VAGRounded BT"/>
              </a:rPr>
              <a:t>- </a:t>
            </a:r>
            <a:r>
              <a:rPr b="0" i="1" lang="es-ES" sz="3200" spc="-1" strike="noStrike">
                <a:solidFill>
                  <a:srgbClr val="006600"/>
                </a:solidFill>
                <a:latin typeface="VAGRounded BT"/>
              </a:rPr>
              <a:t>Si te encuentras con </a:t>
            </a:r>
            <a:r>
              <a:rPr b="1" i="1" lang="es-ES" sz="3200" spc="-1" strike="noStrike">
                <a:solidFill>
                  <a:srgbClr val="006600"/>
                </a:solidFill>
                <a:latin typeface="VAGRounded BT"/>
              </a:rPr>
              <a:t>La Fontaine</a:t>
            </a:r>
            <a:br>
              <a:rPr sz="3200"/>
            </a:br>
            <a:r>
              <a:rPr b="0" i="1" lang="es-ES" sz="3200" spc="-1" strike="noStrike">
                <a:solidFill>
                  <a:srgbClr val="006600"/>
                </a:solidFill>
                <a:latin typeface="VAGRounded BT"/>
              </a:rPr>
              <a:t>(autor de la fábula  original),</a:t>
            </a:r>
            <a:br>
              <a:rPr sz="3200"/>
            </a:br>
            <a:br>
              <a:rPr sz="3200"/>
            </a:br>
            <a:r>
              <a:rPr b="0" i="1" lang="es-ES" sz="3200" spc="-1" strike="noStrike">
                <a:solidFill>
                  <a:srgbClr val="006600"/>
                </a:solidFill>
                <a:latin typeface="VAGRounded BT"/>
              </a:rPr>
              <a:t>  ¡¡¡ </a:t>
            </a:r>
            <a:r>
              <a:rPr b="1" i="1" lang="es-ES" sz="3200" spc="-1" strike="noStrike">
                <a:solidFill>
                  <a:srgbClr val="006600"/>
                </a:solidFill>
                <a:latin typeface="VAGRounded BT"/>
              </a:rPr>
              <a:t>MANDALO A LA MIERDA </a:t>
            </a:r>
            <a:br>
              <a:rPr sz="3200"/>
            </a:br>
            <a:r>
              <a:rPr b="1" i="1" lang="es-ES" sz="3200" spc="-1" strike="noStrike">
                <a:solidFill>
                  <a:srgbClr val="006600"/>
                </a:solidFill>
                <a:latin typeface="VAGRounded BT"/>
              </a:rPr>
              <a:t>DE MI PARTE 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68360" y="4437000"/>
            <a:ext cx="657360" cy="5619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516720" y="4724280"/>
            <a:ext cx="1181160" cy="1581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4284720" y="5445000"/>
            <a:ext cx="7714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0T08:12:01Z</dcterms:created>
  <dc:creator>riche</dc:creator>
  <dc:description/>
  <dc:language>en-US</dc:language>
  <cp:lastModifiedBy>.</cp:lastModifiedBy>
  <dcterms:modified xsi:type="dcterms:W3CDTF">2009-01-09T20:02:15Z</dcterms:modified>
  <cp:revision>13</cp:revision>
  <dc:subject/>
  <dc:title>Leíste esta fabula? </dc:title>
</cp:coreProperties>
</file>