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3.gif" ContentType="image/gif"/>
  <Override PartName="/ppt/media/image4.jpeg" ContentType="image/jpeg"/>
  <Override PartName="/ppt/media/image8.gif" ContentType="image/gif"/>
  <Override PartName="/ppt/media/image1.jpeg" ContentType="image/jpeg"/>
  <Override PartName="/ppt/media/tuiste313.wav" ContentType="audio/x-wav"/>
  <Override PartName="/ppt/media/image14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EE3-C78C-45BD-ACB8-34A1CE92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6F3-807F-41EB-AC3A-B0CE129B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83F-F88D-422F-831E-B005A007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739-C112-4388-BC06-1CA9468F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0D6-183C-425F-9967-169CD8E0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B66-ADB6-4A75-8C7A-27595315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DC7-6F46-462D-9447-F6473F85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C61-71FC-4514-BEF1-022637F8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D74-A328-4A22-97F1-83DBE744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1ED-407C-47C8-B790-111511A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CBE-FBC1-41A3-9169-6BAEBFC3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2F2-9FC5-46C4-B53F-237619F9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DEE2-2269-4FAF-8D7A-60A579CF18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uiste31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581000"/>
            <a:ext cx="81342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6600"/>
                </a:solidFill>
                <a:latin typeface="VAGRounded BT"/>
              </a:rPr>
              <a:t>¿Conoces esta fábu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ormigacigarra1"/>
          <p:cNvPicPr/>
          <p:nvPr/>
        </p:nvPicPr>
        <p:blipFill>
          <a:blip r:embed="rId1"/>
          <a:stretch/>
        </p:blipFill>
        <p:spPr>
          <a:xfrm>
            <a:off x="1692360" y="765000"/>
            <a:ext cx="5705280" cy="35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62064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VAGRounded BT"/>
              </a:rPr>
              <a:t>Moralej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6600"/>
                </a:solidFill>
                <a:latin typeface="VAGRounded BT"/>
              </a:rPr>
              <a:t> </a:t>
            </a: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Aprovecha la vida, dosifica el trabajo y la diversión, pues trabajar demasiado sólo trae beneficios en las fábulas de La Fontaine.</a:t>
            </a:r>
            <a:br>
              <a:rPr sz="2400"/>
            </a:b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Trabaja, pero disfruta de la vida que es única. </a:t>
            </a: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Si no encuentras a tu media naranja, no te desanimes, busca medio limón, pónle azúcar, aguardiente y hielo y sé feliz.</a:t>
            </a: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 </a:t>
            </a: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Y recuerda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¡</a:t>
            </a:r>
            <a:r>
              <a:rPr b="0" i="1" lang="es-ES" sz="3200" spc="-1" strike="noStrike">
                <a:solidFill>
                  <a:srgbClr val="006600"/>
                </a:solidFill>
                <a:latin typeface="VAGRounded BT"/>
              </a:rPr>
              <a:t>vivir para trabajar sólo hace feliz al je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79064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0955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VAGRounded BT"/>
              </a:rPr>
              <a:t>Que tengas un buen Día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1305000" cy="132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407664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020000" y="4797360"/>
            <a:ext cx="1447560" cy="1647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195640" y="4941720"/>
            <a:ext cx="133344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203640" y="2565360"/>
            <a:ext cx="3333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AGRounded BT"/>
              </a:rPr>
              <a:t>Había una vez una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VAGRounded BT"/>
              </a:rPr>
              <a:t>Hormiguita y una Cigarra que eran muy amigas..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VAGRounded BT"/>
              </a:rPr>
              <a:t>Durante todo el otoño la Hormiguita trabajó sin  parar, almacenando comida para el invi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08"/>
          <p:cNvPicPr/>
          <p:nvPr/>
        </p:nvPicPr>
        <p:blipFill>
          <a:blip r:embed="rId1"/>
          <a:stretch/>
        </p:blipFill>
        <p:spPr>
          <a:xfrm>
            <a:off x="6300720" y="4724280"/>
            <a:ext cx="2266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No aprovechó el sol, ni la brisa suave del atardecer, ni charló con los amigos tomando una cervecita después de un día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04"/>
          <p:cNvPicPr/>
          <p:nvPr/>
        </p:nvPicPr>
        <p:blipFill>
          <a:blip r:embed="rId1"/>
          <a:stretch/>
        </p:blipFill>
        <p:spPr>
          <a:xfrm>
            <a:off x="2700360" y="3068640"/>
            <a:ext cx="39956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Mientras, la Cigarra sólo andaba cantando con los amigos en los bares de la ciudad, sin desperdiciar ni un solo minuto. Cantó durante todo el otoño, bailó, aprovechó el sol y disfrutó muchísimo sin preocuparse por el mal tiempo que iba a lle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2"/>
          <p:cNvPicPr/>
          <p:nvPr/>
        </p:nvPicPr>
        <p:blipFill>
          <a:blip r:embed="rId1"/>
          <a:stretch/>
        </p:blipFill>
        <p:spPr>
          <a:xfrm>
            <a:off x="4716360" y="3645000"/>
            <a:ext cx="3467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VAGRounded BT"/>
              </a:rPr>
              <a:t>Pasados unos días empezó el frío. La Hormiguita, exhausta de tanto trabajar, se metió en su pobre guarida repleta hasta el techo de com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6"/>
          <p:cNvPicPr/>
          <p:nvPr/>
        </p:nvPicPr>
        <p:blipFill>
          <a:blip r:embed="rId1"/>
          <a:stretch/>
        </p:blipFill>
        <p:spPr>
          <a:xfrm>
            <a:off x="1979640" y="2492280"/>
            <a:ext cx="529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VAGRounded BT"/>
              </a:rPr>
              <a:t>Pero alguien la llamó por su nombre desde afuera y cuando abrió la puerta se sorprendió al ver a su amiga Cigarra dentro de una Ferrari y con un valioso abrigo de pieles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5084640"/>
            <a:ext cx="59076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19280" y="4005360"/>
            <a:ext cx="457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La Cigarra le dice: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-</a:t>
            </a:r>
            <a:r>
              <a:rPr b="1" i="1" lang="es-ES" sz="2800" spc="-1" strike="noStrike">
                <a:solidFill>
                  <a:srgbClr val="006600"/>
                </a:solidFill>
                <a:latin typeface="VAGRounded BT"/>
              </a:rPr>
              <a:t>Hola amiga! Voy a pasar el invierno en Paris. ¿Podrías cuidar de mi casa?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 La  Hormiguita respondió: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-</a:t>
            </a:r>
            <a:r>
              <a:rPr b="1" i="1" lang="es-ES" sz="2800" spc="-1" strike="noStrike">
                <a:solidFill>
                  <a:srgbClr val="006600"/>
                </a:solidFill>
                <a:latin typeface="VAGRounded BT"/>
              </a:rPr>
              <a:t>Sí claro! Desde luego. </a:t>
            </a:r>
            <a:br>
              <a:rPr sz="2800"/>
            </a:br>
            <a:r>
              <a:rPr b="1" i="1" lang="es-ES" sz="2800" spc="-1" strike="noStrike">
                <a:solidFill>
                  <a:srgbClr val="006600"/>
                </a:solidFill>
                <a:latin typeface="VAGRounded BT"/>
              </a:rPr>
              <a:t>Pero, ¿qué ocurrió? ¿Dónde conseguiste el dinero para ir a Paris, comprar este  Ferrari y ese abrigo tan bonito y car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05492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VAGRounded BT"/>
              </a:rPr>
              <a:t>Y la  Cigarra respondió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6600"/>
                </a:solidFill>
                <a:latin typeface="VAGRounded BT"/>
              </a:rPr>
              <a:t> -</a:t>
            </a:r>
            <a:r>
              <a:rPr b="0" i="1" lang="es-ES" sz="2800" spc="-1" strike="noStrike">
                <a:solidFill>
                  <a:srgbClr val="006600"/>
                </a:solidFill>
                <a:latin typeface="VAGRounded BT"/>
              </a:rPr>
              <a:t> estaba cantando en un bar la semana  pasada y a un productor le </a:t>
            </a:r>
            <a:br>
              <a:rPr sz="2800"/>
            </a:br>
            <a:r>
              <a:rPr b="0" i="1" lang="es-ES" sz="2800" spc="-1" strike="noStrike">
                <a:solidFill>
                  <a:srgbClr val="006600"/>
                </a:solidFill>
                <a:latin typeface="VAGRounded BT"/>
              </a:rPr>
              <a:t>gustó mi voz.</a:t>
            </a:r>
            <a:br>
              <a:rPr sz="2800"/>
            </a:br>
            <a:r>
              <a:rPr b="0" i="1" lang="es-ES" sz="2800" spc="-1" strike="noStrike">
                <a:solidFill>
                  <a:srgbClr val="006600"/>
                </a:solidFill>
                <a:latin typeface="VAGRounded BT"/>
              </a:rPr>
              <a:t>Firmé un contrato para  hacer shows en París.</a:t>
            </a:r>
            <a:br>
              <a:rPr sz="2800"/>
            </a:br>
            <a:r>
              <a:rPr b="0" i="1" lang="es-ES" sz="2800" spc="-1" strike="noStrike">
                <a:solidFill>
                  <a:srgbClr val="006600"/>
                </a:solidFill>
                <a:latin typeface="VAGRounded BT"/>
              </a:rPr>
              <a:t>A propósito, ¿necesitas algo de allí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00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VAGRounded BT"/>
              </a:rPr>
              <a:t>- Si, dijo la Hormiguita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6600"/>
                </a:solidFill>
                <a:latin typeface="VAGRounded BT"/>
              </a:rPr>
              <a:t>- </a:t>
            </a:r>
            <a:r>
              <a:rPr b="0" i="1" lang="es-ES" sz="3200" spc="-1" strike="noStrike">
                <a:solidFill>
                  <a:srgbClr val="006600"/>
                </a:solidFill>
                <a:latin typeface="VAGRounded BT"/>
              </a:rPr>
              <a:t>Si te encuentras con </a:t>
            </a:r>
            <a:r>
              <a:rPr b="1" i="1" lang="es-ES" sz="3200" spc="-1" strike="noStrike">
                <a:solidFill>
                  <a:srgbClr val="006600"/>
                </a:solidFill>
                <a:latin typeface="VAGRounded BT"/>
              </a:rPr>
              <a:t>La Fontaine</a:t>
            </a:r>
            <a:br>
              <a:rPr sz="3200"/>
            </a:br>
            <a:r>
              <a:rPr b="0" i="1" lang="es-ES" sz="3200" spc="-1" strike="noStrike">
                <a:solidFill>
                  <a:srgbClr val="006600"/>
                </a:solidFill>
                <a:latin typeface="VAGRounded BT"/>
              </a:rPr>
              <a:t>(autor de la fábula  original),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6600"/>
                </a:solidFill>
                <a:latin typeface="VAGRounded BT"/>
              </a:rPr>
              <a:t>  ¡¡¡ </a:t>
            </a:r>
            <a:r>
              <a:rPr b="1" i="1" lang="es-ES" sz="3200" spc="-1" strike="noStrike">
                <a:solidFill>
                  <a:srgbClr val="006600"/>
                </a:solidFill>
                <a:latin typeface="VAGRounded BT"/>
              </a:rPr>
              <a:t>MANDALO A LA MIERDA </a:t>
            </a:r>
            <a:br>
              <a:rPr sz="3200"/>
            </a:br>
            <a:r>
              <a:rPr b="1" i="1" lang="es-ES" sz="3200" spc="-1" strike="noStrike">
                <a:solidFill>
                  <a:srgbClr val="006600"/>
                </a:solidFill>
                <a:latin typeface="VAGRounded BT"/>
              </a:rPr>
              <a:t>DE MI PARTE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657360" cy="561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516720" y="4724280"/>
            <a:ext cx="118116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284720" y="5445000"/>
            <a:ext cx="7714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08:12:01Z</dcterms:created>
  <dc:creator>riche</dc:creator>
  <dc:description/>
  <dc:language>en-US</dc:language>
  <cp:lastModifiedBy>.</cp:lastModifiedBy>
  <dcterms:modified xsi:type="dcterms:W3CDTF">2009-01-09T20:02:15Z</dcterms:modified>
  <cp:revision>13</cp:revision>
  <dc:subject/>
  <dc:title>Leíste esta fabula? </dc:title>
</cp:coreProperties>
</file>