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a%20mi%20manera.wav" ContentType="audio/x-wav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83F-3A85-4CED-AA49-456EE79E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BFB-52FE-465C-B7E0-E16E20F0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0DA-2C9B-400A-B0B5-5A008DEF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BC5-8E8B-4FE8-A5D0-48ECC37A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762-77C5-4FD6-BC8D-E41E89EA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F5A-0006-4B74-BD9E-3887A7E8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5DA-FCF6-4C59-A40B-A493FC7E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51C-9513-4A32-83D1-797F7112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305-498B-4686-B3E4-3AE20BB1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21E-4B89-44E0-B3FC-AC968D5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1C8-466F-46D0-B3A6-CDBAAD04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FB6-F7AE-4C6A-ABA5-0526ABED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60B1-3F43-4E98-90BF-839CA647EEB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%20mi%20man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162560" cy="4114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762120"/>
            <a:ext cx="57150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Harrington"/>
              </a:rPr>
              <a:t>A mi Man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5791320"/>
            <a:ext cx="54864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Harrington"/>
              </a:rPr>
              <a:t>Frank  Pour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0591560" cy="718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76920" y="3049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Aquel cuya sonrisa le embellece es buen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5334120"/>
            <a:ext cx="504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aquel cuya sonrisa le desfigura es ma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371600"/>
            <a:ext cx="9029880" cy="1595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Lucida Calligraphy"/>
              </a:rPr>
              <a:t>Quien no comprende una mirad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Lucida Calligraphy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Lucida Calligraphy"/>
              </a:rPr>
              <a:t>tampoco comprenderá una larga explic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1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1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2" dur="1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1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685800" y="-88920"/>
            <a:ext cx="10820520" cy="7186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6520" y="1981080"/>
            <a:ext cx="7064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 una mentira suele irse muy lej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o sin esperanzas de vol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71600" y="4724280"/>
            <a:ext cx="6143760" cy="1373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Lucida Calligraphy"/>
              </a:rPr>
              <a:t>La luna y el am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Lucida Calligraphy"/>
              </a:rPr>
              <a:t>cuando no crecen, disminuy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752480" y="-471600"/>
            <a:ext cx="11125080" cy="7396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6483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685"/>
                </a:solidFill>
                <a:latin typeface="Lucida Calligraphy"/>
              </a:rPr>
              <a:t>El Gran Arquitecto del Univer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685"/>
                </a:solidFill>
                <a:latin typeface="Lucida Calligraphy"/>
              </a:rPr>
              <a:t>hizo al hombre con dos orejas y una boc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685"/>
                </a:solidFill>
                <a:latin typeface="Lucida Calligraphy"/>
              </a:rPr>
              <a:t>para que escuche el doble de lo que hab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7560" y="604800"/>
            <a:ext cx="7971480" cy="82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Calligraphy"/>
              </a:rPr>
              <a:t>Si lo que vas a decir no es más bello que el silenc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Calligraphy"/>
              </a:rPr>
              <a:t>no lo di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0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79,-1,-1)"/>
                                      </p:to>
                                    </p:set>
                                    <p:set>
                                      <p:cBhvr>
                                        <p:cTn id="150" dur="10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79,-1,-1)"/>
                                      </p:to>
                                    </p:set>
                                    <p:set>
                                      <p:cBhvr>
                                        <p:cTn id="151" dur="10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200"/>
                            </p:stCondLst>
                            <p:childTnLst>
                              <p:par>
                                <p:cTn id="15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000" autoRev="1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79,-1,-1)"/>
                                      </p:to>
                                    </p:set>
                                    <p:set>
                                      <p:cBhvr>
                                        <p:cTn id="155" dur="1000" autoRev="1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79,-1,-1)"/>
                                      </p:to>
                                    </p:set>
                                    <p:set>
                                      <p:cBhvr>
                                        <p:cTn id="156" dur="1000" autoRev="1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82960" y="4572000"/>
            <a:ext cx="701136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Lucida Calligraphy"/>
              </a:rPr>
              <a:t>Jamás se desvía uno tan le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Lucida Calligraphy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Lucida Calligraphy"/>
              </a:rPr>
              <a:t>como cuando cree conocer el cami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00440" y="3532320"/>
            <a:ext cx="73936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Calligraphy"/>
              </a:rPr>
              <a:t>La crueldad es la fuerza de los cobar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25320" y="5791320"/>
            <a:ext cx="82137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b3ff"/>
                </a:solidFill>
                <a:latin typeface="Lucida Calligraphy"/>
              </a:rPr>
              <a:t>No hay árbol que el viento no haya sacudido</a:t>
            </a:r>
            <a:r>
              <a:rPr b="0" lang="en-US" sz="2800" spc="-1" strike="noStrike">
                <a:solidFill>
                  <a:srgbClr val="d9b3ff"/>
                </a:solidFill>
                <a:latin typeface="Harringto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2362320"/>
            <a:ext cx="739116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1"/>
                </a:solidFill>
                <a:latin typeface="Lucida Calligraphy"/>
              </a:rPr>
              <a:t>No olvides nunca que el primer be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1"/>
                </a:solidFill>
                <a:latin typeface="Lucida Calligraphy"/>
              </a:rPr>
              <a:t>no se da con la boca, sino con los oj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57200" y="-135000"/>
            <a:ext cx="10210680" cy="702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5056200"/>
            <a:ext cx="6324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Calligraphy"/>
              </a:rPr>
              <a:t>Sólo se tiran pied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Lucida Calligraphy"/>
              </a:rPr>
              <a:t>contra el árbol que da fr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82720" y="685800"/>
            <a:ext cx="72352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Lucida Calligraphy"/>
              </a:rPr>
              <a:t>Las huellas de las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Lucida Calligraphy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Lucida Calligraphy"/>
              </a:rPr>
              <a:t>que caminaron juntas nunca se borr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88200" y="5859360"/>
            <a:ext cx="183960" cy="51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53400" y="6338880"/>
            <a:ext cx="676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b3ff"/>
                </a:solidFill>
                <a:latin typeface="Harrington"/>
              </a:rPr>
              <a:t>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3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10058400" cy="710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4280" y="5334120"/>
            <a:ext cx="845136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Lucida Calligraphy"/>
              </a:rPr>
              <a:t>No conozco ningún otro signo de superior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Lucida Calligraphy"/>
              </a:rPr>
              <a:t>que la bon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609480" y="-25560"/>
            <a:ext cx="10820160" cy="7213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533520"/>
            <a:ext cx="5638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1"/>
                </a:solidFill>
                <a:latin typeface="Lucida Calligraphy"/>
              </a:rPr>
              <a:t>Lo pasado ha huid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1"/>
                </a:solidFill>
                <a:latin typeface="Lucida Calligraphy"/>
              </a:rPr>
              <a:t>lo que esperas está ausen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1"/>
                </a:solidFill>
                <a:latin typeface="Lucida Calligraphy"/>
              </a:rPr>
              <a:t>pero el presente es tuy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3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56600" y="4751280"/>
            <a:ext cx="6997320" cy="1800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Lucida Calligraphy"/>
              </a:rPr>
              <a:t>Antes de juzgar a una person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Lucida Calligraphy"/>
              </a:rPr>
              <a:t> </a:t>
            </a:r>
            <a:r>
              <a:rPr b="1" lang="en-US" sz="2800" spc="-1" strike="noStrike">
                <a:solidFill>
                  <a:srgbClr val="00ff99"/>
                </a:solidFill>
                <a:latin typeface="Lucida Calligraphy"/>
              </a:rPr>
              <a:t>camina tres lunas con sus mocasi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533520" y="-184320"/>
            <a:ext cx="9906120" cy="7297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6094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Lucida Calligraphy"/>
              </a:rPr>
              <a:t>El que teme sufrir, sufre de tem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838080" y="-63360"/>
            <a:ext cx="10439280" cy="709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62320" y="60958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Lucida Calligraphy"/>
              </a:rPr>
              <a:t>No hay médico para el mie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600200" y="-117360"/>
            <a:ext cx="12039480" cy="711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5867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Lucida Calligraphy"/>
              </a:rPr>
              <a:t>Excava el pozo antes de que tengas 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685800"/>
            <a:ext cx="7925040" cy="1373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a7a7"/>
                </a:solidFill>
                <a:latin typeface="Lucida Calligraphy"/>
              </a:rPr>
              <a:t>La paciencia es un árbol de raíz am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a7a7"/>
                </a:solidFill>
                <a:latin typeface="Lucida Calligraphy"/>
              </a:rPr>
              <a:t> </a:t>
            </a:r>
            <a:r>
              <a:rPr b="1" lang="en-US" sz="2800" spc="-1" strike="noStrike">
                <a:solidFill>
                  <a:srgbClr val="a7a7a7"/>
                </a:solidFill>
                <a:latin typeface="Lucida Calligraphy"/>
              </a:rPr>
              <a:t>pero de frutos muy dul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3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3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0:20:30Z</dcterms:created>
  <dc:creator>Geles</dc:creator>
  <dc:description/>
  <cp:keywords/>
  <dc:language>en-US</dc:language>
  <cp:lastModifiedBy>Rudy Weisskopf</cp:lastModifiedBy>
  <dcterms:modified xsi:type="dcterms:W3CDTF">2008-10-03T18:56:46Z</dcterms:modified>
  <cp:revision>30</cp:revision>
  <dc:subject/>
  <dc:title>Proverbios</dc:title>
</cp:coreProperties>
</file>