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4FF-A455-49EF-A041-50949169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2A4-9E16-4665-97FC-CC880BE0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B3D-5E18-43EF-810C-7AF6551C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2CE-C969-4A90-A17D-2BC88039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988-A451-418E-A734-77BDF5A9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4D9-EECC-4920-A528-6AEDB7B0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E75-8A6D-47E5-A286-36CF2F1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603-9620-4EDD-9151-1E7B041D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AD6-7F42-4717-B8D4-48AFE815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BBA-769F-42D0-AC5E-8F91C56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D7A-8EF4-45FC-A925-05A024AB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65D-F5BA-4EAD-87D0-AE91FFF1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B60A-A54B-4254-877D-590952931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47680"/>
            <a:ext cx="8991720" cy="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72920"/>
            <a:ext cx="777240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Swis721 Ex BT"/>
              </a:rPr>
              <a:t>EL SUEÑO DE ALAN GARCIA</a:t>
            </a:r>
            <a:endParaRPr b="0" lang="en-US" sz="4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79200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EL QUE NO LO REENVIÉ TENDRÁ 5 AÑOS MÁS DE PRESIDENTE A GARCIA.</a:t>
            </a: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348000" cy="504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908000"/>
            <a:ext cx="5796000" cy="43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920" y="1771560"/>
            <a:ext cx="2287440" cy="3457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0920" y="907560"/>
            <a:ext cx="80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Swis721 Ex BT"/>
              </a:rPr>
              <a:t>El Doctor Alan García tuvo un sueño en el cual veía: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6" name=""/>
          <p:cNvSpPr/>
          <p:nvPr/>
        </p:nvSpPr>
        <p:spPr>
          <a:xfrm>
            <a:off x="252360" y="55641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bulto de 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34720" y="551664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pal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236000" y="1700280"/>
            <a:ext cx="1890360" cy="352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77080" y="551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una prostit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51280" y="980640"/>
            <a:ext cx="5292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Muy preocupado se dirigió a donde la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Meche Cabanillas actual Ministra del Interior, l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comentó el sueño y le preguntó que si de pronto ella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sabía el significado del sueñ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609560"/>
            <a:ext cx="406728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Meche, le respondió: "No señor Presidente, yo no sé qu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significa, pero si quiere vayamos donde el adivino del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Palacio, El Huachano (famoso brujo) que él si debe saber el significado".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95640" y="1700280"/>
            <a:ext cx="5148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95640" y="1484280"/>
            <a:ext cx="44625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Llegaron al consultorio del adivino y este les preguntó a qué venía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El Presidente le contó que había tenido un sueño en el cual veía un bulto de sal, un palacio y una prostituta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6399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690880" cy="432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47600"/>
            <a:ext cx="79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 escuchar esto, el adivino le dijo al presidente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octor Alan: el sueño está bastante fácil de definir, pues lo que quiere decir es la intención de todos los peruanos y d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"SAL DEL PALACIO HIJO DE PUT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7440" y="609480"/>
            <a:ext cx="6839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Swis721 Ex BT"/>
              </a:rPr>
              <a:t>Y PARA REFLEXIONAR:</a:t>
            </a:r>
            <a:endParaRPr b="0" lang="en-US" sz="36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67056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El Gobierno Nacional anunció hoy que reemplazará la bandera Nacional por un CONDON</a:t>
            </a: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67280" y="1585800"/>
            <a:ext cx="50767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7773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Porque éste representa claramente la acción y gestión del Gobierno de Alan García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700280"/>
            <a:ext cx="40338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Ya que un cond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Resiste la Infl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Detiene la produc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Destruye a la próxima generación y le da a la gente una sensación de seguridad mientras la están clavand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6432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560" y="4643280"/>
            <a:ext cx="889308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Todo aquel que reciba la presente comunicación tiene una obligación por la defensa de la Democracia Peruana. La misma consiste en retransmitirlo a sus amigos.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447840"/>
            <a:ext cx="63007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6:25:50Z</dcterms:created>
  <dc:creator>VPO</dc:creator>
  <dc:description/>
  <dc:language>en-US</dc:language>
  <cp:lastModifiedBy>VPO</cp:lastModifiedBy>
  <dcterms:modified xsi:type="dcterms:W3CDTF">2009-07-04T22:30:59Z</dcterms:modified>
  <cp:revision>6</cp:revision>
  <dc:subject/>
  <dc:title>Animated Blue Line</dc:title>
</cp:coreProperties>
</file>