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2FA-58C9-495F-B43D-5B68D7DB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057-68C4-44DC-8094-3742DF4E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DED-3D29-49BF-A0A6-524E5E4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335-2F94-4A9F-8E3A-FC5E9A12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F08-A2BD-4B5E-AD5C-BFB73BC0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D89-027E-412A-92C0-966E1E5D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B6E-9980-41D2-9F19-20833BE1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EF2-22F9-40D9-9B7B-8B9F53B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1D4-B5A3-40C3-A5F0-8D661D99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98B-DE67-401C-8A26-F2154042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03D-CC0C-4B14-B8F6-E84DFF8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6FC-2930-4DC5-92F6-672F75B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B2A-F4A2-4303-9848-A9E06FB69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47680"/>
            <a:ext cx="8991720" cy="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72920"/>
            <a:ext cx="777240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Swis721 Ex BT"/>
              </a:rPr>
              <a:t>EL SUEÑO DE ALAN GARCIA</a:t>
            </a:r>
            <a:endParaRPr b="0" lang="en-US" sz="4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9200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EL QUE NO LO REENVIÉ TENDRÁ 5 AÑOS MÁS DE PRESIDENTE A GARCIA.</a:t>
            </a: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348000" cy="504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908000"/>
            <a:ext cx="5796000" cy="43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920" y="1771560"/>
            <a:ext cx="2287440" cy="345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0920" y="90756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Swis721 Ex BT"/>
              </a:rPr>
              <a:t>El Doctor Alan García tuvo un sueño en el cual veía: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55641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bulto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34720" y="55166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pal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236000" y="1700280"/>
            <a:ext cx="1890360" cy="352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77080" y="551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una prostit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51280" y="980640"/>
            <a:ext cx="529272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Muy preocupado se dirigió a donde l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Meche Cabanillas actual Ministra del Interior, l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comentó el sueño y le preguntó que si de pronto ella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sabía el significado del sueño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609560"/>
            <a:ext cx="406728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Meche, le respondió: "No señor Presidente, yo no sé qu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significa, pero si quiere vayamos donde el adivino del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Palacio, El Huachano (famoso brujo) que él si debe saber el significado"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95640" y="1700280"/>
            <a:ext cx="5148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5640" y="1484280"/>
            <a:ext cx="44625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Llegaron al consultorio del adivino y este les preguntó a qué venía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El Presidente le contó que había tenido un sueño en el cual veía un bulto de sal, un palacio y una prostituta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6399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690880" cy="432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47600"/>
            <a:ext cx="79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 escuchar esto, el adivino le dijo al presidente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octor Alan: el sueño está bastante fácil de definir, pues lo que quiere decir es la intención de todos los peruanos y d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"SAL DEL PALACIO HIJO DE PUT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609480"/>
            <a:ext cx="6839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Swis721 Ex BT"/>
              </a:rPr>
              <a:t>Y PARA REFLEXIONAR:</a:t>
            </a:r>
            <a:endParaRPr b="0" lang="en-US" sz="36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67056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El Gobierno Nacional anunció hoy que reemplazará la bandera Nacional por un CONDON</a:t>
            </a:r>
            <a:r>
              <a:rPr b="0" lang="es-E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67280" y="1585800"/>
            <a:ext cx="50767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7773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Porque éste representa claramente la acción y gestión del Gobierno de Alan García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700280"/>
            <a:ext cx="40338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Ya que un cond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Resiste la Infl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Detiene la produc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Destruye a la próxima generación y le da a la gente una sensación de seguridad mientras la están clavand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643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560" y="4643280"/>
            <a:ext cx="8893080" cy="18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wis721 Ex BT"/>
              </a:rPr>
              <a:t>Todo aquel que reciba la presente comunicación tiene una obligación por la defensa de la Democracia Peruana. La misma consiste en retransmitirlo a sus amigos.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447840"/>
            <a:ext cx="63007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6:25:50Z</dcterms:created>
  <dc:creator>VPO</dc:creator>
  <dc:description/>
  <dc:language>en-US</dc:language>
  <cp:lastModifiedBy>VPO</cp:lastModifiedBy>
  <dcterms:modified xsi:type="dcterms:W3CDTF">2009-07-04T22:30:59Z</dcterms:modified>
  <cp:revision>6</cp:revision>
  <dc:subject/>
  <dc:title>Animated Blue Line</dc:title>
</cp:coreProperties>
</file>