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A47-72C8-4D8D-8787-3C4F8EAD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77C-3D71-43E8-8E19-2AC7307A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844-4198-4B5D-9242-D5D010FA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CE3-3269-4094-9FB4-F67F33DB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070-760A-42BF-968F-24FDF3A3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30C6-D530-449B-9D1C-8999027B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053-FEAD-40D9-8715-0BC00733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804-7EA8-42B3-8E9B-5783B3CF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1B0-DE25-4C18-B890-313446AA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531-5181-4F5C-B9D7-EE502F40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F04-FB72-4AB8-9399-C6612188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E98-6A59-4DC6-B97B-BE31BCE9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FAEE-DD49-4C8B-9A18-FAF833C6D1D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B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18:42:39Z</dcterms:created>
  <dc:creator>emily</dc:creator>
  <dc:description/>
  <dc:language>en-US</dc:language>
  <cp:lastModifiedBy>emily</cp:lastModifiedBy>
  <dcterms:modified xsi:type="dcterms:W3CDTF">2014-12-22T18:43:25Z</dcterms:modified>
  <cp:revision>1</cp:revision>
  <dc:subject/>
  <dc:title>Diapositiva 1</dc:title>
</cp:coreProperties>
</file>