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AA3-CC73-479C-8149-CFA9D914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00D-1101-4499-8755-73D83B8B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92E-0631-42FA-BB46-54F77F7D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E28-3198-48FC-B473-87B81FFD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5FF-AC49-49BB-8A52-ABF98AB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D31-6BEC-43B0-88E8-E187884D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6D9-FC3B-4F32-ADAB-C8550A37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FC6-1350-4A23-BD33-CF8E19E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404-487C-4D17-87C9-4921A112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0CC-6B34-4B8F-9DBC-95F0284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4F2-6871-475F-BB69-373A542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FCE-7BAA-4AE6-9B46-F160E2A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AF9C-6137-49F8-A46B-1E1E160C42B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8:42:39Z</dcterms:created>
  <dc:creator>emily</dc:creator>
  <dc:description/>
  <dc:language>en-US</dc:language>
  <cp:lastModifiedBy>emily</cp:lastModifiedBy>
  <dcterms:modified xsi:type="dcterms:W3CDTF">2014-12-22T18:43:25Z</dcterms:modified>
  <cp:revision>1</cp:revision>
  <dc:subject/>
  <dc:title>Diapositiva 1</dc:title>
</cp:coreProperties>
</file>