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0A2-311E-44F8-9B54-EBED8411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8C0-A8C2-400A-9ACB-FF8FD544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AA3-B150-45BB-988B-A52AEE89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56A-95EA-4009-B6F3-92CDCD4A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860-A198-479E-A3C7-CCCFFEF1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276D-1BBD-4202-9F6A-CC06C433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A5B-3174-4909-9636-06C2C6E1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71F-7809-43DD-9019-86C04C67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2B2-F75D-41B7-99E0-7E1747CE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FE2-69D2-4C45-8F57-FF312672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9B4-FF8A-4D1D-98DC-284C490A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A1F-34F2-44EF-9628-0A88943F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8C8D-741D-44F9-A549-CD74E71AE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3360"/>
            <a:ext cx="91440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PROCESO DE LANZAMI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FifthAve"/>
              </a:rPr>
              <a:t>(Antes de la actividad de cada vuelo rara vez vista por el publico en gener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3275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FifthAve"/>
              </a:rPr>
              <a:t>DESCUBRE, DISCOVE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17622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vantando el tan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906560"/>
            <a:ext cx="20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cuetes solidos son con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15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05092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motores son con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6308640"/>
            <a:ext cx="820872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Los motores son conectados al Trasbord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2498" t="0" r="500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84360" y="59500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transbordador se prepara en la sonda para dejar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60948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transbordador ha sido movido y sera conectado al tanque ext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661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e del tanque externo desde Bar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4665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transbordador ya conec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96984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arto de la preparacion de la carga (P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40360" y="2276640"/>
            <a:ext cx="36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95640" y="3213000"/>
            <a:ext cx="3671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uevo mod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459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77080" y="96984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arga util se prepara para ser movida a la plataforma de lan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459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53820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arga de paga sale de P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18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92360" y="5146560"/>
            <a:ext cx="5832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arga es llevada a la plataforma de lan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825480"/>
            <a:ext cx="21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vantando la carga util en la posicion para la introduccion al Discovery cuando llegue a la platafor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6360" y="61545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discovery sale de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5529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825480"/>
            <a:ext cx="22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transbordador ya armado en el tractor que lo transportara 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342900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taforma de lan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371628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48360" y="2338560"/>
            <a:ext cx="24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ancia: 2.5 K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empo- 6-8 h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56516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ficio de ensamble vertical. (V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46418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que ext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95640" y="39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 del tr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82548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DISCOVERY llegando a la Plataforma de lanz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435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6825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o para el lan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29700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bo Kennedy, dejando plataform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966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1280" y="7542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Buena suerte tripulacion, los esperamos de regres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64000" y="6165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raducción: </a:t>
            </a:r>
            <a:r>
              <a:rPr b="1" lang="es-MX" sz="2800" spc="-1" strike="noStrike">
                <a:solidFill>
                  <a:srgbClr val="0000ff"/>
                </a:solidFill>
                <a:latin typeface="Monotype Corsiva"/>
              </a:rPr>
              <a:t>jph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25May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3020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viendo el Tanque externo de su barco-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4422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que entrando a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" y="404640"/>
            <a:ext cx="914544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6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68360" y="593892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paracion para levantar el tanque vertic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5:20:35Z</dcterms:created>
  <dc:creator>zxmulassy050</dc:creator>
  <dc:description/>
  <dc:language>en-US</dc:language>
  <cp:lastModifiedBy>Juan Pedro Hoyos</cp:lastModifiedBy>
  <dcterms:modified xsi:type="dcterms:W3CDTF">2007-05-25T20:25:47Z</dcterms:modified>
  <cp:revision>30</cp:revision>
  <dc:subject/>
  <dc:title>Diapositive 1</dc:title>
</cp:coreProperties>
</file>