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5EC-E37D-4992-8A05-25F1ADFB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A3C-D2D3-4056-8516-68970D79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44C-FDEE-43C4-AB94-2BCCD84E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338-0EF7-4DA2-811D-7FDE7E35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A62-B377-4A93-903F-6F8354DA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188-15DA-40DE-A79F-E1298F15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C37-657A-4EE2-A484-5C7946E7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54A-9AF1-413B-A777-6C7827C9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34B-D332-491D-B1F5-1B4E4FC4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720-EEEF-47A1-BC28-B139842A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36A-7230-4B33-B1AF-5A78F970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0FE-037C-4156-97BA-11AE3C30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66F5-DB1C-42AB-A6DA-6AFE1D378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360"/>
            <a:ext cx="91440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PROCESO DE LANZA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FifthAve"/>
              </a:rPr>
              <a:t>(Antes de la actividad de cada vuelo rara vez vista por el publico en gener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3275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FifthAve"/>
              </a:rPr>
              <a:t>DESCUBRE, DISCOVE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17622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vantando el tan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90656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cuetes solidos son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15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05092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motores son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6308640"/>
            <a:ext cx="820872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Los motores son conectados al Trasbor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498" t="0" r="50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84360" y="59500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ransbordador se prepara en la sonda para dejar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0948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ransbordador ha sido movido y sera conectado al tanque ext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661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e del tanque externo desde Ba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4665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ransbordador ya conec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96984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arto de la preparacion de la carga (P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40360" y="2276640"/>
            <a:ext cx="36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95640" y="321300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evo mo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59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77080" y="96984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arga util se prepara para ser movida a la plataforma de lan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3820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arga de paga sale de P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92360" y="5146560"/>
            <a:ext cx="5832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arga es llevada a la plataforma de lan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825480"/>
            <a:ext cx="21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vantando la carga util en la posicion para la introduccion al Discovery cuando llegue a la plata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6360" y="61545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discovery sale de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825480"/>
            <a:ext cx="22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ransbordador ya armado en el tractor que lo transportara 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4290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taforma de lan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371628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48360" y="2338560"/>
            <a:ext cx="24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cia: 2.5 K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empo- 6-8 h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651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ficio de ensamble vertical. (V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64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que ext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95640" y="39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 del 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82548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DISCOVERY llegando a la Plataforma de lanz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682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o para el lan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29700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bo Kennedy, dejando plataform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6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7542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Buena suerte tripulacion, los esperamos de regre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4000" y="6165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raducción: </a:t>
            </a:r>
            <a:r>
              <a:rPr b="1" lang="es-MX" sz="2800" spc="-1" strike="noStrike">
                <a:solidFill>
                  <a:srgbClr val="0000ff"/>
                </a:solidFill>
                <a:latin typeface="Monotype Corsiva"/>
              </a:rPr>
              <a:t>jph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25May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302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viendo el Tanque externo de su barco-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4422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que entrando a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" y="404640"/>
            <a:ext cx="914544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68360" y="593892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acion para levantar el tanque vertic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5:20:35Z</dcterms:created>
  <dc:creator>zxmulassy050</dc:creator>
  <dc:description/>
  <dc:language>en-US</dc:language>
  <cp:lastModifiedBy>Juan Pedro Hoyos</cp:lastModifiedBy>
  <dcterms:modified xsi:type="dcterms:W3CDTF">2007-05-25T20:25:47Z</dcterms:modified>
  <cp:revision>30</cp:revision>
  <dc:subject/>
  <dc:title>Diapositive 1</dc:title>
</cp:coreProperties>
</file>