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El%20Escondite+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20.gif" ContentType="image/gif"/>
  <Override PartName="/ppt/media/image19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3FA-7D04-4409-9162-55900777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BA8-FC05-47B6-B5D1-C006E08D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46-7D20-406F-91FC-56D211E1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A07-190E-4138-BAD8-C197B9EE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35B-74DB-405C-A293-65485CF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179-8F8D-4D98-BFA9-57437D2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32E-C326-4ABF-8498-BAE69C9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CC5-A6AB-488F-8A3C-47597A35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F82-9EA5-4C2F-9F16-41C6A81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32C-35E5-46A0-8BAC-8BE29AD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F0E-F550-4456-B123-D239F3E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3CB-5334-416B-A02C-72E41DC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762-0620-4E73-834F-0EC8F6041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audio" Target="../media/El%20Escondite+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447920"/>
            <a:ext cx="782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¡ Otra hubiera sido la Historia !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868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interesante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bserva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la historia de l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umanidad hubie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d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iferente si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hubieran presentado de otra form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os hech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de esa manera bien podríamos deci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943600"/>
            <a:ext cx="2361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Verdana"/>
              </a:rPr>
              <a:t>Recopilación y redacción  por Francisco Arámburo.         Con música de pia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ave%20de%20Sol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5302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Libros%2051" descr=""/>
          <p:cNvPicPr/>
          <p:nvPr/>
        </p:nvPicPr>
        <p:blipFill>
          <a:blip r:embed="rId5"/>
          <a:stretch/>
        </p:blipFill>
        <p:spPr>
          <a:xfrm>
            <a:off x="6477120" y="5181480"/>
            <a:ext cx="2209680" cy="1397160"/>
          </a:xfrm>
          <a:prstGeom prst="rect">
            <a:avLst/>
          </a:prstGeom>
          <a:ln w="28440">
            <a:solidFill>
              <a:srgbClr val="ccff66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38520" y="518148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EN BROMA Y EN SE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(para pensar sonrien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apoleón%20(800)" descr=""/>
          <p:cNvPicPr/>
          <p:nvPr/>
        </p:nvPicPr>
        <p:blipFill>
          <a:blip r:embed="rId6"/>
          <a:stretch/>
        </p:blipFill>
        <p:spPr>
          <a:xfrm flipH="1" rot="10800000">
            <a:off x="762120" y="3885840"/>
            <a:ext cx="1363680" cy="160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>
    <p:checker dir="horz"/>
    <p:sndAc>
      <p:stSnd>
        <p:snd r:embed="rId7" name="El%20Escondite+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5715000"/>
            <a:ext cx="6934320" cy="946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las costureras de la Edad Media hubieran contado con máquin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cose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 Carlo Mag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tenid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unos prismáticos par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us batall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nán Corté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tenid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diccionario bilingüe y Josefa Orti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 Domínguez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ubiera conseguid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un teléfono celular.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75560" y="22860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Georgia"/>
              </a:rPr>
              <a:t>¡Todo hubie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Georgia"/>
              </a:rPr>
              <a:t>sido diferen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léfono%20celular%2042" descr=""/>
          <p:cNvPicPr/>
          <p:nvPr/>
        </p:nvPicPr>
        <p:blipFill>
          <a:blip r:embed="rId2"/>
          <a:stretch/>
        </p:blipFill>
        <p:spPr>
          <a:xfrm flipH="1" rot="10800000">
            <a:off x="7772400" y="2286000"/>
            <a:ext cx="1012680" cy="1447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47920"/>
            <a:ext cx="89154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mag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nen lo que hubie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vanzado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el mundo si Pitágoras hubiera tenido una calculado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oisés unos lente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obscuro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otegerse d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l sol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urant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u famo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largo viaje del EXODO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or el desierto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48120"/>
            <a:ext cx="914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i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arlos Lindbergh hubie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tado con radar en su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vió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los zares de Rusia con una televisión para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v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la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imágen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las provincias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que se estaban rebel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Ah, entonces... ¡otra hub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1" i="1" lang="es-ES" sz="2800" spc="-1" strike="noStrike">
                <a:solidFill>
                  <a:srgbClr val="00ffff"/>
                </a:solidFill>
                <a:latin typeface="Georgia"/>
              </a:rPr>
              <a:t>sido la histor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elevisión%2034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1295280" cy="84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5228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h, pero lo máximo hubiera sido si se hubieran podido transmitir por televisión en aquellas épocas pretéritas “en cadena nacional, e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y a todo color” estos grandes acontecimien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de la histo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546880"/>
            <a:ext cx="8001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El Sermón de la Montaña, la toma de Constantinop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por los turcos, el Concilio de Trento, la coro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de Josefina por Napoleón, la toma de la Basti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y el estreno de la ópera AÍDA en El Ca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70280" y="4572000"/>
            <a:ext cx="3923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¡Esos sí que hubieran 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unos verdaderos exitaz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plausos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ERO a pesar de todo, sin brújulas, grúas, concreto, técnicas modernas de construcción y demás inventos, se hicieron grandes ob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¡Y vaya que sí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tenas%2045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2819160" cy="2116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7" name="Chichén%20Itzá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2895480" cy="217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La%20Gran%20Muralla%2070" descr=""/>
          <p:cNvPicPr/>
          <p:nvPr/>
        </p:nvPicPr>
        <p:blipFill>
          <a:blip r:embed="rId4"/>
          <a:stretch/>
        </p:blipFill>
        <p:spPr>
          <a:xfrm>
            <a:off x="6400800" y="4724280"/>
            <a:ext cx="2438280" cy="182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9" name="Machu%20Pichu%2075" descr=""/>
          <p:cNvPicPr/>
          <p:nvPr/>
        </p:nvPicPr>
        <p:blipFill>
          <a:blip r:embed="rId5"/>
          <a:stretch/>
        </p:blipFill>
        <p:spPr>
          <a:xfrm>
            <a:off x="304920" y="4800600"/>
            <a:ext cx="24382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Castillo%2019" descr=""/>
          <p:cNvPicPr/>
          <p:nvPr/>
        </p:nvPicPr>
        <p:blipFill>
          <a:blip r:embed="rId6"/>
          <a:stretch/>
        </p:blipFill>
        <p:spPr>
          <a:xfrm>
            <a:off x="3657600" y="1371600"/>
            <a:ext cx="177480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523880" y="1219320"/>
            <a:ext cx="1578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Parten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71240" y="2819520"/>
            <a:ext cx="1125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ichén Itz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73560" y="4876920"/>
            <a:ext cx="11559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chu Pic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472428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La Gran Muralla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92840" y="3352680"/>
            <a:ext cx="9291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alacio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stil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aj%20Mahal%201+" descr=""/>
          <p:cNvPicPr/>
          <p:nvPr/>
        </p:nvPicPr>
        <p:blipFill>
          <a:blip r:embed="rId7"/>
          <a:stretch/>
        </p:blipFill>
        <p:spPr>
          <a:xfrm>
            <a:off x="3429000" y="4876920"/>
            <a:ext cx="2362320" cy="177300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4419720" y="632448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l Taj Ma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720" y="228600"/>
            <a:ext cx="79592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 EMBARGO,  en lugar de estar agradecidos por lo que hoy tene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s quejamos de una y mil tonterías: que no tenemos todo lo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remos, que esta vida es “insufrible” y muchas cosas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0160" y="1143000"/>
            <a:ext cx="795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He aquí algunas cosas que hoy nos sacan de qui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52760"/>
            <a:ext cx="8763120" cy="39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¡Maldición!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 acabó el rollo de papel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 me quemó el pan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n la tostad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 cortaron el teléfon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encuentro mis anteojos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prietan estos zap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s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arranca la batería del au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no hay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cionamien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me robaron la anten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stá muy lento el tráfic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l vuelo viene retrasad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que lluvia tan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ino-portuna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o s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e quita est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aldit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grip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fue la luz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hay mucho ruido aquí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 callen ese perro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mi reloj se adelant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está muy caro el pasaje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le acabaron las pilas a este aparato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le cayó el sistema a l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omputador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e descompuso la televisión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se m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sinfló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una llant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o funciona este horno de micro ondas; ¡uuf! me estoy muriendo de calor;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ay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masiad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gente formada en esta ventanilla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¡y mil cosas más!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¿N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1560" y="5486400"/>
            <a:ext cx="733428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¡Pero si eso no tiene mayor importanc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Y aquí transcribo las sabias palabras de mi pad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quien las decía medio en broma y medio en ser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ffff"/>
                </a:solidFill>
                <a:latin typeface="Verdana"/>
              </a:rPr>
              <a:t>“</a:t>
            </a:r>
            <a:r>
              <a:rPr b="1" i="1" lang="es-ES" sz="1800" spc="-1" strike="noStrike">
                <a:solidFill>
                  <a:srgbClr val="00ffff"/>
                </a:solidFill>
                <a:latin typeface="Verdana"/>
              </a:rPr>
              <a:t>Como quiera que sea, estamos mejor que si estuviéramos peo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8686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Ah, pero nadie pone atención (o por lo menos no comenta) tantas cosas agradables que están a nuestro alred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si tan sólo les brindáramos una poca de a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0640" y="3429000"/>
            <a:ext cx="5112360" cy="520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Por qué no podemos ser así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¡Que bonito día! Que agradable brisa está soplando; qué preci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sas nubes; qué bonito está cantando ese pájaro; que bello paisa-je; que bien huelen esas flores; mmm! qué sabroso platillo; que música tan hermosa están tocando; que bonita sonrisa tiene esa niña; que bien te queda ese color. Y en fin: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¡que bella es la vid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repúsculo%20vertical%20965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72260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7633800" y="4038480"/>
            <a:ext cx="10753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00"/>
                </a:solidFill>
                <a:latin typeface="Verdana"/>
              </a:rPr>
              <a:t>¡Qué be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00"/>
                </a:solidFill>
                <a:latin typeface="Verdana"/>
              </a:rPr>
              <a:t>atardece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que meditar que en realidad tenemos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, facilidades  y comodidades hoy en día que las que tuvieron nuestros antepasados, y habría que darle gracias a Dios por 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que reconocerlo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105520"/>
            <a:ext cx="87631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FLEXION FINAL: Nuestro paso por este mundo es muy corto y no deberíamos perder el tiempo en quejar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ni en criticar la vida. Ella hace lo que pued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y lo que nosotros le permitimos que haga.  Medíten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8954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Todos deberíamos hacernos esta pregunta: </a:t>
            </a: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“¿Merezco más de lo que tengo, o tengo más de lo que merezco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9760" y="6553080"/>
            <a:ext cx="315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Verdana"/>
              </a:rPr>
              <a:t>faramburo@aramburosuit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809880"/>
            <a:ext cx="2359080" cy="1191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Elephant"/>
              </a:rPr>
              <a:t>F i n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Jesucristo%202%20crop" descr=""/>
          <p:cNvPicPr/>
          <p:nvPr/>
        </p:nvPicPr>
        <p:blipFill>
          <a:blip r:embed="rId2"/>
          <a:stretch/>
        </p:blipFill>
        <p:spPr>
          <a:xfrm>
            <a:off x="7772400" y="1523880"/>
            <a:ext cx="969840" cy="1219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2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imismo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ipócrates y Galeno, los padres de la Medicina, ni siquie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oñaron con las vacunas, los antibióticos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hospitales, las transfu-siones de sangre, la anestesia, los marcapasos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Rayos-X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i los asombrosos avances médicos modernos. Es más: nunc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aginar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que existieran los gérmenes ni los virus. Y si hubieran conocido a Luis Pasteur,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o hubieran considerado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na especie de semidió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46880"/>
            <a:ext cx="55627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os faraones de Egipto no conocieron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 grúa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, el acero, el concreto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i contar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con herramienta pesad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nstruí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irámide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.. pero vean lo que lograr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rámide%2009" descr=""/>
          <p:cNvPicPr/>
          <p:nvPr/>
        </p:nvPicPr>
        <p:blipFill>
          <a:blip r:embed="rId2"/>
          <a:stretch/>
        </p:blipFill>
        <p:spPr>
          <a:xfrm>
            <a:off x="7010280" y="5334120"/>
            <a:ext cx="1905120" cy="128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Faraón%20108" descr=""/>
          <p:cNvPicPr/>
          <p:nvPr/>
        </p:nvPicPr>
        <p:blipFill>
          <a:blip r:embed="rId3"/>
          <a:stretch/>
        </p:blipFill>
        <p:spPr>
          <a:xfrm>
            <a:off x="7010280" y="2895480"/>
            <a:ext cx="183204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52280"/>
            <a:ext cx="8458200" cy="1069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¡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nada más imaginen l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que hubieran logrado Tales de Mileto, Sócrates,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latón y Aristóteles si hubier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ado con una grabado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88620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También imaginemos a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irgilio con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Églog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y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Bucólicas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oracio con sus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átir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334120"/>
            <a:ext cx="6858000" cy="106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h, y la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nmortale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T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RAGEDIA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e Sófocles, Esquilo, Eurípides y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ristófanes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todos ellos capturados en discos compactos.          </a:t>
            </a:r>
            <a:r>
              <a:rPr b="1" i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¡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Q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ué maravilla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abadora%2038" descr=""/>
          <p:cNvPicPr/>
          <p:nvPr/>
        </p:nvPicPr>
        <p:blipFill>
          <a:blip r:embed="rId2"/>
          <a:stretch/>
        </p:blipFill>
        <p:spPr>
          <a:xfrm>
            <a:off x="8153280" y="990720"/>
            <a:ext cx="673200" cy="91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Compact%20Disc%20" descr=""/>
          <p:cNvPicPr/>
          <p:nvPr/>
        </p:nvPicPr>
        <p:blipFill>
          <a:blip r:embed="rId3"/>
          <a:stretch/>
        </p:blipFill>
        <p:spPr>
          <a:xfrm>
            <a:off x="7086600" y="56386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4800" y="0"/>
            <a:ext cx="5029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ulio César y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Alejandro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Magno jamás conocieron los cañones ni la pólvora, así como tampoco disfrutaron de una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buena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izza,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de una película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o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de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la televisión. Y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qué decir lo que hubiera sucedido si en tiempos de Nerón se hubieran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opularizado los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equipos de futbol para competir en el Colise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tra hubiera sido la historia si los cuatro evange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San Lucas, San Juan, San Mateo y San Marcos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ubieran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nid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nd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mputadora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029200"/>
            <a:ext cx="8382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s textos y fotos del momento podrían haberse enviado directamente y en el instante mismo de estar ocurriendo los hechos a todos los rincones de la tierra  </a:t>
            </a:r>
            <a:r>
              <a:rPr b="1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 internet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mputer%20image%20025" descr=""/>
          <p:cNvPicPr/>
          <p:nvPr/>
        </p:nvPicPr>
        <p:blipFill>
          <a:blip r:embed="rId2"/>
          <a:stretch/>
        </p:blipFill>
        <p:spPr>
          <a:xfrm>
            <a:off x="6934320" y="2286000"/>
            <a:ext cx="1222200" cy="112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6840" y="2717640"/>
            <a:ext cx="4476600" cy="642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¡Nomás imagínen</a:t>
            </a:r>
            <a:r>
              <a:rPr b="1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lo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!</a:t>
            </a:r>
            <a:r>
              <a:rPr b="1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029200"/>
            <a:ext cx="8499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 importante darnos cuenta que lo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kingos viajar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in brújulas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y que Cristóbal Colón no pudo lle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limentos enlatados, ni siquiera una simple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 rústica hielera para transportar u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ervecitas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bien fría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ara el vi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"/>
            <a:ext cx="7772400" cy="198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ambién  recordemos qu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i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ervantes, Dante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kespeare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Dostoyevsky, Tolstoi ni Oscar Wilde jamás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uv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na máquina de escrib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33920" y="5029200"/>
            <a:ext cx="5105160" cy="1585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A pesar de su poderío y de sus lujosos palac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os re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es de Francia n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unca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 supieron lo que era un cuarto de baño, ni siquiera un sanitario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 (ni papel)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.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os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jardines de Versalles eran unos ar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tísticos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labe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rintos para que las damas de la cor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te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pudieran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ocultarse y levantarse sus </a:t>
            </a:r>
            <a:r>
              <a:rPr b="1" lang="es-E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ampulo-sas faldas para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hacer sus necesidad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60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Simón Bolívar, San Martín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, Napoleón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y Pancho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illa jamás tuvieron en sus manos un rifle AK-47, ni lo imaginaron siquiera.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George Wáshington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y Benjamín Franklin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unca pudieron tomar un taxi </a:t>
            </a:r>
            <a:r>
              <a:rPr b="1" lang="es-E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 manejar una moto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ara llegar con rapidez adonde querían 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i contaron jamás con una pastilla para el dolor de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241960"/>
            <a:ext cx="8839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eethoven, quien pasó los últimos años de su vida totalmente sor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 pudo usar audífonos para escuchar sus propias compos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un equipo de alta fidelidad. Y Mozart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onizzeti,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erdi y Pucc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 pudieron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scuchar nunc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s óper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grabada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un dis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acto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para disfrutarlas tranquilamente en sus casa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ozart%2006" descr=""/>
          <p:cNvPicPr/>
          <p:nvPr/>
        </p:nvPicPr>
        <p:blipFill>
          <a:blip r:embed="rId2"/>
          <a:stretch/>
        </p:blipFill>
        <p:spPr>
          <a:xfrm>
            <a:off x="7238880" y="3581280"/>
            <a:ext cx="1492200" cy="1600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543800" y="4876920"/>
            <a:ext cx="7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oz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eethoven%20image012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155736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920" y="3124080"/>
            <a:ext cx="1000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Beeth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otocicleta" descr=""/>
          <p:cNvPicPr/>
          <p:nvPr/>
        </p:nvPicPr>
        <p:blipFill>
          <a:blip r:embed="rId4"/>
          <a:stretch/>
        </p:blipFill>
        <p:spPr>
          <a:xfrm>
            <a:off x="5486400" y="2438280"/>
            <a:ext cx="118908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4572000"/>
            <a:ext cx="6705720" cy="16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simismo l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s seis esposas de Enrique V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e Inglaterra quizá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ubieran 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alvado l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orrido con mejor suerte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si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hubiera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existido en esa épo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l divorcio.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"/>
            <a:ext cx="4191120" cy="1554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mplemente imaginemos cuán diferen-te hubiera sido la Historia si Herodoto, Plinio el Viejo (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Vesuvio),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Marco Polo y Bernal Díaz del Castillo hubieran tenido sendas cámaras filmadoras para reseñar sus vívidas descripciones histór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Francisco Aramburo</cp:lastModifiedBy>
  <dcterms:modified xsi:type="dcterms:W3CDTF">2008-11-09T23:30:04Z</dcterms:modified>
  <cp:revision>78</cp:revision>
  <dc:subject/>
  <dc:title>Presentación de PowerPoint</dc:title>
</cp:coreProperties>
</file>